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D9A-F9B3-4B5E-B242-E3B6F1B7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878-2E44-4414-BA77-23F27B70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0AF-8AB6-447A-A8E7-6C6282D5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F4B-FBF6-4C88-BEA0-3AEA547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D96-790F-4C70-8610-DDAE212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04E-76C5-4384-ADB3-B0F410A3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2F0-B22B-4F7C-97AC-8FBB9D68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4EB-6A04-4B81-BD66-835977E5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45C-B40E-4A23-9736-3D9A894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28B-A161-497D-B942-10D60E3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786-8D1C-4BA3-9235-DD44029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088-D617-49D3-9BD3-9C90AEF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9F7F-0952-4146-B315-48CC72570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3440" y="333360"/>
            <a:ext cx="8280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механика</a:t>
            </a:r>
            <a:br>
              <a:rPr sz="44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</a:t>
            </a:r>
            <a:r>
              <a:rPr b="1" lang="en-US" sz="4400" spc="-1" strike="noStrike">
                <a:solidFill>
                  <a:srgbClr val="333399"/>
                </a:solidFill>
                <a:latin typeface="New_Zelek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3440" y="2674800"/>
            <a:ext cx="8280360" cy="318024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3800" spc="-1" strike="noStrike">
                <a:solidFill>
                  <a:srgbClr val="a50021"/>
                </a:solidFill>
                <a:latin typeface="Book Antiqua"/>
              </a:rPr>
              <a:t>ПОНЯТИЕ  О  НЕЛИНЕЙ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Book Antiqua"/>
              </a:rPr>
              <a:t>ДЕФОРМИРУЕМЫХ СИСТЕМА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Book Antiqua"/>
              </a:rPr>
              <a:t>И  МЕТОДАХ  ИХ  РАСЧЁТ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0920" y="830160"/>
            <a:ext cx="8642160" cy="3682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ное исследование процесса упругопластического де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0920" y="1254240"/>
            <a:ext cx="86421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ы с однородным линейным напряжённым  состоянием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равномерное растяжение/сжатие, без учёта потери устойчивости при сжат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20840" y="1773360"/>
            <a:ext cx="3816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чески определим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9760" y="2127240"/>
            <a:ext cx="7128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1040" y="2127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4000" y="2762280"/>
            <a:ext cx="712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90600" y="276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88960" y="2873520"/>
            <a:ext cx="1835280" cy="1440"/>
          </a:xfrm>
          <a:custGeom>
            <a:avLst/>
            <a:gdLst/>
            <a:ahLst/>
            <a:rect l="l" t="t" r="r" b="b"/>
            <a:pathLst>
              <a:path w="1156" h="1">
                <a:moveTo>
                  <a:pt x="0" y="0"/>
                </a:moveTo>
                <a:lnTo>
                  <a:pt x="115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23880" y="287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95440" y="2271600"/>
            <a:ext cx="911160" cy="54000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640" y="3070080"/>
            <a:ext cx="216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5640" y="3070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88960" y="28544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55480" y="3027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9640" y="248436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345280" y="2505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7643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973840" y="2590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168960" y="262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399360" y="265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594480" y="2676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791400" y="270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86520" y="272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54800" y="2536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88960" y="278460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17400" y="2282760"/>
            <a:ext cx="881280" cy="52236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07520" y="2874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5480" y="283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53880" y="2835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52600" y="223524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492200" y="2781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422440" y="2730600"/>
            <a:ext cx="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88960" y="312408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421000" y="291780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85720" y="326376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9360" y="322740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1501920" y="323208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30272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538280" y="312408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387160" y="32274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828800" y="30272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11400" y="2666880"/>
            <a:ext cx="46080" cy="179640"/>
          </a:xfrm>
          <a:custGeom>
            <a:avLst/>
            <a:gdLst/>
            <a:ahLst/>
            <a:rect l="l" t="t" r="r" b="b"/>
            <a:pathLst>
              <a:path w="29" h="124">
                <a:moveTo>
                  <a:pt x="29" y="0"/>
                </a:moveTo>
                <a:cubicBezTo>
                  <a:pt x="25" y="9"/>
                  <a:pt x="10" y="35"/>
                  <a:pt x="5" y="56"/>
                </a:cubicBezTo>
                <a:cubicBezTo>
                  <a:pt x="0" y="77"/>
                  <a:pt x="2" y="110"/>
                  <a:pt x="1" y="12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47880" y="257184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1806000">
            <a:off x="798120" y="2266560"/>
            <a:ext cx="492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87280" y="2757600"/>
            <a:ext cx="63720" cy="161640"/>
          </a:xfrm>
          <a:custGeom>
            <a:avLst/>
            <a:gdLst/>
            <a:ahLst/>
            <a:rect l="l" t="t" r="r" b="b"/>
            <a:pathLst>
              <a:path w="40" h="112">
                <a:moveTo>
                  <a:pt x="40" y="0"/>
                </a:moveTo>
                <a:cubicBezTo>
                  <a:pt x="35" y="9"/>
                  <a:pt x="19" y="34"/>
                  <a:pt x="12" y="52"/>
                </a:cubicBezTo>
                <a:cubicBezTo>
                  <a:pt x="5" y="70"/>
                  <a:pt x="2" y="100"/>
                  <a:pt x="0" y="11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33480" y="263700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30360" y="2878200"/>
            <a:ext cx="1792080" cy="23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11280" y="2292480"/>
            <a:ext cx="888840" cy="63324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495440" y="2911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484360" y="2865600"/>
            <a:ext cx="71640" cy="252360"/>
          </a:xfrm>
          <a:custGeom>
            <a:avLst/>
            <a:gdLst>
              <a:gd name="textAreaLeft" fmla="*/ 0 w 71640"/>
              <a:gd name="textAreaRight" fmla="*/ 25920 w 71640"/>
              <a:gd name="textAreaTop" fmla="*/ 6480 h 252360"/>
              <a:gd name="textAreaBottom" fmla="*/ 24588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1541160" y="2654280"/>
            <a:ext cx="65160" cy="13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1554120" y="2682720"/>
            <a:ext cx="115920" cy="230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450800" y="2597040"/>
            <a:ext cx="142920" cy="828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654200" y="2711520"/>
            <a:ext cx="142920" cy="824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02000" y="286560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1757400">
            <a:off x="1495080" y="2458800"/>
            <a:ext cx="485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835360" y="2108160"/>
            <a:ext cx="1655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. Стат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торона 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33640" y="2298600"/>
            <a:ext cx="1882440" cy="349200"/>
          </a:xfrm>
          <a:custGeom>
            <a:avLst/>
            <a:gdLst/>
            <a:ahLst/>
            <a:rect l="l" t="t" r="r" b="b"/>
            <a:pathLst>
              <a:path w="1186" h="220">
                <a:moveTo>
                  <a:pt x="0" y="220"/>
                </a:moveTo>
                <a:cubicBezTo>
                  <a:pt x="25" y="198"/>
                  <a:pt x="95" y="122"/>
                  <a:pt x="150" y="88"/>
                </a:cubicBezTo>
                <a:cubicBezTo>
                  <a:pt x="205" y="54"/>
                  <a:pt x="262" y="29"/>
                  <a:pt x="330" y="16"/>
                </a:cubicBezTo>
                <a:cubicBezTo>
                  <a:pt x="398" y="3"/>
                  <a:pt x="474" y="0"/>
                  <a:pt x="557" y="7"/>
                </a:cubicBezTo>
                <a:cubicBezTo>
                  <a:pt x="640" y="14"/>
                  <a:pt x="742" y="36"/>
                  <a:pt x="828" y="58"/>
                </a:cubicBezTo>
                <a:cubicBezTo>
                  <a:pt x="914" y="80"/>
                  <a:pt x="1012" y="121"/>
                  <a:pt x="1072" y="140"/>
                </a:cubicBezTo>
                <a:cubicBezTo>
                  <a:pt x="1132" y="159"/>
                  <a:pt x="1163" y="168"/>
                  <a:pt x="1186" y="17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024360" y="2462040"/>
            <a:ext cx="1341360" cy="2858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771640" y="2827440"/>
            <a:ext cx="18003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. Геометр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орона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совм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деформаций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049560" y="3659040"/>
            <a:ext cx="1359000" cy="2858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2120" y="3376440"/>
            <a:ext cx="1584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. Физическая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орона 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427640" y="2152800"/>
            <a:ext cx="153720" cy="1763640"/>
          </a:xfrm>
          <a:custGeom>
            <a:avLst/>
            <a:gdLst>
              <a:gd name="textAreaLeft" fmla="*/ 0 w 153720"/>
              <a:gd name="textAreaRight" fmla="*/ 55440 w 15372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495680" y="2819520"/>
            <a:ext cx="57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30280" y="3909960"/>
            <a:ext cx="1042920" cy="6271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6120" y="441468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09760" y="45115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71520" y="36734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12720" y="43689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27040" y="4172040"/>
            <a:ext cx="973080" cy="360360"/>
          </a:xfrm>
          <a:custGeom>
            <a:avLst/>
            <a:gdLst/>
            <a:ahLst/>
            <a:rect l="l" t="t" r="r" b="b"/>
            <a:pathLst>
              <a:path w="613" h="227">
                <a:moveTo>
                  <a:pt x="0" y="227"/>
                </a:moveTo>
                <a:lnTo>
                  <a:pt x="161" y="0"/>
                </a:lnTo>
                <a:lnTo>
                  <a:pt x="6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04840" y="401328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546120" y="4172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87320" y="4174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63560" y="4152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11200" y="41562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5000" y="451008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7200" y="4589640"/>
            <a:ext cx="1008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800280" y="4552920"/>
            <a:ext cx="52200" cy="12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92200" y="3848040"/>
            <a:ext cx="12747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692360" y="3645000"/>
            <a:ext cx="215640" cy="291960"/>
          </a:xfrm>
          <a:custGeom>
            <a:avLst/>
            <a:gdLst/>
            <a:ahLst/>
            <a:rect l="l" t="t" r="r" b="b"/>
            <a:pathLst>
              <a:path w="136" h="184">
                <a:moveTo>
                  <a:pt x="0" y="0"/>
                </a:moveTo>
                <a:lnTo>
                  <a:pt x="90" y="0"/>
                </a:lnTo>
                <a:lnTo>
                  <a:pt x="90" y="184"/>
                </a:lnTo>
                <a:lnTo>
                  <a:pt x="136" y="1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56000" y="4241880"/>
            <a:ext cx="720720" cy="21600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1400" y="3809880"/>
            <a:ext cx="157824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упруг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стад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35280" y="3921120"/>
            <a:ext cx="74520" cy="719280"/>
          </a:xfrm>
          <a:custGeom>
            <a:avLst/>
            <a:gdLst/>
            <a:ahLst/>
            <a:rect l="l" t="t" r="r" b="b"/>
            <a:pathLst>
              <a:path w="47" h="415">
                <a:moveTo>
                  <a:pt x="0" y="0"/>
                </a:moveTo>
                <a:lnTo>
                  <a:pt x="1" y="415"/>
                </a:lnTo>
                <a:lnTo>
                  <a:pt x="47" y="4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782720" y="4888080"/>
            <a:ext cx="1224000" cy="2156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730520" y="4508640"/>
            <a:ext cx="1707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екучест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3463920" y="4125960"/>
                <a:ext cx="1092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>
            <a:off x="2895480" y="4448160"/>
            <a:ext cx="514440" cy="114480"/>
          </a:xfrm>
          <a:custGeom>
            <a:avLst/>
            <a:gdLst/>
            <a:ahLst/>
            <a:rect l="l" t="t" r="r" b="b"/>
            <a:pathLst>
              <a:path w="324" h="72">
                <a:moveTo>
                  <a:pt x="0" y="0"/>
                </a:moveTo>
                <a:cubicBezTo>
                  <a:pt x="14" y="9"/>
                  <a:pt x="55" y="42"/>
                  <a:pt x="84" y="54"/>
                </a:cubicBezTo>
                <a:cubicBezTo>
                  <a:pt x="113" y="66"/>
                  <a:pt x="143" y="72"/>
                  <a:pt x="174" y="72"/>
                </a:cubicBezTo>
                <a:cubicBezTo>
                  <a:pt x="205" y="72"/>
                  <a:pt x="245" y="66"/>
                  <a:pt x="270" y="54"/>
                </a:cubicBezTo>
                <a:cubicBezTo>
                  <a:pt x="295" y="42"/>
                  <a:pt x="313" y="11"/>
                  <a:pt x="324" y="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789280" y="2638440"/>
            <a:ext cx="1353960" cy="1571760"/>
          </a:xfrm>
          <a:custGeom>
            <a:avLst/>
            <a:gdLst/>
            <a:ahLst/>
            <a:rect l="l" t="t" r="r" b="b"/>
            <a:pathLst>
              <a:path w="853" h="990">
                <a:moveTo>
                  <a:pt x="151" y="0"/>
                </a:moveTo>
                <a:cubicBezTo>
                  <a:pt x="135" y="8"/>
                  <a:pt x="79" y="17"/>
                  <a:pt x="55" y="48"/>
                </a:cubicBezTo>
                <a:cubicBezTo>
                  <a:pt x="31" y="79"/>
                  <a:pt x="14" y="122"/>
                  <a:pt x="7" y="186"/>
                </a:cubicBezTo>
                <a:cubicBezTo>
                  <a:pt x="0" y="250"/>
                  <a:pt x="7" y="359"/>
                  <a:pt x="13" y="432"/>
                </a:cubicBezTo>
                <a:cubicBezTo>
                  <a:pt x="19" y="505"/>
                  <a:pt x="28" y="562"/>
                  <a:pt x="43" y="624"/>
                </a:cubicBezTo>
                <a:cubicBezTo>
                  <a:pt x="58" y="686"/>
                  <a:pt x="78" y="763"/>
                  <a:pt x="103" y="804"/>
                </a:cubicBezTo>
                <a:cubicBezTo>
                  <a:pt x="128" y="845"/>
                  <a:pt x="139" y="855"/>
                  <a:pt x="193" y="870"/>
                </a:cubicBezTo>
                <a:cubicBezTo>
                  <a:pt x="247" y="885"/>
                  <a:pt x="351" y="885"/>
                  <a:pt x="427" y="894"/>
                </a:cubicBezTo>
                <a:cubicBezTo>
                  <a:pt x="503" y="903"/>
                  <a:pt x="578" y="908"/>
                  <a:pt x="649" y="924"/>
                </a:cubicBezTo>
                <a:cubicBezTo>
                  <a:pt x="720" y="940"/>
                  <a:pt x="811" y="976"/>
                  <a:pt x="853" y="99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3174840" y="5084640"/>
                <a:ext cx="151308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εa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α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5743440" y="4149720"/>
                <a:ext cx="15843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6" name=""/>
          <p:cNvSpPr/>
          <p:nvPr/>
        </p:nvSpPr>
        <p:spPr>
          <a:xfrm>
            <a:off x="3398760" y="4476600"/>
            <a:ext cx="649440" cy="638280"/>
          </a:xfrm>
          <a:custGeom>
            <a:avLst/>
            <a:gdLst/>
            <a:ahLst/>
            <a:rect l="l" t="t" r="r" b="b"/>
            <a:pathLst>
              <a:path w="409" h="402">
                <a:moveTo>
                  <a:pt x="43" y="0"/>
                </a:moveTo>
                <a:cubicBezTo>
                  <a:pt x="37" y="14"/>
                  <a:pt x="12" y="52"/>
                  <a:pt x="7" y="84"/>
                </a:cubicBezTo>
                <a:cubicBezTo>
                  <a:pt x="2" y="116"/>
                  <a:pt x="0" y="159"/>
                  <a:pt x="13" y="192"/>
                </a:cubicBezTo>
                <a:cubicBezTo>
                  <a:pt x="26" y="225"/>
                  <a:pt x="56" y="260"/>
                  <a:pt x="85" y="282"/>
                </a:cubicBezTo>
                <a:cubicBezTo>
                  <a:pt x="114" y="304"/>
                  <a:pt x="146" y="315"/>
                  <a:pt x="187" y="324"/>
                </a:cubicBezTo>
                <a:cubicBezTo>
                  <a:pt x="228" y="333"/>
                  <a:pt x="294" y="323"/>
                  <a:pt x="331" y="336"/>
                </a:cubicBezTo>
                <a:cubicBezTo>
                  <a:pt x="368" y="349"/>
                  <a:pt x="393" y="388"/>
                  <a:pt x="409" y="402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133880" y="3952800"/>
            <a:ext cx="587520" cy="1152720"/>
          </a:xfrm>
          <a:custGeom>
            <a:avLst/>
            <a:gdLst/>
            <a:ahLst/>
            <a:rect l="l" t="t" r="r" b="b"/>
            <a:pathLst>
              <a:path w="370" h="726">
                <a:moveTo>
                  <a:pt x="0" y="0"/>
                </a:moveTo>
                <a:cubicBezTo>
                  <a:pt x="32" y="18"/>
                  <a:pt x="139" y="68"/>
                  <a:pt x="192" y="108"/>
                </a:cubicBezTo>
                <a:cubicBezTo>
                  <a:pt x="245" y="148"/>
                  <a:pt x="289" y="196"/>
                  <a:pt x="318" y="240"/>
                </a:cubicBezTo>
                <a:cubicBezTo>
                  <a:pt x="347" y="284"/>
                  <a:pt x="362" y="323"/>
                  <a:pt x="366" y="372"/>
                </a:cubicBezTo>
                <a:cubicBezTo>
                  <a:pt x="370" y="421"/>
                  <a:pt x="361" y="489"/>
                  <a:pt x="342" y="534"/>
                </a:cubicBezTo>
                <a:cubicBezTo>
                  <a:pt x="323" y="579"/>
                  <a:pt x="294" y="610"/>
                  <a:pt x="252" y="642"/>
                </a:cubicBezTo>
                <a:cubicBezTo>
                  <a:pt x="210" y="674"/>
                  <a:pt x="124" y="709"/>
                  <a:pt x="90" y="72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76160" y="5468760"/>
            <a:ext cx="24274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8200" y="5114880"/>
            <a:ext cx="1042920" cy="6271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84040" y="561960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17680" y="57164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79440" y="48783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39720" y="55785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34960" y="5376960"/>
            <a:ext cx="973080" cy="360360"/>
          </a:xfrm>
          <a:custGeom>
            <a:avLst/>
            <a:gdLst/>
            <a:ahLst/>
            <a:rect l="l" t="t" r="r" b="b"/>
            <a:pathLst>
              <a:path w="613" h="227">
                <a:moveTo>
                  <a:pt x="0" y="227"/>
                </a:moveTo>
                <a:lnTo>
                  <a:pt x="161" y="0"/>
                </a:lnTo>
                <a:lnTo>
                  <a:pt x="6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12760" y="521820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554040" y="5376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95240" y="5379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71480" y="5357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19120" y="5361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73280" y="57150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98400" y="5068800"/>
            <a:ext cx="8762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36480" y="5722920"/>
            <a:ext cx="406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861080" y="1774800"/>
            <a:ext cx="40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чески неопределим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076720" y="2649600"/>
            <a:ext cx="71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143680" y="26528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364000" y="27558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238720" y="2957400"/>
            <a:ext cx="216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238720" y="2957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42040" y="27417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308560" y="2914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160600" y="27622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08560" y="2725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06960" y="2722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2040" y="308124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174080" y="287496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338800" y="320508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5308200" y="31622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6254280" y="31734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678640" y="29606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91360" y="308124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7140600" y="31687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581880" y="29606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383080" y="2765520"/>
            <a:ext cx="1792440" cy="23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248520" y="2792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237440" y="2752560"/>
            <a:ext cx="71280" cy="252720"/>
          </a:xfrm>
          <a:custGeom>
            <a:avLst/>
            <a:gdLst>
              <a:gd name="textAreaLeft" fmla="*/ 0 w 71280"/>
              <a:gd name="textAreaRight" fmla="*/ 25560 w 71280"/>
              <a:gd name="textAreaTop" fmla="*/ 6480 h 252720"/>
              <a:gd name="textAreaBottom" fmla="*/ 24624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281640" y="2144880"/>
            <a:ext cx="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170840" y="216216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132680" y="28908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168960" y="213372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68960" y="2205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059600" y="213840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059600" y="2209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242040" y="2170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132680" y="2170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372360" y="220500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932360" y="2205000"/>
            <a:ext cx="122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925880" y="2755800"/>
            <a:ext cx="150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997520" y="2205000"/>
            <a:ext cx="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978440" y="217980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970520" y="273060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794120" y="23814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73800" y="2708280"/>
            <a:ext cx="7812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313320" y="2825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488280" y="2643120"/>
            <a:ext cx="0" cy="179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456240" y="2727360"/>
            <a:ext cx="5724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56240" y="2800440"/>
            <a:ext cx="5724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326280" y="240840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11760" y="23256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094360" y="2511360"/>
            <a:ext cx="3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7302600" y="2003400"/>
            <a:ext cx="158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1. ССЗ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361280" y="2370240"/>
            <a:ext cx="1440000" cy="2876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84720" y="2398680"/>
            <a:ext cx="17964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972480" y="2484360"/>
            <a:ext cx="179280" cy="1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037200" y="2382840"/>
            <a:ext cx="28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927840" y="2473200"/>
            <a:ext cx="28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507000" y="2178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288120" y="2336400"/>
            <a:ext cx="28728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883560" y="2336760"/>
            <a:ext cx="287280" cy="119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970760" y="3043080"/>
            <a:ext cx="865440" cy="2890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248600" y="2978280"/>
            <a:ext cx="172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. ГСЗ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864560" y="3429000"/>
            <a:ext cx="1042920" cy="36036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8244000" y="3317760"/>
            <a:ext cx="288720" cy="138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16360" y="18255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716360" y="33228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121360" y="3251160"/>
            <a:ext cx="20178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а) в упругой ста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rot="4894200">
            <a:off x="7387560" y="3265200"/>
            <a:ext cx="108000" cy="863640"/>
          </a:xfrm>
          <a:prstGeom prst="upDownArrow">
            <a:avLst>
              <a:gd name="adj1" fmla="val 51148"/>
              <a:gd name="adj2" fmla="val 949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578640" y="3963960"/>
            <a:ext cx="288720" cy="108000"/>
          </a:xfrm>
          <a:prstGeom prst="rightArrow">
            <a:avLst>
              <a:gd name="adj1" fmla="val 50000"/>
              <a:gd name="adj2" fmla="val 66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340760" y="3962520"/>
            <a:ext cx="288720" cy="108000"/>
          </a:xfrm>
          <a:prstGeom prst="rightArrow">
            <a:avLst>
              <a:gd name="adj1" fmla="val 50000"/>
              <a:gd name="adj2" fmla="val 66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810480" y="3817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СС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7621560" y="3790800"/>
                <a:ext cx="9018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q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1" name=""/>
          <p:cNvSpPr/>
          <p:nvPr/>
        </p:nvSpPr>
        <p:spPr>
          <a:xfrm>
            <a:off x="4927680" y="42400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з ФСЗ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7346880" y="4343400"/>
            <a:ext cx="289080" cy="108000"/>
          </a:xfrm>
          <a:prstGeom prst="rightArrow">
            <a:avLst>
              <a:gd name="adj1" fmla="val 50000"/>
              <a:gd name="adj2" fmla="val 669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7694640" y="4165560"/>
                <a:ext cx="909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226120" y="4927680"/>
                <a:ext cx="1052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5" name=""/>
          <p:cNvSpPr/>
          <p:nvPr/>
        </p:nvSpPr>
        <p:spPr>
          <a:xfrm>
            <a:off x="6199200" y="4997520"/>
            <a:ext cx="25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мещени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700520" y="5351400"/>
            <a:ext cx="42483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б) в упругопластической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стад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 –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 –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/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913280" y="4587840"/>
            <a:ext cx="38880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грузка, соответствующая пределу упругой работы системы (пр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716360" y="6137280"/>
            <a:ext cx="424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) в предельном равновес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8" dur="indefinite" restart="never" nodeType="tmRoot">
          <p:childTnLst>
            <p:seq>
              <p:cTn id="4009" dur="indefinite" nodeType="mainSeq">
                <p:childTnLst>
                  <p:par>
                    <p:cTn id="4010" fill="hold">
                      <p:stCondLst>
                        <p:cond delay="0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5" fill="hold">
                      <p:stCondLst>
                        <p:cond delay="indefinite"/>
                      </p:stCondLst>
                      <p:childTnLst>
                        <p:par>
                          <p:cTn id="4016" fill="hold">
                            <p:stCondLst>
                              <p:cond delay="0"/>
                            </p:stCondLst>
                            <p:childTnLst>
                              <p:par>
                                <p:cTn id="40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9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0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1" dur="8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2" fill="hold">
                      <p:stCondLst>
                        <p:cond delay="indefinite"/>
                      </p:stCondLst>
                      <p:childTnLst>
                        <p:par>
                          <p:cTn id="4023" fill="hold">
                            <p:stCondLst>
                              <p:cond delay="0"/>
                            </p:stCondLst>
                            <p:childTnLst>
                              <p:par>
                                <p:cTn id="40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6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7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5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6" fill="hold">
                      <p:stCondLst>
                        <p:cond delay="indefinite"/>
                      </p:stCondLst>
                      <p:childTnLst>
                        <p:par>
                          <p:cTn id="4037" fill="hold">
                            <p:stCondLst>
                              <p:cond delay="0"/>
                            </p:stCondLst>
                            <p:childTnLst>
                              <p:par>
                                <p:cTn id="40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0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3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6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0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3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9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8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1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4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7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0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3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6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9" fill="hold">
                      <p:stCondLst>
                        <p:cond delay="indefinite"/>
                      </p:stCondLst>
                      <p:childTnLst>
                        <p:par>
                          <p:cTn id="4120" fill="hold">
                            <p:stCondLst>
                              <p:cond delay="0"/>
                            </p:stCondLst>
                            <p:childTnLst>
                              <p:par>
                                <p:cTn id="4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2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5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8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1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8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3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8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51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4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3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6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9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3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7" dur="8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8" dur="8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9" dur="80"/>
                                        <p:tgtEl>
                                          <p:spTgt spid="9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0" fill="hold">
                            <p:stCondLst>
                              <p:cond delay="1120"/>
                            </p:stCondLst>
                            <p:childTnLst>
                              <p:par>
                                <p:cTn id="4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5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5" dur="8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6" dur="8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7" dur="8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2680"/>
                            </p:stCondLst>
                            <p:childTnLst>
                              <p:par>
                                <p:cTn id="4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fill="hold">
                      <p:stCondLst>
                        <p:cond delay="indefinite"/>
                      </p:stCondLst>
                      <p:childTnLst>
                        <p:par>
                          <p:cTn id="4225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8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9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0" dur="8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1" dur="8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2" dur="8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3" fill="hold">
                            <p:stCondLst>
                              <p:cond delay="1080"/>
                            </p:stCondLst>
                            <p:childTnLst>
                              <p:par>
                                <p:cTn id="4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2080"/>
                            </p:stCondLst>
                            <p:childTnLst>
                              <p:par>
                                <p:cTn id="4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7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8" fill="hold">
                            <p:stCondLst>
                              <p:cond delay="3080"/>
                            </p:stCondLst>
                            <p:childTnLst>
                              <p:par>
                                <p:cTn id="4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1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4080"/>
                            </p:stCondLst>
                            <p:childTnLst>
                              <p:par>
                                <p:cTn id="4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1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2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4" fill="hold">
                      <p:stCondLst>
                        <p:cond delay="indefinite"/>
                      </p:stCondLst>
                      <p:childTnLst>
                        <p:par>
                          <p:cTn id="4295" fill="hold">
                            <p:stCondLst>
                              <p:cond delay="0"/>
                            </p:stCondLst>
                            <p:childTnLst>
                              <p:par>
                                <p:cTn id="4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4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5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6" dur="8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7" fill="hold">
                      <p:stCondLst>
                        <p:cond delay="indefinite"/>
                      </p:stCondLst>
                      <p:childTnLst>
                        <p:par>
                          <p:cTn id="4308" fill="hold">
                            <p:stCondLst>
                              <p:cond delay="0"/>
                            </p:stCondLst>
                            <p:childTnLst>
                              <p:par>
                                <p:cTn id="4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7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8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9" dur="8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0" fill="hold">
                      <p:stCondLst>
                        <p:cond delay="indefinite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0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6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7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8" dur="8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6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2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8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5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9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0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4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6" fill="hold">
                      <p:stCondLst>
                        <p:cond delay="indefinite"/>
                      </p:stCondLst>
                      <p:childTnLst>
                        <p:par>
                          <p:cTn id="4417" fill="hold">
                            <p:stCondLst>
                              <p:cond delay="0"/>
                            </p:stCondLst>
                            <p:childTnLst>
                              <p:par>
                                <p:cTn id="44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0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3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6" dur="2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29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2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5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8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1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4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7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3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6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9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2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5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8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1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4" dur="2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7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0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3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6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89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2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5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8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1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4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0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3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6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9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2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5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8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1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4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7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0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3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6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9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2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5" dur="2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8" dur="2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1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4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7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0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3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6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2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8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1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4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0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8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9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0" dur="8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480"/>
                            </p:stCondLst>
                            <p:childTnLst>
                              <p:par>
                                <p:cTn id="4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6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1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8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3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5" fill="hold">
                      <p:stCondLst>
                        <p:cond delay="indefinite"/>
                      </p:stCondLst>
                      <p:childTnLst>
                        <p:par>
                          <p:cTn id="4636" fill="hold">
                            <p:stCondLst>
                              <p:cond delay="0"/>
                            </p:stCondLst>
                            <p:childTnLst>
                              <p:par>
                                <p:cTn id="4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0" fill="hold">
                      <p:stCondLst>
                        <p:cond delay="indefinite"/>
                      </p:stCondLst>
                      <p:childTnLst>
                        <p:par>
                          <p:cTn id="4641" fill="hold">
                            <p:stCondLst>
                              <p:cond delay="0"/>
                            </p:stCondLst>
                            <p:childTnLst>
                              <p:par>
                                <p:cTn id="46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4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5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6" dur="80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7" fill="hold">
                            <p:stCondLst>
                              <p:cond delay="2400"/>
                            </p:stCondLst>
                            <p:childTnLst>
                              <p:par>
                                <p:cTn id="4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0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3" fill="hold">
                            <p:stCondLst>
                              <p:cond delay="3400"/>
                            </p:stCondLst>
                            <p:childTnLst>
                              <p:par>
                                <p:cTn id="46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6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9" fill="hold">
                            <p:stCondLst>
                              <p:cond delay="4400"/>
                            </p:stCondLst>
                            <p:childTnLst>
                              <p:par>
                                <p:cTn id="46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2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3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5" fill="hold">
                            <p:stCondLst>
                              <p:cond delay="5400"/>
                            </p:stCondLst>
                            <p:childTnLst>
                              <p:par>
                                <p:cTn id="46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5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6" fill="hold">
                      <p:stCondLst>
                        <p:cond delay="indefinite"/>
                      </p:stCondLst>
                      <p:childTnLst>
                        <p:par>
                          <p:cTn id="4677" fill="hold">
                            <p:stCondLst>
                              <p:cond delay="0"/>
                            </p:stCondLst>
                            <p:childTnLst>
                              <p:par>
                                <p:cTn id="4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0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1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6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0" fill="hold">
                      <p:stCondLst>
                        <p:cond delay="indefinite"/>
                      </p:stCondLst>
                      <p:childTnLst>
                        <p:par>
                          <p:cTn id="4701" fill="hold">
                            <p:stCondLst>
                              <p:cond delay="0"/>
                            </p:stCondLst>
                            <p:childTnLst>
                              <p:par>
                                <p:cTn id="4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4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5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6" dur="80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6" dur="8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7" dur="8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8" dur="80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9" fill="hold">
                      <p:stCondLst>
                        <p:cond delay="indefinite"/>
                      </p:stCondLst>
                      <p:childTnLst>
                        <p:par>
                          <p:cTn id="4720" fill="hold">
                            <p:stCondLst>
                              <p:cond delay="0"/>
                            </p:stCondLst>
                            <p:childTnLst>
                              <p:par>
                                <p:cTn id="4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3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4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5" dur="80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6" fill="hold">
                      <p:stCondLst>
                        <p:cond delay="indefinite"/>
                      </p:stCondLst>
                      <p:childTnLst>
                        <p:par>
                          <p:cTn id="4727" fill="hold">
                            <p:stCondLst>
                              <p:cond delay="0"/>
                            </p:stCondLst>
                            <p:childTnLst>
                              <p:par>
                                <p:cTn id="4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0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1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2" dur="80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50920" y="830160"/>
            <a:ext cx="8642160" cy="3682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ное исследование процесса упругопластического де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0920" y="1254240"/>
            <a:ext cx="86421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ы с однородным линейным напряжённым  состоянием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равномерное растяжение/сжатие, без учёта потери устойчивости при сжат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0840" y="1773360"/>
            <a:ext cx="3816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татически определим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9760" y="2127240"/>
            <a:ext cx="7128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81040" y="2127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24000" y="2762280"/>
            <a:ext cx="712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0600" y="276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8960" y="2873520"/>
            <a:ext cx="1835280" cy="1440"/>
          </a:xfrm>
          <a:custGeom>
            <a:avLst/>
            <a:gdLst/>
            <a:ahLst/>
            <a:rect l="l" t="t" r="r" b="b"/>
            <a:pathLst>
              <a:path w="1156" h="1">
                <a:moveTo>
                  <a:pt x="0" y="0"/>
                </a:moveTo>
                <a:lnTo>
                  <a:pt x="115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23880" y="287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95440" y="2271600"/>
            <a:ext cx="911160" cy="54000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85640" y="3070080"/>
            <a:ext cx="216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5640" y="3070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88960" y="28544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5480" y="3027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249640" y="248436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45280" y="2505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643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973840" y="2590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168960" y="262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399360" y="265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594480" y="2676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791400" y="2701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986520" y="272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554800" y="25369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88960" y="278460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17400" y="2282760"/>
            <a:ext cx="881280" cy="52236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407520" y="2874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55480" y="283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53880" y="2835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52600" y="223524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492200" y="2781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422440" y="2730600"/>
            <a:ext cx="0" cy="37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8960" y="312408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21000" y="291780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85720" y="326376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549360" y="322740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1501920" y="323208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925560" y="30272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538280" y="312408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2387160" y="32274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828800" y="30272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11400" y="2666880"/>
            <a:ext cx="46080" cy="179640"/>
          </a:xfrm>
          <a:custGeom>
            <a:avLst/>
            <a:gdLst/>
            <a:ahLst/>
            <a:rect l="l" t="t" r="r" b="b"/>
            <a:pathLst>
              <a:path w="29" h="124">
                <a:moveTo>
                  <a:pt x="29" y="0"/>
                </a:moveTo>
                <a:cubicBezTo>
                  <a:pt x="25" y="9"/>
                  <a:pt x="10" y="35"/>
                  <a:pt x="5" y="56"/>
                </a:cubicBezTo>
                <a:cubicBezTo>
                  <a:pt x="0" y="77"/>
                  <a:pt x="2" y="110"/>
                  <a:pt x="1" y="12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947880" y="257184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rot="1806000">
            <a:off x="798120" y="2266560"/>
            <a:ext cx="4921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187280" y="2757600"/>
            <a:ext cx="63720" cy="161640"/>
          </a:xfrm>
          <a:custGeom>
            <a:avLst/>
            <a:gdLst/>
            <a:ahLst/>
            <a:rect l="l" t="t" r="r" b="b"/>
            <a:pathLst>
              <a:path w="40" h="112">
                <a:moveTo>
                  <a:pt x="40" y="0"/>
                </a:moveTo>
                <a:cubicBezTo>
                  <a:pt x="35" y="9"/>
                  <a:pt x="19" y="34"/>
                  <a:pt x="12" y="52"/>
                </a:cubicBezTo>
                <a:cubicBezTo>
                  <a:pt x="5" y="70"/>
                  <a:pt x="2" y="100"/>
                  <a:pt x="0" y="11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933480" y="263700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30360" y="2878200"/>
            <a:ext cx="1792080" cy="23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2292480"/>
            <a:ext cx="888840" cy="63324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495440" y="2911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484360" y="2865600"/>
            <a:ext cx="71640" cy="252360"/>
          </a:xfrm>
          <a:custGeom>
            <a:avLst/>
            <a:gdLst>
              <a:gd name="textAreaLeft" fmla="*/ 0 w 71640"/>
              <a:gd name="textAreaRight" fmla="*/ 25920 w 71640"/>
              <a:gd name="textAreaTop" fmla="*/ 6480 h 252360"/>
              <a:gd name="textAreaBottom" fmla="*/ 24588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541160" y="2654280"/>
            <a:ext cx="65160" cy="130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1554120" y="2682720"/>
            <a:ext cx="115920" cy="230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450800" y="2597040"/>
            <a:ext cx="142920" cy="828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654200" y="2711520"/>
            <a:ext cx="142920" cy="824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502000" y="286560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1757400">
            <a:off x="1495080" y="2458800"/>
            <a:ext cx="485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835360" y="2108160"/>
            <a:ext cx="16556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. Стат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торона 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133640" y="2298600"/>
            <a:ext cx="1882440" cy="349200"/>
          </a:xfrm>
          <a:custGeom>
            <a:avLst/>
            <a:gdLst/>
            <a:ahLst/>
            <a:rect l="l" t="t" r="r" b="b"/>
            <a:pathLst>
              <a:path w="1186" h="220">
                <a:moveTo>
                  <a:pt x="0" y="220"/>
                </a:moveTo>
                <a:cubicBezTo>
                  <a:pt x="25" y="198"/>
                  <a:pt x="95" y="122"/>
                  <a:pt x="150" y="88"/>
                </a:cubicBezTo>
                <a:cubicBezTo>
                  <a:pt x="205" y="54"/>
                  <a:pt x="262" y="29"/>
                  <a:pt x="330" y="16"/>
                </a:cubicBezTo>
                <a:cubicBezTo>
                  <a:pt x="398" y="3"/>
                  <a:pt x="474" y="0"/>
                  <a:pt x="557" y="7"/>
                </a:cubicBezTo>
                <a:cubicBezTo>
                  <a:pt x="640" y="14"/>
                  <a:pt x="742" y="36"/>
                  <a:pt x="828" y="58"/>
                </a:cubicBezTo>
                <a:cubicBezTo>
                  <a:pt x="914" y="80"/>
                  <a:pt x="1012" y="121"/>
                  <a:pt x="1072" y="140"/>
                </a:cubicBezTo>
                <a:cubicBezTo>
                  <a:pt x="1132" y="159"/>
                  <a:pt x="1163" y="168"/>
                  <a:pt x="1186" y="17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024360" y="2462040"/>
            <a:ext cx="1341360" cy="2858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771640" y="2827440"/>
            <a:ext cx="180036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. Геометр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орона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совмес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деформаций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49560" y="3659040"/>
            <a:ext cx="1359000" cy="2858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si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22120" y="3376440"/>
            <a:ext cx="1584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. Физическая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орона задач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427640" y="2152800"/>
            <a:ext cx="153720" cy="1763640"/>
          </a:xfrm>
          <a:custGeom>
            <a:avLst/>
            <a:gdLst>
              <a:gd name="textAreaLeft" fmla="*/ 0 w 153720"/>
              <a:gd name="textAreaRight" fmla="*/ 55440 w 15372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495680" y="2819520"/>
            <a:ext cx="57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К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 Black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0280" y="3909960"/>
            <a:ext cx="1042920" cy="6271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6120" y="441468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09760" y="45115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71520" y="36734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512720" y="43689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27040" y="4172040"/>
            <a:ext cx="973080" cy="360360"/>
          </a:xfrm>
          <a:custGeom>
            <a:avLst/>
            <a:gdLst/>
            <a:ahLst/>
            <a:rect l="l" t="t" r="r" b="b"/>
            <a:pathLst>
              <a:path w="613" h="227">
                <a:moveTo>
                  <a:pt x="0" y="227"/>
                </a:moveTo>
                <a:lnTo>
                  <a:pt x="161" y="0"/>
                </a:lnTo>
                <a:lnTo>
                  <a:pt x="6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04840" y="401328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546120" y="41720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787320" y="4174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63560" y="4152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11200" y="41562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65000" y="451008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27200" y="4589640"/>
            <a:ext cx="1008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00280" y="4552920"/>
            <a:ext cx="52200" cy="122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2200" y="3848040"/>
            <a:ext cx="12747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692360" y="3645000"/>
            <a:ext cx="215640" cy="291960"/>
          </a:xfrm>
          <a:custGeom>
            <a:avLst/>
            <a:gdLst/>
            <a:ahLst/>
            <a:rect l="l" t="t" r="r" b="b"/>
            <a:pathLst>
              <a:path w="136" h="184">
                <a:moveTo>
                  <a:pt x="0" y="0"/>
                </a:moveTo>
                <a:lnTo>
                  <a:pt x="90" y="0"/>
                </a:lnTo>
                <a:lnTo>
                  <a:pt x="90" y="184"/>
                </a:lnTo>
                <a:lnTo>
                  <a:pt x="136" y="18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556000" y="4241880"/>
            <a:ext cx="720720" cy="21600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841400" y="3809880"/>
            <a:ext cx="157824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упруг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стад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835280" y="3921120"/>
            <a:ext cx="74520" cy="719280"/>
          </a:xfrm>
          <a:custGeom>
            <a:avLst/>
            <a:gdLst/>
            <a:ahLst/>
            <a:rect l="l" t="t" r="r" b="b"/>
            <a:pathLst>
              <a:path w="47" h="415">
                <a:moveTo>
                  <a:pt x="0" y="0"/>
                </a:moveTo>
                <a:lnTo>
                  <a:pt x="1" y="415"/>
                </a:lnTo>
                <a:lnTo>
                  <a:pt x="47" y="4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782720" y="4888080"/>
            <a:ext cx="1224000" cy="2156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30520" y="4508640"/>
            <a:ext cx="1707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стад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екучест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895480" y="4448160"/>
            <a:ext cx="514440" cy="114480"/>
          </a:xfrm>
          <a:custGeom>
            <a:avLst/>
            <a:gdLst/>
            <a:ahLst/>
            <a:rect l="l" t="t" r="r" b="b"/>
            <a:pathLst>
              <a:path w="324" h="72">
                <a:moveTo>
                  <a:pt x="0" y="0"/>
                </a:moveTo>
                <a:cubicBezTo>
                  <a:pt x="14" y="9"/>
                  <a:pt x="55" y="42"/>
                  <a:pt x="84" y="54"/>
                </a:cubicBezTo>
                <a:cubicBezTo>
                  <a:pt x="113" y="66"/>
                  <a:pt x="143" y="72"/>
                  <a:pt x="174" y="72"/>
                </a:cubicBezTo>
                <a:cubicBezTo>
                  <a:pt x="205" y="72"/>
                  <a:pt x="245" y="66"/>
                  <a:pt x="270" y="54"/>
                </a:cubicBezTo>
                <a:cubicBezTo>
                  <a:pt x="295" y="42"/>
                  <a:pt x="313" y="11"/>
                  <a:pt x="324" y="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789280" y="2638440"/>
            <a:ext cx="1353960" cy="1571760"/>
          </a:xfrm>
          <a:custGeom>
            <a:avLst/>
            <a:gdLst/>
            <a:ahLst/>
            <a:rect l="l" t="t" r="r" b="b"/>
            <a:pathLst>
              <a:path w="853" h="990">
                <a:moveTo>
                  <a:pt x="151" y="0"/>
                </a:moveTo>
                <a:cubicBezTo>
                  <a:pt x="135" y="8"/>
                  <a:pt x="79" y="17"/>
                  <a:pt x="55" y="48"/>
                </a:cubicBezTo>
                <a:cubicBezTo>
                  <a:pt x="31" y="79"/>
                  <a:pt x="14" y="122"/>
                  <a:pt x="7" y="186"/>
                </a:cubicBezTo>
                <a:cubicBezTo>
                  <a:pt x="0" y="250"/>
                  <a:pt x="7" y="359"/>
                  <a:pt x="13" y="432"/>
                </a:cubicBezTo>
                <a:cubicBezTo>
                  <a:pt x="19" y="505"/>
                  <a:pt x="28" y="562"/>
                  <a:pt x="43" y="624"/>
                </a:cubicBezTo>
                <a:cubicBezTo>
                  <a:pt x="58" y="686"/>
                  <a:pt x="78" y="763"/>
                  <a:pt x="103" y="804"/>
                </a:cubicBezTo>
                <a:cubicBezTo>
                  <a:pt x="128" y="845"/>
                  <a:pt x="139" y="855"/>
                  <a:pt x="193" y="870"/>
                </a:cubicBezTo>
                <a:cubicBezTo>
                  <a:pt x="247" y="885"/>
                  <a:pt x="351" y="885"/>
                  <a:pt x="427" y="894"/>
                </a:cubicBezTo>
                <a:cubicBezTo>
                  <a:pt x="503" y="903"/>
                  <a:pt x="578" y="908"/>
                  <a:pt x="649" y="924"/>
                </a:cubicBezTo>
                <a:cubicBezTo>
                  <a:pt x="720" y="940"/>
                  <a:pt x="811" y="976"/>
                  <a:pt x="853" y="99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398760" y="4476600"/>
            <a:ext cx="649440" cy="638280"/>
          </a:xfrm>
          <a:custGeom>
            <a:avLst/>
            <a:gdLst/>
            <a:ahLst/>
            <a:rect l="l" t="t" r="r" b="b"/>
            <a:pathLst>
              <a:path w="409" h="402">
                <a:moveTo>
                  <a:pt x="43" y="0"/>
                </a:moveTo>
                <a:cubicBezTo>
                  <a:pt x="37" y="14"/>
                  <a:pt x="12" y="52"/>
                  <a:pt x="7" y="84"/>
                </a:cubicBezTo>
                <a:cubicBezTo>
                  <a:pt x="2" y="116"/>
                  <a:pt x="0" y="159"/>
                  <a:pt x="13" y="192"/>
                </a:cubicBezTo>
                <a:cubicBezTo>
                  <a:pt x="26" y="225"/>
                  <a:pt x="56" y="260"/>
                  <a:pt x="85" y="282"/>
                </a:cubicBezTo>
                <a:cubicBezTo>
                  <a:pt x="114" y="304"/>
                  <a:pt x="146" y="315"/>
                  <a:pt x="187" y="324"/>
                </a:cubicBezTo>
                <a:cubicBezTo>
                  <a:pt x="228" y="333"/>
                  <a:pt x="294" y="323"/>
                  <a:pt x="331" y="336"/>
                </a:cubicBezTo>
                <a:cubicBezTo>
                  <a:pt x="368" y="349"/>
                  <a:pt x="393" y="388"/>
                  <a:pt x="409" y="402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133880" y="3952800"/>
            <a:ext cx="587520" cy="1152720"/>
          </a:xfrm>
          <a:custGeom>
            <a:avLst/>
            <a:gdLst/>
            <a:ahLst/>
            <a:rect l="l" t="t" r="r" b="b"/>
            <a:pathLst>
              <a:path w="370" h="726">
                <a:moveTo>
                  <a:pt x="0" y="0"/>
                </a:moveTo>
                <a:cubicBezTo>
                  <a:pt x="32" y="18"/>
                  <a:pt x="139" y="68"/>
                  <a:pt x="192" y="108"/>
                </a:cubicBezTo>
                <a:cubicBezTo>
                  <a:pt x="245" y="148"/>
                  <a:pt x="289" y="196"/>
                  <a:pt x="318" y="240"/>
                </a:cubicBezTo>
                <a:cubicBezTo>
                  <a:pt x="347" y="284"/>
                  <a:pt x="362" y="323"/>
                  <a:pt x="366" y="372"/>
                </a:cubicBezTo>
                <a:cubicBezTo>
                  <a:pt x="370" y="421"/>
                  <a:pt x="361" y="489"/>
                  <a:pt x="342" y="534"/>
                </a:cubicBezTo>
                <a:cubicBezTo>
                  <a:pt x="323" y="579"/>
                  <a:pt x="294" y="610"/>
                  <a:pt x="252" y="642"/>
                </a:cubicBezTo>
                <a:cubicBezTo>
                  <a:pt x="210" y="674"/>
                  <a:pt x="124" y="709"/>
                  <a:pt x="90" y="726"/>
                </a:cubicBezTo>
              </a:path>
            </a:pathLst>
          </a:custGeom>
          <a:noFill/>
          <a:ln w="1908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38200" y="5114880"/>
            <a:ext cx="1042920" cy="6271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84040" y="561960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17680" y="57164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79440" y="48783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539720" y="55785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34960" y="5376960"/>
            <a:ext cx="973080" cy="360360"/>
          </a:xfrm>
          <a:custGeom>
            <a:avLst/>
            <a:gdLst/>
            <a:ahLst/>
            <a:rect l="l" t="t" r="r" b="b"/>
            <a:pathLst>
              <a:path w="613" h="227">
                <a:moveTo>
                  <a:pt x="0" y="227"/>
                </a:moveTo>
                <a:lnTo>
                  <a:pt x="161" y="0"/>
                </a:lnTo>
                <a:lnTo>
                  <a:pt x="61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12760" y="521820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554040" y="53769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795240" y="53798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771480" y="5357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19120" y="5361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773280" y="57150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98400" y="5068800"/>
            <a:ext cx="8762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36480" y="5722920"/>
            <a:ext cx="406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861080" y="1774800"/>
            <a:ext cx="40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татически неопределим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076720" y="2649600"/>
            <a:ext cx="71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143680" y="26528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364000" y="27558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238720" y="2957400"/>
            <a:ext cx="216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238720" y="2957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342040" y="27417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08560" y="2914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5160600" y="27622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308560" y="2725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106960" y="2722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342040" y="308124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174080" y="287496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5338800" y="320508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5308200" y="31622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6254280" y="31734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678640" y="29606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291360" y="308124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140600" y="31687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581880" y="29606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83080" y="2765520"/>
            <a:ext cx="1792440" cy="23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248520" y="2792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237440" y="2752560"/>
            <a:ext cx="71280" cy="252720"/>
          </a:xfrm>
          <a:custGeom>
            <a:avLst/>
            <a:gdLst>
              <a:gd name="textAreaLeft" fmla="*/ 0 w 71280"/>
              <a:gd name="textAreaRight" fmla="*/ 25560 w 71280"/>
              <a:gd name="textAreaTop" fmla="*/ 6480 h 252720"/>
              <a:gd name="textAreaBottom" fmla="*/ 246240 h 2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281640" y="2144880"/>
            <a:ext cx="0" cy="64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170840" y="216216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132680" y="28908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68960" y="213372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168960" y="2205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059600" y="213840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059600" y="2209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42040" y="2170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132680" y="2170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372360" y="220500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932360" y="2205000"/>
            <a:ext cx="122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925880" y="2755800"/>
            <a:ext cx="150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997520" y="2205000"/>
            <a:ext cx="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978440" y="217980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970520" y="273060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94120" y="23814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273800" y="2708280"/>
            <a:ext cx="7812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313320" y="2825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88280" y="2643120"/>
            <a:ext cx="0" cy="179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456240" y="2727360"/>
            <a:ext cx="5724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456240" y="2800440"/>
            <a:ext cx="5724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326280" y="240840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11760" y="23256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094360" y="2511360"/>
            <a:ext cx="3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302600" y="2003400"/>
            <a:ext cx="158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1. ССЗ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361280" y="2370240"/>
            <a:ext cx="1440000" cy="2876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084720" y="2398680"/>
            <a:ext cx="179640" cy="179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972480" y="2484360"/>
            <a:ext cx="179280" cy="1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37200" y="2382840"/>
            <a:ext cx="28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927840" y="2473200"/>
            <a:ext cx="28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507000" y="2178000"/>
            <a:ext cx="4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6288120" y="2336400"/>
            <a:ext cx="28728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883560" y="2336760"/>
            <a:ext cx="287280" cy="119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7970760" y="3043080"/>
            <a:ext cx="865440" cy="2890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248600" y="2978280"/>
            <a:ext cx="172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. ГСЗ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864560" y="3429000"/>
            <a:ext cx="1042920" cy="36036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8244000" y="3317760"/>
            <a:ext cx="288720" cy="138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716360" y="18255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716360" y="33228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121360" y="3251160"/>
            <a:ext cx="2017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а) в упругой ста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6958080" y="3303720"/>
                <a:ext cx="909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5226120" y="4927680"/>
                <a:ext cx="1052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9" name=""/>
          <p:cNvSpPr/>
          <p:nvPr/>
        </p:nvSpPr>
        <p:spPr>
          <a:xfrm>
            <a:off x="6199200" y="4997520"/>
            <a:ext cx="25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мещени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580000" y="3933720"/>
            <a:ext cx="1513080" cy="70344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326200" y="4514760"/>
            <a:ext cx="207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559480" y="46116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427720" y="36543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039080" y="450216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576760" y="4205160"/>
            <a:ext cx="255600" cy="432000"/>
          </a:xfrm>
          <a:custGeom>
            <a:avLst/>
            <a:gdLst/>
            <a:ahLst/>
            <a:rect l="l" t="t" r="r" b="b"/>
            <a:pathLst>
              <a:path w="161" h="227">
                <a:moveTo>
                  <a:pt x="0" y="227"/>
                </a:moveTo>
                <a:lnTo>
                  <a:pt x="1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254560" y="407520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5595840" y="4205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5837400" y="42051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813280" y="41860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560920" y="41893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15080" y="46101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137280" y="3792600"/>
            <a:ext cx="8762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678640" y="4618080"/>
            <a:ext cx="406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934240" y="4626000"/>
            <a:ext cx="785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796000" y="5950080"/>
            <a:ext cx="1944720" cy="21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46640" y="6346800"/>
            <a:ext cx="1152720" cy="2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700520" y="5351400"/>
            <a:ext cx="42483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б) в упругопластической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стад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 –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 f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a –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/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830920" y="4095720"/>
            <a:ext cx="255600" cy="108000"/>
          </a:xfrm>
          <a:custGeom>
            <a:avLst/>
            <a:gdLst/>
            <a:ahLst/>
            <a:rect l="l" t="t" r="r" b="b"/>
            <a:pathLst>
              <a:path w="161" h="227">
                <a:moveTo>
                  <a:pt x="0" y="227"/>
                </a:moveTo>
                <a:lnTo>
                  <a:pt x="1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084720" y="410184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60960" y="4083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062760" y="461628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5578560" y="41004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562720" y="40845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261040" y="3879720"/>
            <a:ext cx="4096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066000" y="41022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878520" y="41022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7201080" y="3859200"/>
                <a:ext cx="1452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3463920" y="4125960"/>
                <a:ext cx="1092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3174840" y="5084640"/>
                <a:ext cx="151308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  <m:r>
                              <m:t xml:space="preserve"> 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εa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num>
                          <m:den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α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 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0" name=""/>
          <p:cNvSpPr/>
          <p:nvPr/>
        </p:nvSpPr>
        <p:spPr>
          <a:xfrm>
            <a:off x="776160" y="5468760"/>
            <a:ext cx="24274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/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4716360" y="6137280"/>
            <a:ext cx="424836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) в предельном равновес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3" dur="indefinite" restart="never" nodeType="tmRoot">
          <p:childTnLst>
            <p:seq>
              <p:cTn id="4734" dur="indefinite" nodeType="mainSeq">
                <p:childTnLst>
                  <p:par>
                    <p:cTn id="4735" fill="hold">
                      <p:stCondLst>
                        <p:cond delay="0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9" dur="10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2" dur="1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5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6" fill="hold">
                      <p:stCondLst>
                        <p:cond delay="indefinite"/>
                      </p:stCondLst>
                      <p:childTnLst>
                        <p:par>
                          <p:cTn id="4747" fill="hold">
                            <p:stCondLst>
                              <p:cond delay="0"/>
                            </p:stCondLst>
                            <p:childTnLst>
                              <p:par>
                                <p:cTn id="4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0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6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59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2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6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9" dur="1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5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8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1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8" fill="hold">
                      <p:stCondLst>
                        <p:cond delay="indefinite"/>
                      </p:stCondLst>
                      <p:childTnLst>
                        <p:par>
                          <p:cTn id="4789" fill="hold">
                            <p:stCondLst>
                              <p:cond delay="0"/>
                            </p:stCondLst>
                            <p:childTnLst>
                              <p:par>
                                <p:cTn id="4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6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2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5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8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1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4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9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1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4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5" dur="1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6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0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1" fill="hold">
                      <p:stCondLst>
                        <p:cond delay="indefinite"/>
                      </p:stCondLst>
                      <p:childTnLst>
                        <p:par>
                          <p:cTn id="4832" fill="hold">
                            <p:stCondLst>
                              <p:cond delay="0"/>
                            </p:stCondLst>
                            <p:childTnLst>
                              <p:par>
                                <p:cTn id="48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5" dur="1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50920" y="830160"/>
            <a:ext cx="8642160" cy="3682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ное исследование процесса упругопластического де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160200" y="1254240"/>
            <a:ext cx="87854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ы с неоднородным напряжённым  состоянием элементов (изгиб, кру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84360" y="1989000"/>
            <a:ext cx="934920" cy="863640"/>
          </a:xfrm>
          <a:custGeom>
            <a:avLst/>
            <a:gdLst/>
            <a:ahLst/>
            <a:rect l="l" t="t" r="r" b="b"/>
            <a:pathLst>
              <a:path w="589" h="544">
                <a:moveTo>
                  <a:pt x="589" y="544"/>
                </a:moveTo>
                <a:lnTo>
                  <a:pt x="0" y="544"/>
                </a:lnTo>
                <a:lnTo>
                  <a:pt x="0" y="0"/>
                </a:lnTo>
                <a:lnTo>
                  <a:pt x="58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619280" y="191628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1496160" y="2238480"/>
            <a:ext cx="43056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H="1" flipV="1">
            <a:off x="394560" y="2238480"/>
            <a:ext cx="42516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39640" y="2473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600200" y="192564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009880" y="1986120"/>
            <a:ext cx="676080" cy="861840"/>
          </a:xfrm>
          <a:custGeom>
            <a:avLst/>
            <a:gdLst/>
            <a:ahLst/>
            <a:rect l="l" t="t" r="r" b="b"/>
            <a:pathLst>
              <a:path w="426" h="543">
                <a:moveTo>
                  <a:pt x="210" y="0"/>
                </a:moveTo>
                <a:cubicBezTo>
                  <a:pt x="185" y="1"/>
                  <a:pt x="152" y="14"/>
                  <a:pt x="132" y="33"/>
                </a:cubicBezTo>
                <a:cubicBezTo>
                  <a:pt x="112" y="52"/>
                  <a:pt x="103" y="69"/>
                  <a:pt x="87" y="114"/>
                </a:cubicBezTo>
                <a:cubicBezTo>
                  <a:pt x="71" y="159"/>
                  <a:pt x="46" y="247"/>
                  <a:pt x="33" y="303"/>
                </a:cubicBezTo>
                <a:cubicBezTo>
                  <a:pt x="20" y="359"/>
                  <a:pt x="0" y="416"/>
                  <a:pt x="9" y="453"/>
                </a:cubicBezTo>
                <a:cubicBezTo>
                  <a:pt x="18" y="490"/>
                  <a:pt x="54" y="510"/>
                  <a:pt x="87" y="525"/>
                </a:cubicBezTo>
                <a:cubicBezTo>
                  <a:pt x="120" y="540"/>
                  <a:pt x="166" y="543"/>
                  <a:pt x="207" y="543"/>
                </a:cubicBezTo>
                <a:cubicBezTo>
                  <a:pt x="248" y="543"/>
                  <a:pt x="301" y="543"/>
                  <a:pt x="336" y="528"/>
                </a:cubicBezTo>
                <a:cubicBezTo>
                  <a:pt x="371" y="513"/>
                  <a:pt x="408" y="490"/>
                  <a:pt x="417" y="453"/>
                </a:cubicBezTo>
                <a:cubicBezTo>
                  <a:pt x="426" y="416"/>
                  <a:pt x="405" y="363"/>
                  <a:pt x="390" y="306"/>
                </a:cubicBezTo>
                <a:cubicBezTo>
                  <a:pt x="375" y="249"/>
                  <a:pt x="345" y="154"/>
                  <a:pt x="327" y="108"/>
                </a:cubicBezTo>
                <a:cubicBezTo>
                  <a:pt x="309" y="62"/>
                  <a:pt x="302" y="45"/>
                  <a:pt x="282" y="27"/>
                </a:cubicBezTo>
                <a:cubicBezTo>
                  <a:pt x="262" y="9"/>
                  <a:pt x="225" y="6"/>
                  <a:pt x="21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979640" y="19890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619280" y="285264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003400" y="2473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2340000" y="17715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2360" y="231948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205000" y="1503360"/>
            <a:ext cx="289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338560" y="198900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340000" y="2852640"/>
            <a:ext cx="863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68640" y="2473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20364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982960" y="1989000"/>
            <a:ext cx="50472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203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3203640" y="20797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3203640" y="21718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203640" y="2262240"/>
            <a:ext cx="12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203640" y="23544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298296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3035160" y="276696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3089160" y="26701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3151080" y="258444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3063960" y="14986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п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156120" y="2444760"/>
            <a:ext cx="83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021200" y="2166840"/>
            <a:ext cx="842760" cy="5763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4824360" y="260028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997440" y="271764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024440" y="2181240"/>
            <a:ext cx="838080" cy="552600"/>
          </a:xfrm>
          <a:custGeom>
            <a:avLst/>
            <a:gdLst/>
            <a:ahLst/>
            <a:rect l="l" t="t" r="r" b="b"/>
            <a:pathLst>
              <a:path w="528" h="348">
                <a:moveTo>
                  <a:pt x="0" y="348"/>
                </a:moveTo>
                <a:cubicBezTo>
                  <a:pt x="11" y="316"/>
                  <a:pt x="46" y="196"/>
                  <a:pt x="62" y="155"/>
                </a:cubicBezTo>
                <a:cubicBezTo>
                  <a:pt x="79" y="114"/>
                  <a:pt x="74" y="118"/>
                  <a:pt x="99" y="101"/>
                </a:cubicBezTo>
                <a:cubicBezTo>
                  <a:pt x="125" y="84"/>
                  <a:pt x="167" y="67"/>
                  <a:pt x="212" y="53"/>
                </a:cubicBezTo>
                <a:cubicBezTo>
                  <a:pt x="257" y="39"/>
                  <a:pt x="313" y="27"/>
                  <a:pt x="366" y="18"/>
                </a:cubicBezTo>
                <a:cubicBezTo>
                  <a:pt x="419" y="9"/>
                  <a:pt x="494" y="4"/>
                  <a:pt x="52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871800" y="1969920"/>
            <a:ext cx="331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718080" y="226224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113360" y="2371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025880" y="2392200"/>
            <a:ext cx="10800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997440" y="2371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816280" y="2822400"/>
            <a:ext cx="517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247920" y="174780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726080" y="247824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38164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5118120" y="2133720"/>
            <a:ext cx="53496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86320" y="1990800"/>
            <a:ext cx="312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381640" y="2081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381640" y="21733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376960" y="2263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376960" y="23605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119560" y="28544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5191200" y="27687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5267160" y="26719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5329080" y="2585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643280" y="2160720"/>
            <a:ext cx="801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179880" y="24494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354640" y="2482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991040" y="281160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425920" y="175896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727440" y="1989000"/>
            <a:ext cx="1655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203640" y="2852640"/>
            <a:ext cx="1944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651640" y="1987560"/>
            <a:ext cx="47520" cy="146160"/>
          </a:xfrm>
          <a:custGeom>
            <a:avLst/>
            <a:gdLst/>
            <a:ahLst/>
            <a:rect l="l" t="t" r="r" b="b"/>
            <a:pathLst>
              <a:path w="30" h="92">
                <a:moveTo>
                  <a:pt x="0" y="92"/>
                </a:moveTo>
                <a:cubicBezTo>
                  <a:pt x="3" y="87"/>
                  <a:pt x="11" y="75"/>
                  <a:pt x="16" y="60"/>
                </a:cubicBezTo>
                <a:cubicBezTo>
                  <a:pt x="21" y="45"/>
                  <a:pt x="27" y="12"/>
                  <a:pt x="3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6428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5896080" y="2276640"/>
            <a:ext cx="50472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168960" y="199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164280" y="208116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168960" y="217332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159600" y="226368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159600" y="2360520"/>
            <a:ext cx="15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 flipH="1">
            <a:off x="5853240" y="285444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5905440" y="27687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6011640" y="2671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6111720" y="2585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137280" y="249696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208560" y="175896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00800" y="1989000"/>
            <a:ext cx="128520" cy="287640"/>
          </a:xfrm>
          <a:custGeom>
            <a:avLst/>
            <a:gdLst/>
            <a:ahLst/>
            <a:rect l="l" t="t" r="r" b="b"/>
            <a:pathLst>
              <a:path w="81" h="181">
                <a:moveTo>
                  <a:pt x="0" y="181"/>
                </a:moveTo>
                <a:cubicBezTo>
                  <a:pt x="5" y="175"/>
                  <a:pt x="18" y="162"/>
                  <a:pt x="27" y="145"/>
                </a:cubicBezTo>
                <a:cubicBezTo>
                  <a:pt x="36" y="128"/>
                  <a:pt x="46" y="105"/>
                  <a:pt x="55" y="81"/>
                </a:cubicBezTo>
                <a:cubicBezTo>
                  <a:pt x="64" y="57"/>
                  <a:pt x="76" y="17"/>
                  <a:pt x="8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364000" y="247824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853240" y="2781360"/>
            <a:ext cx="42840" cy="79200"/>
          </a:xfrm>
          <a:custGeom>
            <a:avLst/>
            <a:gdLst/>
            <a:ahLst/>
            <a:rect l="l" t="t" r="r" b="b"/>
            <a:pathLst>
              <a:path w="27" h="45">
                <a:moveTo>
                  <a:pt x="0" y="45"/>
                </a:moveTo>
                <a:cubicBezTo>
                  <a:pt x="2" y="41"/>
                  <a:pt x="8" y="28"/>
                  <a:pt x="12" y="21"/>
                </a:cubicBezTo>
                <a:cubicBezTo>
                  <a:pt x="16" y="14"/>
                  <a:pt x="24" y="4"/>
                  <a:pt x="27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786280" y="280980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95160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6673680" y="2421000"/>
            <a:ext cx="5032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953400" y="1988640"/>
            <a:ext cx="428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951600" y="2081160"/>
            <a:ext cx="3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956280" y="2173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956280" y="226368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946920" y="23605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6590880" y="285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6622920" y="276876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6742080" y="2671920"/>
            <a:ext cx="20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6899400" y="2585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924600" y="2525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075440" y="175896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175520" y="1994040"/>
            <a:ext cx="203040" cy="425160"/>
          </a:xfrm>
          <a:custGeom>
            <a:avLst/>
            <a:gdLst/>
            <a:ahLst/>
            <a:rect l="l" t="t" r="r" b="b"/>
            <a:pathLst>
              <a:path w="128" h="268">
                <a:moveTo>
                  <a:pt x="0" y="268"/>
                </a:moveTo>
                <a:cubicBezTo>
                  <a:pt x="3" y="265"/>
                  <a:pt x="11" y="262"/>
                  <a:pt x="20" y="252"/>
                </a:cubicBezTo>
                <a:cubicBezTo>
                  <a:pt x="29" y="242"/>
                  <a:pt x="39" y="235"/>
                  <a:pt x="52" y="209"/>
                </a:cubicBezTo>
                <a:cubicBezTo>
                  <a:pt x="65" y="183"/>
                  <a:pt x="87" y="131"/>
                  <a:pt x="99" y="96"/>
                </a:cubicBezTo>
                <a:cubicBezTo>
                  <a:pt x="112" y="62"/>
                  <a:pt x="122" y="20"/>
                  <a:pt x="128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586560" y="2709720"/>
            <a:ext cx="88920" cy="152640"/>
          </a:xfrm>
          <a:custGeom>
            <a:avLst/>
            <a:gdLst/>
            <a:ahLst/>
            <a:rect l="l" t="t" r="r" b="b"/>
            <a:pathLst>
              <a:path w="56" h="96">
                <a:moveTo>
                  <a:pt x="0" y="96"/>
                </a:moveTo>
                <a:cubicBezTo>
                  <a:pt x="2" y="90"/>
                  <a:pt x="8" y="73"/>
                  <a:pt x="14" y="60"/>
                </a:cubicBezTo>
                <a:cubicBezTo>
                  <a:pt x="20" y="47"/>
                  <a:pt x="31" y="28"/>
                  <a:pt x="38" y="18"/>
                </a:cubicBezTo>
                <a:cubicBezTo>
                  <a:pt x="45" y="8"/>
                  <a:pt x="52" y="4"/>
                  <a:pt x="5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6573960" y="2809800"/>
            <a:ext cx="517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156360" y="2478240"/>
            <a:ext cx="79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857920" y="198900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680160" y="1989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373720" y="285264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146640" y="28526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951600" y="2455920"/>
            <a:ext cx="154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165720" y="244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7156440" y="2671920"/>
                <a:ext cx="1746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257960" y="2276640"/>
                <a:ext cx="1594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>
            <a:off x="2114640" y="2276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56000" y="230040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56000" y="225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728800" y="2305080"/>
            <a:ext cx="0" cy="1620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24120" y="2143080"/>
            <a:ext cx="0" cy="108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700360" y="22017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665440" y="1979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109960" y="227664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79760" y="227664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109960" y="3002040"/>
            <a:ext cx="46800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14640" y="29829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08440" y="1585800"/>
            <a:ext cx="105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41920" y="14508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Arial Narrow"/>
              </a:rPr>
              <a:t>Для идеального упругопластического материала:</a:t>
            </a: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6" dur="indefinite" restart="never" nodeType="tmRoot">
          <p:childTnLst>
            <p:seq>
              <p:cTn id="4837" dur="indefinite" nodeType="mainSeq">
                <p:childTnLst>
                  <p:par>
                    <p:cTn id="4838" fill="hold">
                      <p:stCondLst>
                        <p:cond delay="0"/>
                      </p:stCondLst>
                      <p:childTnLst>
                        <p:par>
                          <p:cTn id="4839" fill="hold">
                            <p:stCondLst>
                              <p:cond delay="0"/>
                            </p:stCondLst>
                            <p:childTnLst>
                              <p:par>
                                <p:cTn id="48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2" dur="8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3" dur="8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4" dur="80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5" fill="hold">
                      <p:stCondLst>
                        <p:cond delay="indefinite"/>
                      </p:stCondLst>
                      <p:childTnLst>
                        <p:par>
                          <p:cTn id="4846" fill="hold">
                            <p:stCondLst>
                              <p:cond delay="0"/>
                            </p:stCondLst>
                            <p:childTnLst>
                              <p:par>
                                <p:cTn id="4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9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0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1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4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5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6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9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0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1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5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1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2" fill="hold">
                      <p:stCondLst>
                        <p:cond delay="indefinite"/>
                      </p:stCondLst>
                      <p:childTnLst>
                        <p:par>
                          <p:cTn id="4873" fill="hold">
                            <p:stCondLst>
                              <p:cond delay="0"/>
                            </p:stCondLst>
                            <p:childTnLst>
                              <p:par>
                                <p:cTn id="4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6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7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8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1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2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3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6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0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6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9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0" fill="hold">
                      <p:stCondLst>
                        <p:cond delay="indefinite"/>
                      </p:stCondLst>
                      <p:childTnLst>
                        <p:par>
                          <p:cTn id="4901" fill="hold">
                            <p:stCondLst>
                              <p:cond delay="0"/>
                            </p:stCondLst>
                            <p:childTnLst>
                              <p:par>
                                <p:cTn id="4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4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6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0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4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5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6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9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2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5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1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4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7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0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3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6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9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2" dur="1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6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0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4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8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9" dur="1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0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5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6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7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8" fill="hold">
                      <p:stCondLst>
                        <p:cond delay="indefinite"/>
                      </p:stCondLst>
                      <p:childTnLst>
                        <p:par>
                          <p:cTn id="4979" fill="hold">
                            <p:stCondLst>
                              <p:cond delay="0"/>
                            </p:stCondLst>
                            <p:childTnLst>
                              <p:par>
                                <p:cTn id="4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2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5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8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1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4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7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3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6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7" fill="hold">
                      <p:stCondLst>
                        <p:cond delay="indefinite"/>
                      </p:stCondLst>
                      <p:childTnLst>
                        <p:par>
                          <p:cTn id="5008" fill="hold">
                            <p:stCondLst>
                              <p:cond delay="0"/>
                            </p:stCondLst>
                            <p:childTnLst>
                              <p:par>
                                <p:cTn id="5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1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3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7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8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9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2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3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4" dur="1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8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3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6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5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8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1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4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57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0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3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6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9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2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5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6" fill="hold">
                      <p:stCondLst>
                        <p:cond delay="indefinite"/>
                      </p:stCondLst>
                      <p:childTnLst>
                        <p:par>
                          <p:cTn id="5077" fill="hold">
                            <p:stCondLst>
                              <p:cond delay="0"/>
                            </p:stCondLst>
                            <p:childTnLst>
                              <p:par>
                                <p:cTn id="50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0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1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5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6" dur="10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7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0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1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6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9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2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5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8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1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4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7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0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3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6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9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2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5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8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1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4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9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1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4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5" dur="10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6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9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0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1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5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8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4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7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0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6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9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2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1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4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7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0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3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4" fill="hold">
                      <p:stCondLst>
                        <p:cond delay="indefinite"/>
                      </p:stCondLst>
                      <p:childTnLst>
                        <p:par>
                          <p:cTn id="5215" fill="hold">
                            <p:stCondLst>
                              <p:cond delay="0"/>
                            </p:stCondLst>
                            <p:childTnLst>
                              <p:par>
                                <p:cTn id="5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8" dur="2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2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3" dur="1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4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8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0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3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7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8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9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3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4" dur="10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8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9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2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3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5" fill="hold">
                      <p:stCondLst>
                        <p:cond delay="indefinite"/>
                      </p:stCondLst>
                      <p:childTnLst>
                        <p:par>
                          <p:cTn id="5266" fill="hold">
                            <p:stCondLst>
                              <p:cond delay="0"/>
                            </p:stCondLst>
                            <p:childTnLst>
                              <p:par>
                                <p:cTn id="5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9" dur="2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fill="hold">
                      <p:stCondLst>
                        <p:cond delay="indefinite"/>
                      </p:stCondLst>
                      <p:childTnLst>
                        <p:par>
                          <p:cTn id="5271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3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6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9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5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8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1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4" dur="10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7" dur="1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0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3" dur="10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6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9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2" dur="1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5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8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1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4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27" dur="10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0" dur="1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3" dur="1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6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9" dur="1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2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5" dur="1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8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1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4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7" dur="10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0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3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9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2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5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7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0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3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6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9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2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8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1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4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3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6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29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35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9" dur="80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0" dur="80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1" dur="80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0920" y="830160"/>
            <a:ext cx="8642160" cy="36828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ное исследование процесса упругопластического де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60200" y="1254240"/>
            <a:ext cx="87854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стемы с неоднородным напряжённым  состоянием элементов (изгиб, кру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84360" y="1989000"/>
            <a:ext cx="934920" cy="863640"/>
          </a:xfrm>
          <a:custGeom>
            <a:avLst/>
            <a:gdLst/>
            <a:ahLst/>
            <a:rect l="l" t="t" r="r" b="b"/>
            <a:pathLst>
              <a:path w="589" h="544">
                <a:moveTo>
                  <a:pt x="589" y="544"/>
                </a:moveTo>
                <a:lnTo>
                  <a:pt x="0" y="544"/>
                </a:lnTo>
                <a:lnTo>
                  <a:pt x="0" y="0"/>
                </a:lnTo>
                <a:lnTo>
                  <a:pt x="58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619280" y="191628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1496160" y="2238480"/>
            <a:ext cx="43056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 flipV="1">
            <a:off x="394560" y="2238480"/>
            <a:ext cx="42516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39640" y="24732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1600200" y="192564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009880" y="1986120"/>
            <a:ext cx="676080" cy="861840"/>
          </a:xfrm>
          <a:custGeom>
            <a:avLst/>
            <a:gdLst/>
            <a:ahLst/>
            <a:rect l="l" t="t" r="r" b="b"/>
            <a:pathLst>
              <a:path w="426" h="543">
                <a:moveTo>
                  <a:pt x="210" y="0"/>
                </a:moveTo>
                <a:cubicBezTo>
                  <a:pt x="185" y="1"/>
                  <a:pt x="152" y="14"/>
                  <a:pt x="132" y="33"/>
                </a:cubicBezTo>
                <a:cubicBezTo>
                  <a:pt x="112" y="52"/>
                  <a:pt x="103" y="69"/>
                  <a:pt x="87" y="114"/>
                </a:cubicBezTo>
                <a:cubicBezTo>
                  <a:pt x="71" y="159"/>
                  <a:pt x="46" y="247"/>
                  <a:pt x="33" y="303"/>
                </a:cubicBezTo>
                <a:cubicBezTo>
                  <a:pt x="20" y="359"/>
                  <a:pt x="0" y="416"/>
                  <a:pt x="9" y="453"/>
                </a:cubicBezTo>
                <a:cubicBezTo>
                  <a:pt x="18" y="490"/>
                  <a:pt x="54" y="510"/>
                  <a:pt x="87" y="525"/>
                </a:cubicBezTo>
                <a:cubicBezTo>
                  <a:pt x="120" y="540"/>
                  <a:pt x="166" y="543"/>
                  <a:pt x="207" y="543"/>
                </a:cubicBezTo>
                <a:cubicBezTo>
                  <a:pt x="248" y="543"/>
                  <a:pt x="301" y="543"/>
                  <a:pt x="336" y="528"/>
                </a:cubicBezTo>
                <a:cubicBezTo>
                  <a:pt x="371" y="513"/>
                  <a:pt x="408" y="490"/>
                  <a:pt x="417" y="453"/>
                </a:cubicBezTo>
                <a:cubicBezTo>
                  <a:pt x="426" y="416"/>
                  <a:pt x="405" y="363"/>
                  <a:pt x="390" y="306"/>
                </a:cubicBezTo>
                <a:cubicBezTo>
                  <a:pt x="375" y="249"/>
                  <a:pt x="345" y="154"/>
                  <a:pt x="327" y="108"/>
                </a:cubicBezTo>
                <a:cubicBezTo>
                  <a:pt x="309" y="62"/>
                  <a:pt x="302" y="45"/>
                  <a:pt x="282" y="27"/>
                </a:cubicBezTo>
                <a:cubicBezTo>
                  <a:pt x="262" y="9"/>
                  <a:pt x="225" y="6"/>
                  <a:pt x="21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979640" y="19890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619280" y="285264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003400" y="2473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2340000" y="17715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862360" y="231948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205000" y="1503360"/>
            <a:ext cx="289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38560" y="198900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340000" y="2852640"/>
            <a:ext cx="863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068640" y="24732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20364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982960" y="1989000"/>
            <a:ext cx="50472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203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203640" y="20797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203640" y="21718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203640" y="2262240"/>
            <a:ext cx="12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203640" y="23544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298296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3035160" y="276696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089160" y="26701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3151080" y="258444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063960" y="14986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Эп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4021200" y="2166840"/>
            <a:ext cx="842760" cy="5763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4824360" y="260028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997440" y="271764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4024440" y="2405160"/>
            <a:ext cx="104760" cy="328680"/>
          </a:xfrm>
          <a:custGeom>
            <a:avLst/>
            <a:gdLst/>
            <a:ahLst/>
            <a:rect l="l" t="t" r="r" b="b"/>
            <a:pathLst>
              <a:path w="66" h="207">
                <a:moveTo>
                  <a:pt x="0" y="207"/>
                </a:moveTo>
                <a:cubicBezTo>
                  <a:pt x="11" y="173"/>
                  <a:pt x="52" y="43"/>
                  <a:pt x="6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871800" y="1969920"/>
            <a:ext cx="331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718080" y="226224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113360" y="2371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025880" y="2392200"/>
            <a:ext cx="108000" cy="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997440" y="2371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726080" y="247824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38164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5118120" y="2133720"/>
            <a:ext cx="53496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381640" y="19908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381640" y="208116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381640" y="2173320"/>
            <a:ext cx="23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376960" y="226368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376960" y="23605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H="1">
            <a:off x="5119560" y="28544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191200" y="276876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5267160" y="26719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5329080" y="2585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3179880" y="24494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354640" y="2482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380200" y="1628640"/>
            <a:ext cx="3697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727440" y="1989000"/>
            <a:ext cx="1655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203640" y="2852640"/>
            <a:ext cx="1944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16428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 flipH="1">
            <a:off x="5900400" y="2262240"/>
            <a:ext cx="53964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168960" y="19908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167520" y="226368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59600" y="236052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5895720" y="276876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H="1">
            <a:off x="6011640" y="2671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6111720" y="2585880"/>
            <a:ext cx="4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137280" y="249696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180120" y="1709640"/>
            <a:ext cx="37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364000" y="247824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796000" y="2809800"/>
            <a:ext cx="436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951600" y="19908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924600" y="2536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967440" y="1712880"/>
            <a:ext cx="3762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573960" y="2809800"/>
            <a:ext cx="4460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56360" y="2478240"/>
            <a:ext cx="792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5651640" y="1989000"/>
            <a:ext cx="4935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443640" y="1989000"/>
            <a:ext cx="668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5373720" y="285264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146640" y="2852640"/>
            <a:ext cx="5050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165720" y="244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114640" y="22766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556000" y="230040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556000" y="225252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728800" y="2305080"/>
            <a:ext cx="0" cy="16200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24120" y="2143080"/>
            <a:ext cx="0" cy="10800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700360" y="22017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665440" y="197964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109960" y="227664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79760" y="227664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109960" y="3002040"/>
            <a:ext cx="46800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114640" y="29829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08440" y="1585800"/>
            <a:ext cx="1052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4741920" y="14508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Arial Narrow"/>
              </a:rPr>
              <a:t>Для идеального упругопластического материала:</a:t>
            </a:r>
            <a:r>
              <a:rPr b="1" lang="en-US" sz="1800" spc="-1" strike="noStrike">
                <a:solidFill>
                  <a:srgbClr val="8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4133880" y="2391480"/>
            <a:ext cx="504720" cy="1800"/>
          </a:xfrm>
          <a:custGeom>
            <a:avLst/>
            <a:gdLst/>
            <a:ahLst/>
            <a:rect l="l" t="t" r="r" b="b"/>
            <a:pathLst>
              <a:path w="66" h="207">
                <a:moveTo>
                  <a:pt x="0" y="207"/>
                </a:moveTo>
                <a:cubicBezTo>
                  <a:pt x="11" y="173"/>
                  <a:pt x="52" y="43"/>
                  <a:pt x="6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5651640" y="19890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170760" y="20844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168960" y="21812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5894280" y="285768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6438960" y="19890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00760" y="2771640"/>
            <a:ext cx="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6676920" y="256068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683400" y="28526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6678360" y="27576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6683400" y="266076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953400" y="19890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953400" y="207972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953400" y="25560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6958080" y="21812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958080" y="22766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958080" y="23828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6958080" y="24732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673680" y="255600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7226280" y="19843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487760" y="301788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дносторонняя текуче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5487840" y="301608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Двухсторонняя текуче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345360" y="3029040"/>
            <a:ext cx="136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Предель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остояние –  </a:t>
            </a:r>
            <a:r>
              <a:rPr b="1" i="1" lang="en-US" sz="1200" spc="-1" strike="noStrike">
                <a:solidFill>
                  <a:srgbClr val="800000"/>
                </a:solidFill>
                <a:latin typeface="Times New Roman"/>
              </a:rPr>
              <a:t>пла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00"/>
                </a:solidFill>
                <a:latin typeface="Times New Roman"/>
              </a:rPr>
              <a:t>шарн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6497640" y="198900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7751880" y="3333600"/>
            <a:ext cx="676080" cy="862200"/>
          </a:xfrm>
          <a:custGeom>
            <a:avLst/>
            <a:gdLst/>
            <a:ahLst/>
            <a:rect l="l" t="t" r="r" b="b"/>
            <a:pathLst>
              <a:path w="426" h="543">
                <a:moveTo>
                  <a:pt x="210" y="0"/>
                </a:moveTo>
                <a:cubicBezTo>
                  <a:pt x="185" y="1"/>
                  <a:pt x="152" y="14"/>
                  <a:pt x="132" y="33"/>
                </a:cubicBezTo>
                <a:cubicBezTo>
                  <a:pt x="112" y="52"/>
                  <a:pt x="103" y="69"/>
                  <a:pt x="87" y="114"/>
                </a:cubicBezTo>
                <a:cubicBezTo>
                  <a:pt x="71" y="159"/>
                  <a:pt x="46" y="247"/>
                  <a:pt x="33" y="303"/>
                </a:cubicBezTo>
                <a:cubicBezTo>
                  <a:pt x="20" y="359"/>
                  <a:pt x="0" y="416"/>
                  <a:pt x="9" y="453"/>
                </a:cubicBezTo>
                <a:cubicBezTo>
                  <a:pt x="18" y="490"/>
                  <a:pt x="54" y="510"/>
                  <a:pt x="87" y="525"/>
                </a:cubicBezTo>
                <a:cubicBezTo>
                  <a:pt x="120" y="540"/>
                  <a:pt x="166" y="543"/>
                  <a:pt x="207" y="543"/>
                </a:cubicBezTo>
                <a:cubicBezTo>
                  <a:pt x="248" y="543"/>
                  <a:pt x="301" y="543"/>
                  <a:pt x="336" y="528"/>
                </a:cubicBezTo>
                <a:cubicBezTo>
                  <a:pt x="371" y="513"/>
                  <a:pt x="408" y="490"/>
                  <a:pt x="417" y="453"/>
                </a:cubicBezTo>
                <a:cubicBezTo>
                  <a:pt x="426" y="416"/>
                  <a:pt x="405" y="363"/>
                  <a:pt x="390" y="306"/>
                </a:cubicBezTo>
                <a:cubicBezTo>
                  <a:pt x="375" y="249"/>
                  <a:pt x="345" y="154"/>
                  <a:pt x="327" y="108"/>
                </a:cubicBezTo>
                <a:cubicBezTo>
                  <a:pt x="309" y="62"/>
                  <a:pt x="302" y="45"/>
                  <a:pt x="282" y="27"/>
                </a:cubicBezTo>
                <a:cubicBezTo>
                  <a:pt x="262" y="9"/>
                  <a:pt x="225" y="6"/>
                  <a:pt x="21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745400" y="3816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8604360" y="364824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7753320" y="3862440"/>
            <a:ext cx="679320" cy="333360"/>
          </a:xfrm>
          <a:custGeom>
            <a:avLst/>
            <a:gdLst/>
            <a:ahLst/>
            <a:rect l="l" t="t" r="r" b="b"/>
            <a:pathLst>
              <a:path w="428" h="210">
                <a:moveTo>
                  <a:pt x="28" y="0"/>
                </a:moveTo>
                <a:cubicBezTo>
                  <a:pt x="13" y="54"/>
                  <a:pt x="0" y="88"/>
                  <a:pt x="10" y="120"/>
                </a:cubicBezTo>
                <a:cubicBezTo>
                  <a:pt x="20" y="152"/>
                  <a:pt x="55" y="177"/>
                  <a:pt x="88" y="192"/>
                </a:cubicBezTo>
                <a:cubicBezTo>
                  <a:pt x="121" y="207"/>
                  <a:pt x="167" y="210"/>
                  <a:pt x="208" y="210"/>
                </a:cubicBezTo>
                <a:cubicBezTo>
                  <a:pt x="249" y="210"/>
                  <a:pt x="302" y="210"/>
                  <a:pt x="337" y="195"/>
                </a:cubicBezTo>
                <a:cubicBezTo>
                  <a:pt x="372" y="180"/>
                  <a:pt x="408" y="152"/>
                  <a:pt x="418" y="120"/>
                </a:cubicBezTo>
                <a:cubicBezTo>
                  <a:pt x="428" y="88"/>
                  <a:pt x="406" y="39"/>
                  <a:pt x="397" y="3"/>
                </a:cubicBezTo>
                <a:cubicBezTo>
                  <a:pt x="337" y="3"/>
                  <a:pt x="94" y="3"/>
                  <a:pt x="28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7439040" y="3870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8082000" y="3139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284960" y="3801960"/>
            <a:ext cx="557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8480520" y="387036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8475840" y="36655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331120" y="3432240"/>
            <a:ext cx="289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846920" y="3016080"/>
            <a:ext cx="289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407440" y="4038480"/>
            <a:ext cx="4474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8196120" y="3141720"/>
            <a:ext cx="4478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8215200" y="4005360"/>
            <a:ext cx="28728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8158320" y="3390480"/>
            <a:ext cx="16812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780240" y="2548080"/>
            <a:ext cx="846000" cy="1652400"/>
          </a:xfrm>
          <a:custGeom>
            <a:avLst/>
            <a:gdLst/>
            <a:ahLst/>
            <a:rect l="l" t="t" r="r" b="b"/>
            <a:pathLst>
              <a:path w="533" h="1041">
                <a:moveTo>
                  <a:pt x="328" y="0"/>
                </a:moveTo>
                <a:cubicBezTo>
                  <a:pt x="316" y="11"/>
                  <a:pt x="272" y="38"/>
                  <a:pt x="253" y="69"/>
                </a:cubicBezTo>
                <a:cubicBezTo>
                  <a:pt x="234" y="100"/>
                  <a:pt x="209" y="153"/>
                  <a:pt x="211" y="189"/>
                </a:cubicBezTo>
                <a:cubicBezTo>
                  <a:pt x="213" y="225"/>
                  <a:pt x="229" y="262"/>
                  <a:pt x="268" y="288"/>
                </a:cubicBezTo>
                <a:cubicBezTo>
                  <a:pt x="307" y="314"/>
                  <a:pt x="405" y="313"/>
                  <a:pt x="448" y="345"/>
                </a:cubicBezTo>
                <a:cubicBezTo>
                  <a:pt x="491" y="377"/>
                  <a:pt x="519" y="433"/>
                  <a:pt x="526" y="480"/>
                </a:cubicBezTo>
                <a:cubicBezTo>
                  <a:pt x="533" y="527"/>
                  <a:pt x="521" y="588"/>
                  <a:pt x="487" y="627"/>
                </a:cubicBezTo>
                <a:cubicBezTo>
                  <a:pt x="453" y="666"/>
                  <a:pt x="382" y="698"/>
                  <a:pt x="322" y="717"/>
                </a:cubicBezTo>
                <a:cubicBezTo>
                  <a:pt x="262" y="736"/>
                  <a:pt x="177" y="726"/>
                  <a:pt x="127" y="744"/>
                </a:cubicBezTo>
                <a:cubicBezTo>
                  <a:pt x="77" y="762"/>
                  <a:pt x="38" y="793"/>
                  <a:pt x="19" y="828"/>
                </a:cubicBezTo>
                <a:cubicBezTo>
                  <a:pt x="0" y="863"/>
                  <a:pt x="2" y="919"/>
                  <a:pt x="13" y="954"/>
                </a:cubicBezTo>
                <a:cubicBezTo>
                  <a:pt x="24" y="989"/>
                  <a:pt x="73" y="1023"/>
                  <a:pt x="88" y="1041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6558120" y="4116240"/>
                <a:ext cx="16142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σ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 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н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в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5" name=""/>
          <p:cNvSpPr/>
          <p:nvPr/>
        </p:nvSpPr>
        <p:spPr>
          <a:xfrm>
            <a:off x="7851600" y="492588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8086680" y="4879800"/>
            <a:ext cx="792360" cy="28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443640" y="5148360"/>
            <a:ext cx="25210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Предельный изгибающий момен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в пластическом шарнир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6372360" y="5497560"/>
                <a:ext cx="2487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σ</m:t>
                            </m:r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н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 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в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y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н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304920" y="3332160"/>
                <a:ext cx="1873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2289240" y="3228840"/>
                <a:ext cx="22478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/2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для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15</m:t>
                              </m:r>
                              <m:r>
                                <m:t xml:space="preserve">…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17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для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7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для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4402080" y="3274920"/>
            <a:ext cx="108000" cy="179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4402080" y="3529080"/>
            <a:ext cx="54000" cy="17928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lnTo>
                  <a:pt x="91" y="0"/>
                </a:lnTo>
                <a:lnTo>
                  <a:pt x="91" y="181"/>
                </a:lnTo>
                <a:lnTo>
                  <a:pt x="0" y="1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457160" y="3529080"/>
            <a:ext cx="53640" cy="179280"/>
          </a:xfrm>
          <a:custGeom>
            <a:avLst/>
            <a:gdLst/>
            <a:ahLst/>
            <a:rect l="l" t="t" r="r" b="b"/>
            <a:pathLst>
              <a:path w="91" h="181">
                <a:moveTo>
                  <a:pt x="0" y="0"/>
                </a:moveTo>
                <a:lnTo>
                  <a:pt x="91" y="0"/>
                </a:lnTo>
                <a:lnTo>
                  <a:pt x="91" y="181"/>
                </a:lnTo>
                <a:lnTo>
                  <a:pt x="0" y="1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375080" y="3770280"/>
            <a:ext cx="17928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03040" y="3976560"/>
            <a:ext cx="446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инематический смысл пластического шарн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66560" y="4651200"/>
            <a:ext cx="2737080" cy="505080"/>
          </a:xfrm>
          <a:prstGeom prst="rect">
            <a:avLst/>
          </a:prstGeom>
          <a:solidFill>
            <a:srgbClr val="dcef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80880" y="5156280"/>
            <a:ext cx="1778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117960" y="5156280"/>
            <a:ext cx="1778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80324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481040" y="4235400"/>
            <a:ext cx="432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617840" y="4648320"/>
            <a:ext cx="366480" cy="7128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1617840" y="5086440"/>
            <a:ext cx="366480" cy="7128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1519200" y="5049720"/>
            <a:ext cx="547560" cy="10800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523880" y="4649760"/>
            <a:ext cx="547920" cy="10800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1427040" y="4979160"/>
            <a:ext cx="792360" cy="17964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403280" y="4651200"/>
            <a:ext cx="792360" cy="17964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34960" y="4757760"/>
            <a:ext cx="7923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1317600" y="4927680"/>
            <a:ext cx="979560" cy="23328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312920" y="4649760"/>
            <a:ext cx="979560" cy="233280"/>
          </a:xfrm>
          <a:custGeom>
            <a:avLst/>
            <a:gdLst/>
            <a:ahLst/>
            <a:rect l="l" t="t" r="r" b="b"/>
            <a:pathLst>
              <a:path w="300" h="51">
                <a:moveTo>
                  <a:pt x="0" y="2"/>
                </a:moveTo>
                <a:cubicBezTo>
                  <a:pt x="98" y="2"/>
                  <a:pt x="210" y="0"/>
                  <a:pt x="300" y="2"/>
                </a:cubicBezTo>
                <a:cubicBezTo>
                  <a:pt x="275" y="9"/>
                  <a:pt x="266" y="9"/>
                  <a:pt x="250" y="14"/>
                </a:cubicBezTo>
                <a:cubicBezTo>
                  <a:pt x="234" y="19"/>
                  <a:pt x="218" y="26"/>
                  <a:pt x="202" y="32"/>
                </a:cubicBezTo>
                <a:cubicBezTo>
                  <a:pt x="186" y="38"/>
                  <a:pt x="188" y="38"/>
                  <a:pt x="156" y="51"/>
                </a:cubicBezTo>
                <a:cubicBezTo>
                  <a:pt x="128" y="40"/>
                  <a:pt x="122" y="36"/>
                  <a:pt x="105" y="30"/>
                </a:cubicBezTo>
                <a:cubicBezTo>
                  <a:pt x="88" y="24"/>
                  <a:pt x="71" y="19"/>
                  <a:pt x="54" y="14"/>
                </a:cubicBezTo>
                <a:cubicBezTo>
                  <a:pt x="37" y="9"/>
                  <a:pt x="27" y="8"/>
                  <a:pt x="0" y="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68360" y="5157720"/>
            <a:ext cx="2735280" cy="76320"/>
          </a:xfrm>
          <a:custGeom>
            <a:avLst/>
            <a:gdLst/>
            <a:ahLst/>
            <a:rect l="l" t="t" r="r" b="b"/>
            <a:pathLst>
              <a:path w="1723" h="93">
                <a:moveTo>
                  <a:pt x="0" y="0"/>
                </a:moveTo>
                <a:cubicBezTo>
                  <a:pt x="98" y="15"/>
                  <a:pt x="217" y="32"/>
                  <a:pt x="317" y="45"/>
                </a:cubicBezTo>
                <a:cubicBezTo>
                  <a:pt x="417" y="58"/>
                  <a:pt x="511" y="70"/>
                  <a:pt x="602" y="78"/>
                </a:cubicBezTo>
                <a:cubicBezTo>
                  <a:pt x="693" y="86"/>
                  <a:pt x="776" y="93"/>
                  <a:pt x="866" y="93"/>
                </a:cubicBezTo>
                <a:cubicBezTo>
                  <a:pt x="956" y="93"/>
                  <a:pt x="1052" y="88"/>
                  <a:pt x="1142" y="81"/>
                </a:cubicBezTo>
                <a:cubicBezTo>
                  <a:pt x="1232" y="74"/>
                  <a:pt x="1309" y="64"/>
                  <a:pt x="1406" y="51"/>
                </a:cubicBezTo>
                <a:cubicBezTo>
                  <a:pt x="1503" y="38"/>
                  <a:pt x="1657" y="11"/>
                  <a:pt x="17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68360" y="5157720"/>
            <a:ext cx="2735280" cy="162000"/>
          </a:xfrm>
          <a:custGeom>
            <a:avLst/>
            <a:gdLst/>
            <a:ahLst/>
            <a:rect l="l" t="t" r="r" b="b"/>
            <a:pathLst>
              <a:path w="1723" h="102">
                <a:moveTo>
                  <a:pt x="0" y="0"/>
                </a:moveTo>
                <a:cubicBezTo>
                  <a:pt x="98" y="15"/>
                  <a:pt x="218" y="32"/>
                  <a:pt x="317" y="45"/>
                </a:cubicBezTo>
                <a:cubicBezTo>
                  <a:pt x="416" y="58"/>
                  <a:pt x="531" y="73"/>
                  <a:pt x="593" y="81"/>
                </a:cubicBezTo>
                <a:cubicBezTo>
                  <a:pt x="655" y="89"/>
                  <a:pt x="662" y="90"/>
                  <a:pt x="692" y="93"/>
                </a:cubicBezTo>
                <a:cubicBezTo>
                  <a:pt x="722" y="96"/>
                  <a:pt x="747" y="97"/>
                  <a:pt x="776" y="99"/>
                </a:cubicBezTo>
                <a:cubicBezTo>
                  <a:pt x="805" y="101"/>
                  <a:pt x="837" y="102"/>
                  <a:pt x="866" y="102"/>
                </a:cubicBezTo>
                <a:cubicBezTo>
                  <a:pt x="895" y="102"/>
                  <a:pt x="924" y="100"/>
                  <a:pt x="953" y="99"/>
                </a:cubicBezTo>
                <a:cubicBezTo>
                  <a:pt x="982" y="98"/>
                  <a:pt x="1007" y="96"/>
                  <a:pt x="1043" y="93"/>
                </a:cubicBezTo>
                <a:cubicBezTo>
                  <a:pt x="1079" y="90"/>
                  <a:pt x="1112" y="88"/>
                  <a:pt x="1172" y="81"/>
                </a:cubicBezTo>
                <a:cubicBezTo>
                  <a:pt x="1232" y="74"/>
                  <a:pt x="1314" y="64"/>
                  <a:pt x="1406" y="51"/>
                </a:cubicBezTo>
                <a:cubicBezTo>
                  <a:pt x="1498" y="38"/>
                  <a:pt x="1657" y="11"/>
                  <a:pt x="17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68360" y="5157720"/>
            <a:ext cx="2735280" cy="352440"/>
          </a:xfrm>
          <a:custGeom>
            <a:avLst/>
            <a:gdLst/>
            <a:ahLst/>
            <a:rect l="l" t="t" r="r" b="b"/>
            <a:pathLst>
              <a:path w="1723" h="177">
                <a:moveTo>
                  <a:pt x="0" y="0"/>
                </a:moveTo>
                <a:cubicBezTo>
                  <a:pt x="98" y="25"/>
                  <a:pt x="221" y="53"/>
                  <a:pt x="317" y="75"/>
                </a:cubicBezTo>
                <a:cubicBezTo>
                  <a:pt x="413" y="97"/>
                  <a:pt x="517" y="121"/>
                  <a:pt x="578" y="135"/>
                </a:cubicBezTo>
                <a:cubicBezTo>
                  <a:pt x="639" y="149"/>
                  <a:pt x="654" y="153"/>
                  <a:pt x="686" y="159"/>
                </a:cubicBezTo>
                <a:cubicBezTo>
                  <a:pt x="718" y="165"/>
                  <a:pt x="743" y="168"/>
                  <a:pt x="773" y="171"/>
                </a:cubicBezTo>
                <a:cubicBezTo>
                  <a:pt x="803" y="174"/>
                  <a:pt x="839" y="177"/>
                  <a:pt x="869" y="177"/>
                </a:cubicBezTo>
                <a:cubicBezTo>
                  <a:pt x="899" y="177"/>
                  <a:pt x="926" y="174"/>
                  <a:pt x="956" y="171"/>
                </a:cubicBezTo>
                <a:cubicBezTo>
                  <a:pt x="986" y="168"/>
                  <a:pt x="1013" y="165"/>
                  <a:pt x="1049" y="159"/>
                </a:cubicBezTo>
                <a:cubicBezTo>
                  <a:pt x="1085" y="153"/>
                  <a:pt x="1116" y="147"/>
                  <a:pt x="1175" y="135"/>
                </a:cubicBezTo>
                <a:cubicBezTo>
                  <a:pt x="1234" y="123"/>
                  <a:pt x="1315" y="107"/>
                  <a:pt x="1406" y="85"/>
                </a:cubicBezTo>
                <a:cubicBezTo>
                  <a:pt x="1497" y="63"/>
                  <a:pt x="1657" y="18"/>
                  <a:pt x="17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68360" y="5157720"/>
            <a:ext cx="2735280" cy="615960"/>
          </a:xfrm>
          <a:custGeom>
            <a:avLst/>
            <a:gdLst/>
            <a:ahLst/>
            <a:rect l="l" t="t" r="r" b="b"/>
            <a:pathLst>
              <a:path w="1723" h="434">
                <a:moveTo>
                  <a:pt x="0" y="0"/>
                </a:moveTo>
                <a:cubicBezTo>
                  <a:pt x="52" y="30"/>
                  <a:pt x="224" y="128"/>
                  <a:pt x="314" y="179"/>
                </a:cubicBezTo>
                <a:cubicBezTo>
                  <a:pt x="404" y="229"/>
                  <a:pt x="476" y="271"/>
                  <a:pt x="539" y="304"/>
                </a:cubicBezTo>
                <a:cubicBezTo>
                  <a:pt x="602" y="337"/>
                  <a:pt x="648" y="359"/>
                  <a:pt x="692" y="378"/>
                </a:cubicBezTo>
                <a:cubicBezTo>
                  <a:pt x="736" y="397"/>
                  <a:pt x="774" y="411"/>
                  <a:pt x="803" y="420"/>
                </a:cubicBezTo>
                <a:cubicBezTo>
                  <a:pt x="832" y="429"/>
                  <a:pt x="845" y="432"/>
                  <a:pt x="866" y="433"/>
                </a:cubicBezTo>
                <a:cubicBezTo>
                  <a:pt x="887" y="434"/>
                  <a:pt x="903" y="434"/>
                  <a:pt x="932" y="426"/>
                </a:cubicBezTo>
                <a:cubicBezTo>
                  <a:pt x="961" y="418"/>
                  <a:pt x="1001" y="405"/>
                  <a:pt x="1043" y="387"/>
                </a:cubicBezTo>
                <a:cubicBezTo>
                  <a:pt x="1085" y="369"/>
                  <a:pt x="1122" y="351"/>
                  <a:pt x="1184" y="319"/>
                </a:cubicBezTo>
                <a:cubicBezTo>
                  <a:pt x="1246" y="287"/>
                  <a:pt x="1325" y="247"/>
                  <a:pt x="1415" y="194"/>
                </a:cubicBezTo>
                <a:cubicBezTo>
                  <a:pt x="1505" y="141"/>
                  <a:pt x="1659" y="41"/>
                  <a:pt x="172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49600" y="5724360"/>
            <a:ext cx="215640" cy="108000"/>
          </a:xfrm>
          <a:prstGeom prst="ellipse">
            <a:avLst/>
          </a:prstGeom>
          <a:solidFill>
            <a:srgbClr val="ffccff">
              <a:alpha val="40000"/>
            </a:srgbClr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813120" y="4524480"/>
            <a:ext cx="2054160" cy="1081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3784680" y="5578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3813120" y="5048280"/>
            <a:ext cx="192240" cy="5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3990960" y="5010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38420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3625920" y="427032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5397480" y="5423040"/>
            <a:ext cx="1152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виз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3794040" y="5029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789360" y="500364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390840" y="4913280"/>
            <a:ext cx="514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400560" y="4653000"/>
            <a:ext cx="514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568680" y="556560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789360" y="4764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832200" y="4788000"/>
            <a:ext cx="1982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019400" y="4803840"/>
            <a:ext cx="1800360" cy="206280"/>
          </a:xfrm>
          <a:custGeom>
            <a:avLst/>
            <a:gdLst/>
            <a:ahLst/>
            <a:rect l="l" t="t" r="r" b="b"/>
            <a:pathLst>
              <a:path w="906" h="130">
                <a:moveTo>
                  <a:pt x="0" y="130"/>
                </a:moveTo>
                <a:cubicBezTo>
                  <a:pt x="5" y="124"/>
                  <a:pt x="16" y="106"/>
                  <a:pt x="30" y="94"/>
                </a:cubicBezTo>
                <a:cubicBezTo>
                  <a:pt x="44" y="82"/>
                  <a:pt x="62" y="68"/>
                  <a:pt x="87" y="58"/>
                </a:cubicBezTo>
                <a:cubicBezTo>
                  <a:pt x="112" y="48"/>
                  <a:pt x="132" y="38"/>
                  <a:pt x="177" y="31"/>
                </a:cubicBezTo>
                <a:cubicBezTo>
                  <a:pt x="222" y="24"/>
                  <a:pt x="291" y="17"/>
                  <a:pt x="357" y="13"/>
                </a:cubicBezTo>
                <a:cubicBezTo>
                  <a:pt x="423" y="9"/>
                  <a:pt x="516" y="7"/>
                  <a:pt x="575" y="5"/>
                </a:cubicBezTo>
                <a:cubicBezTo>
                  <a:pt x="634" y="3"/>
                  <a:pt x="670" y="2"/>
                  <a:pt x="711" y="1"/>
                </a:cubicBezTo>
                <a:cubicBezTo>
                  <a:pt x="752" y="0"/>
                  <a:pt x="787" y="1"/>
                  <a:pt x="819" y="1"/>
                </a:cubicBezTo>
                <a:cubicBezTo>
                  <a:pt x="851" y="1"/>
                  <a:pt x="888" y="1"/>
                  <a:pt x="906" y="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68360" y="625644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5920" y="6261120"/>
            <a:ext cx="17748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3112920" y="6261120"/>
            <a:ext cx="1778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47880" y="5886360"/>
            <a:ext cx="0" cy="3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525680" y="581040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428840" y="5815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797120" y="620064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1931400" y="6064200"/>
            <a:ext cx="35244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1410480" y="6080040"/>
            <a:ext cx="35280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070000" y="5892840"/>
            <a:ext cx="514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177920" y="5892840"/>
            <a:ext cx="514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76280" y="6257880"/>
            <a:ext cx="2724120" cy="152280"/>
          </a:xfrm>
          <a:custGeom>
            <a:avLst/>
            <a:gdLst/>
            <a:ahLst/>
            <a:rect l="l" t="t" r="r" b="b"/>
            <a:pathLst>
              <a:path w="1716" h="96">
                <a:moveTo>
                  <a:pt x="0" y="0"/>
                </a:moveTo>
                <a:lnTo>
                  <a:pt x="853" y="96"/>
                </a:lnTo>
                <a:lnTo>
                  <a:pt x="171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824120" y="6039000"/>
            <a:ext cx="0" cy="32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501920" y="596268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405080" y="596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773360" y="635328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 flipH="1" flipV="1">
            <a:off x="1908000" y="6216480"/>
            <a:ext cx="35280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1386720" y="6232680"/>
            <a:ext cx="35280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065320" y="6045120"/>
            <a:ext cx="514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44440" y="6035760"/>
            <a:ext cx="5144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184560" y="579420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 Narrow"/>
              </a:rPr>
              <a:t>Предельная (разрушающая) нагрузк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3492360" y="6091200"/>
                <a:ext cx="939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 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2" name=""/>
          <p:cNvSpPr/>
          <p:nvPr/>
        </p:nvSpPr>
        <p:spPr>
          <a:xfrm>
            <a:off x="4527720" y="6292800"/>
            <a:ext cx="322200" cy="163440"/>
          </a:xfrm>
          <a:prstGeom prst="rightArrow">
            <a:avLst>
              <a:gd name="adj1" fmla="val 50000"/>
              <a:gd name="adj2" fmla="val 492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4957920" y="6075360"/>
                <a:ext cx="1008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4" name=""/>
          <p:cNvSpPr/>
          <p:nvPr/>
        </p:nvSpPr>
        <p:spPr>
          <a:xfrm>
            <a:off x="4087800" y="4405320"/>
            <a:ext cx="25192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Для прямоугольного сеч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в упругопластической стади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4183200" y="4827600"/>
                <a:ext cx="21938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4646520" y="3508200"/>
                <a:ext cx="10144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5753160" y="3413160"/>
            <a:ext cx="434880" cy="590400"/>
          </a:xfrm>
          <a:custGeom>
            <a:avLst/>
            <a:gdLst/>
            <a:ahLst/>
            <a:rect l="l" t="t" r="r" b="b"/>
            <a:pathLst>
              <a:path w="274" h="372">
                <a:moveTo>
                  <a:pt x="101" y="364"/>
                </a:moveTo>
                <a:cubicBezTo>
                  <a:pt x="78" y="355"/>
                  <a:pt x="45" y="336"/>
                  <a:pt x="29" y="312"/>
                </a:cubicBezTo>
                <a:cubicBezTo>
                  <a:pt x="13" y="288"/>
                  <a:pt x="0" y="263"/>
                  <a:pt x="5" y="220"/>
                </a:cubicBezTo>
                <a:cubicBezTo>
                  <a:pt x="10" y="177"/>
                  <a:pt x="36" y="89"/>
                  <a:pt x="57" y="52"/>
                </a:cubicBezTo>
                <a:cubicBezTo>
                  <a:pt x="78" y="15"/>
                  <a:pt x="108" y="0"/>
                  <a:pt x="133" y="0"/>
                </a:cubicBezTo>
                <a:cubicBezTo>
                  <a:pt x="158" y="0"/>
                  <a:pt x="186" y="15"/>
                  <a:pt x="209" y="52"/>
                </a:cubicBezTo>
                <a:cubicBezTo>
                  <a:pt x="232" y="89"/>
                  <a:pt x="264" y="180"/>
                  <a:pt x="269" y="224"/>
                </a:cubicBezTo>
                <a:cubicBezTo>
                  <a:pt x="274" y="268"/>
                  <a:pt x="258" y="293"/>
                  <a:pt x="241" y="316"/>
                </a:cubicBezTo>
                <a:cubicBezTo>
                  <a:pt x="224" y="339"/>
                  <a:pt x="192" y="356"/>
                  <a:pt x="169" y="364"/>
                </a:cubicBezTo>
                <a:cubicBezTo>
                  <a:pt x="146" y="372"/>
                  <a:pt x="115" y="364"/>
                  <a:pt x="101" y="364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753160" y="3733920"/>
            <a:ext cx="433440" cy="268200"/>
          </a:xfrm>
          <a:custGeom>
            <a:avLst/>
            <a:gdLst/>
            <a:ahLst/>
            <a:rect l="l" t="t" r="r" b="b"/>
            <a:pathLst>
              <a:path w="273" h="169">
                <a:moveTo>
                  <a:pt x="8" y="2"/>
                </a:moveTo>
                <a:cubicBezTo>
                  <a:pt x="128" y="2"/>
                  <a:pt x="139" y="2"/>
                  <a:pt x="265" y="0"/>
                </a:cubicBezTo>
                <a:cubicBezTo>
                  <a:pt x="269" y="22"/>
                  <a:pt x="273" y="48"/>
                  <a:pt x="267" y="70"/>
                </a:cubicBezTo>
                <a:cubicBezTo>
                  <a:pt x="261" y="92"/>
                  <a:pt x="244" y="114"/>
                  <a:pt x="227" y="130"/>
                </a:cubicBezTo>
                <a:cubicBezTo>
                  <a:pt x="210" y="146"/>
                  <a:pt x="188" y="159"/>
                  <a:pt x="168" y="164"/>
                </a:cubicBezTo>
                <a:cubicBezTo>
                  <a:pt x="148" y="169"/>
                  <a:pt x="124" y="167"/>
                  <a:pt x="104" y="162"/>
                </a:cubicBezTo>
                <a:cubicBezTo>
                  <a:pt x="84" y="157"/>
                  <a:pt x="62" y="147"/>
                  <a:pt x="46" y="132"/>
                </a:cubicBezTo>
                <a:cubicBezTo>
                  <a:pt x="30" y="117"/>
                  <a:pt x="12" y="92"/>
                  <a:pt x="6" y="70"/>
                </a:cubicBezTo>
                <a:cubicBezTo>
                  <a:pt x="0" y="48"/>
                  <a:pt x="2" y="34"/>
                  <a:pt x="8" y="2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942160" y="3589200"/>
            <a:ext cx="4572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945040" y="3827520"/>
            <a:ext cx="4608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945040" y="361332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5945040" y="385128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54640" y="361008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197760" y="3587760"/>
            <a:ext cx="358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156120" y="2444760"/>
            <a:ext cx="83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816280" y="2822400"/>
            <a:ext cx="51732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247920" y="174780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643280" y="2160720"/>
            <a:ext cx="801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4991040" y="2811600"/>
            <a:ext cx="51768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7156440" y="2671920"/>
                <a:ext cx="17463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7257960" y="2276640"/>
                <a:ext cx="1594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2" dur="indefinite" restart="never" nodeType="tmRoot">
          <p:childTnLst>
            <p:seq>
              <p:cTn id="5443" dur="indefinite" nodeType="mainSeq">
                <p:childTnLst>
                  <p:par>
                    <p:cTn id="5444" fill="hold">
                      <p:stCondLst>
                        <p:cond delay="0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4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7" dur="1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0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3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6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2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5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8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1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7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0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93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97" dur="80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8" dur="80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9" dur="80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9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4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5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0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3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6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9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2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5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8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4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47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9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2" dur="8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3" dur="8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4" dur="80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5" fill="hold">
                      <p:stCondLst>
                        <p:cond delay="indefinite"/>
                      </p:stCondLst>
                      <p:childTnLst>
                        <p:par>
                          <p:cTn id="5576" fill="hold">
                            <p:stCondLst>
                              <p:cond delay="0"/>
                            </p:stCondLst>
                            <p:childTnLst>
                              <p:par>
                                <p:cTn id="5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9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0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4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5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0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4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7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1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2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2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4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7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0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7" dur="8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8" dur="8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9" dur="80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0" fill="hold">
                            <p:stCondLst>
                              <p:cond delay="3560"/>
                            </p:stCondLst>
                            <p:childTnLst>
                              <p:par>
                                <p:cTn id="56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4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5" dur="10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6" fill="hold">
                      <p:stCondLst>
                        <p:cond delay="indefinite"/>
                      </p:stCondLst>
                      <p:childTnLst>
                        <p:par>
                          <p:cTn id="5657" fill="hold">
                            <p:stCondLst>
                              <p:cond delay="0"/>
                            </p:stCondLst>
                            <p:childTnLst>
                              <p:par>
                                <p:cTn id="56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3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6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7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3" fill="hold">
                      <p:stCondLst>
                        <p:cond delay="indefinite"/>
                      </p:stCondLst>
                      <p:childTnLst>
                        <p:par>
                          <p:cTn id="5674" fill="hold">
                            <p:stCondLst>
                              <p:cond delay="0"/>
                            </p:stCondLst>
                            <p:childTnLst>
                              <p:par>
                                <p:cTn id="5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7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9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2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3" dur="10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8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4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8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2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2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3" fill="hold">
                      <p:stCondLst>
                        <p:cond delay="indefinite"/>
                      </p:stCondLst>
                      <p:childTnLst>
                        <p:par>
                          <p:cTn id="5714" fill="hold">
                            <p:stCondLst>
                              <p:cond delay="0"/>
                            </p:stCondLst>
                            <p:childTnLst>
                              <p:par>
                                <p:cTn id="5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7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2" fill="hold">
                      <p:stCondLst>
                        <p:cond delay="indefinite"/>
                      </p:stCondLst>
                      <p:childTnLst>
                        <p:par>
                          <p:cTn id="5723" fill="hold">
                            <p:stCondLst>
                              <p:cond delay="0"/>
                            </p:stCondLst>
                            <p:childTnLst>
                              <p:par>
                                <p:cTn id="5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6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7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8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1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2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4" fill="hold">
                      <p:stCondLst>
                        <p:cond delay="indefinite"/>
                      </p:stCondLst>
                      <p:childTnLst>
                        <p:par>
                          <p:cTn id="5735" fill="hold">
                            <p:stCondLst>
                              <p:cond delay="0"/>
                            </p:stCondLst>
                            <p:childTnLst>
                              <p:par>
                                <p:cTn id="5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8" dur="8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9" dur="8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0" dur="8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920"/>
                            </p:stCondLst>
                            <p:childTnLst>
                              <p:par>
                                <p:cTn id="57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44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5" fill="hold">
                            <p:stCondLst>
                              <p:cond delay="3920"/>
                            </p:stCondLst>
                            <p:childTnLst>
                              <p:par>
                                <p:cTn id="57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8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1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4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7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0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3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6" dur="1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9" dur="1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0" fill="hold">
                      <p:stCondLst>
                        <p:cond delay="indefinite"/>
                      </p:stCondLst>
                      <p:childTnLst>
                        <p:par>
                          <p:cTn id="5771" fill="hold">
                            <p:stCondLst>
                              <p:cond delay="0"/>
                            </p:stCondLst>
                            <p:childTnLst>
                              <p:par>
                                <p:cTn id="57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4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5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6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1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2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6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2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9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0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1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2" fill="hold">
                      <p:stCondLst>
                        <p:cond delay="indefinite"/>
                      </p:stCondLst>
                      <p:childTnLst>
                        <p:par>
                          <p:cTn id="5803" fill="hold">
                            <p:stCondLst>
                              <p:cond delay="0"/>
                            </p:stCondLst>
                            <p:childTnLst>
                              <p:par>
                                <p:cTn id="5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6" dur="8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7" dur="8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8" dur="80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9" fill="hold">
                      <p:stCondLst>
                        <p:cond delay="indefinite"/>
                      </p:stCondLst>
                      <p:childTnLst>
                        <p:par>
                          <p:cTn id="5810" fill="hold">
                            <p:stCondLst>
                              <p:cond delay="0"/>
                            </p:stCondLst>
                            <p:childTnLst>
                              <p:par>
                                <p:cTn id="5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3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4" dur="1000" fill="hold"/>
                                        <p:tgtEl>
                                          <p:spTgt spid="1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5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8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9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0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3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5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6" fill="hold">
                      <p:stCondLst>
                        <p:cond delay="indefinite"/>
                      </p:stCondLst>
                      <p:childTnLst>
                        <p:par>
                          <p:cTn id="5827" fill="hold">
                            <p:stCondLst>
                              <p:cond delay="0"/>
                            </p:stCondLst>
                            <p:childTnLst>
                              <p:par>
                                <p:cTn id="5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0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1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2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5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6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7" dur="10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8" fill="hold">
                      <p:stCondLst>
                        <p:cond delay="indefinite"/>
                      </p:stCondLst>
                      <p:childTnLst>
                        <p:par>
                          <p:cTn id="5839" fill="hold">
                            <p:stCondLst>
                              <p:cond delay="0"/>
                            </p:stCondLst>
                            <p:childTnLst>
                              <p:par>
                                <p:cTn id="58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2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3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4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5" fill="hold">
                      <p:stCondLst>
                        <p:cond delay="indefinite"/>
                      </p:stCondLst>
                      <p:childTnLst>
                        <p:par>
                          <p:cTn id="5846" fill="hold">
                            <p:stCondLst>
                              <p:cond delay="0"/>
                            </p:stCondLst>
                            <p:childTnLst>
                              <p:par>
                                <p:cTn id="5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9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0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1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4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5" dur="10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6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9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0" fill="hold">
                      <p:stCondLst>
                        <p:cond delay="indefinite"/>
                      </p:stCondLst>
                      <p:childTnLst>
                        <p:par>
                          <p:cTn id="5861" fill="hold">
                            <p:stCondLst>
                              <p:cond delay="0"/>
                            </p:stCondLst>
                            <p:childTnLst>
                              <p:par>
                                <p:cTn id="58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6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0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1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2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5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6" dur="1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7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0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1" fill="hold">
                      <p:stCondLst>
                        <p:cond delay="indefinite"/>
                      </p:stCondLst>
                      <p:childTnLst>
                        <p:par>
                          <p:cTn id="5882" fill="hold">
                            <p:stCondLst>
                              <p:cond delay="0"/>
                            </p:stCondLst>
                            <p:childTnLst>
                              <p:par>
                                <p:cTn id="58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4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87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1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2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3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6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7" dur="10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8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1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2" fill="hold">
                      <p:stCondLst>
                        <p:cond delay="indefinite"/>
                      </p:stCondLst>
                      <p:childTnLst>
                        <p:par>
                          <p:cTn id="5903" fill="hold">
                            <p:stCondLst>
                              <p:cond delay="0"/>
                            </p:stCondLst>
                            <p:childTnLst>
                              <p:par>
                                <p:cTn id="59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5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08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2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3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4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7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8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9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2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3" fill="hold">
                      <p:stCondLst>
                        <p:cond delay="indefinite"/>
                      </p:stCondLst>
                      <p:childTnLst>
                        <p:par>
                          <p:cTn id="5924" fill="hold">
                            <p:stCondLst>
                              <p:cond delay="0"/>
                            </p:stCondLst>
                            <p:childTnLst>
                              <p:par>
                                <p:cTn id="5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7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8" fill="hold">
                      <p:stCondLst>
                        <p:cond delay="indefinite"/>
                      </p:stCondLst>
                      <p:childTnLst>
                        <p:par>
                          <p:cTn id="5929" fill="hold">
                            <p:stCondLst>
                              <p:cond delay="0"/>
                            </p:stCondLst>
                            <p:childTnLst>
                              <p:par>
                                <p:cTn id="59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2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5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8" dur="2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1" dur="2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4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1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5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8" dur="10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1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5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9" dur="1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0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3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4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5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79" dur="2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0" fill="hold">
                      <p:stCondLst>
                        <p:cond delay="indefinite"/>
                      </p:stCondLst>
                      <p:childTnLst>
                        <p:par>
                          <p:cTn id="5981" fill="hold">
                            <p:stCondLst>
                              <p:cond delay="0"/>
                            </p:stCondLst>
                            <p:childTnLst>
                              <p:par>
                                <p:cTn id="5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4" dur="8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5" dur="8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6" dur="80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7" fill="hold">
                            <p:stCondLst>
                              <p:cond delay="2040"/>
                            </p:stCondLst>
                            <p:childTnLst>
                              <p:par>
                                <p:cTn id="59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0" dur="10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1" fill="hold">
                      <p:stCondLst>
                        <p:cond delay="indefinite"/>
                      </p:stCondLst>
                      <p:childTnLst>
                        <p:par>
                          <p:cTn id="5992" fill="hold">
                            <p:stCondLst>
                              <p:cond delay="0"/>
                            </p:stCondLst>
                            <p:childTnLst>
                              <p:par>
                                <p:cTn id="5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5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8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1" dur="10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4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7" dur="10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8" fill="hold">
                      <p:stCondLst>
                        <p:cond delay="indefinite"/>
                      </p:stCondLst>
                      <p:childTnLst>
                        <p:par>
                          <p:cTn id="6009" fill="hold">
                            <p:stCondLst>
                              <p:cond delay="0"/>
                            </p:stCondLst>
                            <p:childTnLst>
                              <p:par>
                                <p:cTn id="60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2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5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8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1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4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5" fill="hold">
                      <p:stCondLst>
                        <p:cond delay="indefinite"/>
                      </p:stCondLst>
                      <p:childTnLst>
                        <p:par>
                          <p:cTn id="6026" fill="hold">
                            <p:stCondLst>
                              <p:cond delay="0"/>
                            </p:stCondLst>
                            <p:childTnLst>
                              <p:par>
                                <p:cTn id="60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8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1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3" nodeType="with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6034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37" dur="10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0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3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6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49" dur="1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52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6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9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2" dur="10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8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1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4" dur="1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7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0" dur="1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1" fill="hold">
                      <p:stCondLst>
                        <p:cond delay="indefinite"/>
                      </p:stCondLst>
                      <p:childTnLst>
                        <p:par>
                          <p:cTn id="6082" fill="hold">
                            <p:stCondLst>
                              <p:cond delay="0"/>
                            </p:stCondLst>
                            <p:childTnLst>
                              <p:par>
                                <p:cTn id="60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5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6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7" dur="80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8" fill="hold">
                            <p:stCondLst>
                              <p:cond delay="1320"/>
                            </p:stCondLst>
                            <p:childTnLst>
                              <p:par>
                                <p:cTn id="60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91" dur="1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2" fill="hold">
                      <p:stCondLst>
                        <p:cond delay="indefinite"/>
                      </p:stCondLst>
                      <p:childTnLst>
                        <p:par>
                          <p:cTn id="6093" fill="hold">
                            <p:stCondLst>
                              <p:cond delay="0"/>
                            </p:stCondLst>
                            <p:childTnLst>
                              <p:par>
                                <p:cTn id="60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6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7" dur="10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8" dur="10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2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1568520" y="8002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Теория предельного равновесия (Т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24000" y="1190520"/>
            <a:ext cx="331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ловие пласт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текучести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696960" y="1754280"/>
            <a:ext cx="1368360" cy="865080"/>
          </a:xfrm>
          <a:prstGeom prst="ellipse">
            <a:avLst/>
          </a:prstGeom>
          <a:gradFill rotWithShape="0">
            <a:gsLst>
              <a:gs pos="0">
                <a:srgbClr val="dceff0"/>
              </a:gs>
              <a:gs pos="100000">
                <a:srgbClr val="9aaba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24000" y="2595600"/>
            <a:ext cx="201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ёсткопластическое т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1563840" y="204624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rot="745800">
            <a:off x="1633680" y="1936440"/>
            <a:ext cx="849240" cy="217440"/>
          </a:xfrm>
          <a:custGeom>
            <a:avLst/>
            <a:gdLst/>
            <a:ahLst/>
            <a:rect l="l" t="t" r="r" b="b"/>
            <a:pathLst>
              <a:path w="544" h="137">
                <a:moveTo>
                  <a:pt x="0" y="137"/>
                </a:moveTo>
                <a:cubicBezTo>
                  <a:pt x="38" y="103"/>
                  <a:pt x="76" y="69"/>
                  <a:pt x="136" y="46"/>
                </a:cubicBezTo>
                <a:cubicBezTo>
                  <a:pt x="196" y="23"/>
                  <a:pt x="294" y="0"/>
                  <a:pt x="362" y="0"/>
                </a:cubicBezTo>
                <a:cubicBezTo>
                  <a:pt x="430" y="0"/>
                  <a:pt x="487" y="23"/>
                  <a:pt x="544" y="46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rot="790800">
            <a:off x="2539800" y="2116080"/>
            <a:ext cx="358560" cy="36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2741760" y="1864800"/>
            <a:ext cx="72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2598840" y="246384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843280" y="2344680"/>
            <a:ext cx="37296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178000" y="2187720"/>
            <a:ext cx="372960" cy="82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 flipH="1">
            <a:off x="2414520" y="2346480"/>
            <a:ext cx="241200" cy="20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2881440" y="1984320"/>
            <a:ext cx="201600" cy="169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132000" y="2286000"/>
            <a:ext cx="4320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660760" y="1631880"/>
            <a:ext cx="43164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171880" y="2441520"/>
            <a:ext cx="43164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1" name=""/>
              <p:cNvSpPr txBox="1"/>
              <p:nvPr/>
            </p:nvSpPr>
            <p:spPr>
              <a:xfrm>
                <a:off x="623880" y="3408480"/>
                <a:ext cx="27622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2" name=""/>
              <p:cNvSpPr txBox="1"/>
              <p:nvPr/>
            </p:nvSpPr>
            <p:spPr>
              <a:xfrm>
                <a:off x="528480" y="3903840"/>
                <a:ext cx="295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3" name=""/>
          <p:cNvSpPr/>
          <p:nvPr/>
        </p:nvSpPr>
        <p:spPr>
          <a:xfrm>
            <a:off x="673200" y="3009960"/>
            <a:ext cx="2962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тенс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пряжений и де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90400" y="4594320"/>
            <a:ext cx="668520" cy="504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87280" y="486720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57120" y="49752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571680" y="50720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590400" y="4805280"/>
            <a:ext cx="596880" cy="290520"/>
          </a:xfrm>
          <a:custGeom>
            <a:avLst/>
            <a:gdLst/>
            <a:ahLst/>
            <a:rect l="l" t="t" r="r" b="b"/>
            <a:pathLst>
              <a:path w="481" h="183">
                <a:moveTo>
                  <a:pt x="0" y="183"/>
                </a:moveTo>
                <a:lnTo>
                  <a:pt x="1" y="0"/>
                </a:lnTo>
                <a:lnTo>
                  <a:pt x="4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0920" y="4581360"/>
            <a:ext cx="3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66640" y="478296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20840" y="4278240"/>
            <a:ext cx="50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77800" y="5437080"/>
            <a:ext cx="2664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е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еска</a:t>
            </a:r>
            <a:r>
              <a:rPr b="1" lang="ru-RU" sz="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н-Вен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332000" y="4476600"/>
            <a:ext cx="2233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Мизеса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убера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1878120" y="4962600"/>
            <a:ext cx="11523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24000" y="5713560"/>
            <a:ext cx="3097080" cy="388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1212840" y="59961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211640" y="458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3490920" y="537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3708360" y="4940280"/>
            <a:ext cx="1008000" cy="865080"/>
          </a:xfrm>
          <a:custGeom>
            <a:avLst/>
            <a:gdLst/>
            <a:ahLst/>
            <a:rect l="l" t="t" r="r" b="b"/>
            <a:pathLst>
              <a:path w="635" h="545">
                <a:moveTo>
                  <a:pt x="0" y="273"/>
                </a:moveTo>
                <a:lnTo>
                  <a:pt x="317" y="0"/>
                </a:lnTo>
                <a:lnTo>
                  <a:pt x="635" y="0"/>
                </a:lnTo>
                <a:lnTo>
                  <a:pt x="635" y="273"/>
                </a:lnTo>
                <a:lnTo>
                  <a:pt x="317" y="545"/>
                </a:lnTo>
                <a:lnTo>
                  <a:pt x="0" y="545"/>
                </a:lnTo>
                <a:lnTo>
                  <a:pt x="0" y="273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rot="19348200">
            <a:off x="3549600" y="4993920"/>
            <a:ext cx="1332000" cy="75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3983040" y="53514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91120" y="5356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92560" y="4915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92560" y="57816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692600" y="5349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689280" y="5356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889440" y="4641840"/>
            <a:ext cx="388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614840" y="5307120"/>
            <a:ext cx="388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419640" y="5056200"/>
            <a:ext cx="388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157640" y="5686560"/>
            <a:ext cx="3888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929120" y="5211720"/>
            <a:ext cx="4669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062240" y="4321080"/>
            <a:ext cx="4669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038400" y="5014800"/>
            <a:ext cx="866880" cy="130320"/>
          </a:xfrm>
          <a:custGeom>
            <a:avLst/>
            <a:gdLst/>
            <a:ahLst/>
            <a:rect l="l" t="t" r="r" b="b"/>
            <a:pathLst>
              <a:path w="632" h="73">
                <a:moveTo>
                  <a:pt x="0" y="52"/>
                </a:moveTo>
                <a:cubicBezTo>
                  <a:pt x="25" y="51"/>
                  <a:pt x="75" y="53"/>
                  <a:pt x="152" y="45"/>
                </a:cubicBezTo>
                <a:cubicBezTo>
                  <a:pt x="229" y="37"/>
                  <a:pt x="384" y="0"/>
                  <a:pt x="464" y="5"/>
                </a:cubicBezTo>
                <a:cubicBezTo>
                  <a:pt x="544" y="10"/>
                  <a:pt x="597" y="59"/>
                  <a:pt x="632" y="73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416400" y="5626080"/>
            <a:ext cx="291960" cy="254160"/>
          </a:xfrm>
          <a:custGeom>
            <a:avLst/>
            <a:gdLst/>
            <a:ahLst/>
            <a:rect l="l" t="t" r="r" b="b"/>
            <a:pathLst>
              <a:path w="176" h="160">
                <a:moveTo>
                  <a:pt x="0" y="160"/>
                </a:moveTo>
                <a:cubicBezTo>
                  <a:pt x="11" y="155"/>
                  <a:pt x="45" y="155"/>
                  <a:pt x="64" y="136"/>
                </a:cubicBezTo>
                <a:cubicBezTo>
                  <a:pt x="83" y="117"/>
                  <a:pt x="97" y="67"/>
                  <a:pt x="116" y="44"/>
                </a:cubicBezTo>
                <a:cubicBezTo>
                  <a:pt x="135" y="21"/>
                  <a:pt x="164" y="9"/>
                  <a:pt x="176" y="0"/>
                </a:cubicBez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211640" y="1197000"/>
            <a:ext cx="43210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овие предельного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едельного равновесия) сечения стержня, пластинки или обол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241800" y="6165720"/>
            <a:ext cx="1439640" cy="378000"/>
          </a:xfrm>
          <a:prstGeom prst="rect">
            <a:avLst/>
          </a:prstGeom>
          <a:solidFill>
            <a:srgbClr val="ffcc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716360" y="2133720"/>
            <a:ext cx="935280" cy="863640"/>
          </a:xfrm>
          <a:custGeom>
            <a:avLst/>
            <a:gdLst/>
            <a:ahLst/>
            <a:rect l="l" t="t" r="r" b="b"/>
            <a:pathLst>
              <a:path w="589" h="544">
                <a:moveTo>
                  <a:pt x="589" y="544"/>
                </a:moveTo>
                <a:lnTo>
                  <a:pt x="0" y="544"/>
                </a:lnTo>
                <a:lnTo>
                  <a:pt x="0" y="0"/>
                </a:lnTo>
                <a:lnTo>
                  <a:pt x="589" y="0"/>
                </a:lnTo>
              </a:path>
            </a:pathLst>
          </a:custGeom>
          <a:gradFill rotWithShape="0">
            <a:gsLst>
              <a:gs pos="0">
                <a:srgbClr val="dceff0"/>
              </a:gs>
              <a:gs pos="100000">
                <a:srgbClr val="808080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651640" y="206064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5503320" y="2408400"/>
            <a:ext cx="43056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572000" y="26179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756400" y="217332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402240" y="2130480"/>
            <a:ext cx="676440" cy="861840"/>
          </a:xfrm>
          <a:custGeom>
            <a:avLst/>
            <a:gdLst/>
            <a:ahLst/>
            <a:rect l="l" t="t" r="r" b="b"/>
            <a:pathLst>
              <a:path w="426" h="543">
                <a:moveTo>
                  <a:pt x="210" y="0"/>
                </a:moveTo>
                <a:cubicBezTo>
                  <a:pt x="185" y="1"/>
                  <a:pt x="152" y="14"/>
                  <a:pt x="132" y="33"/>
                </a:cubicBezTo>
                <a:cubicBezTo>
                  <a:pt x="112" y="52"/>
                  <a:pt x="103" y="69"/>
                  <a:pt x="87" y="114"/>
                </a:cubicBezTo>
                <a:cubicBezTo>
                  <a:pt x="71" y="159"/>
                  <a:pt x="46" y="247"/>
                  <a:pt x="33" y="303"/>
                </a:cubicBezTo>
                <a:cubicBezTo>
                  <a:pt x="20" y="359"/>
                  <a:pt x="0" y="416"/>
                  <a:pt x="9" y="453"/>
                </a:cubicBezTo>
                <a:cubicBezTo>
                  <a:pt x="18" y="490"/>
                  <a:pt x="54" y="510"/>
                  <a:pt x="87" y="525"/>
                </a:cubicBezTo>
                <a:cubicBezTo>
                  <a:pt x="120" y="540"/>
                  <a:pt x="166" y="543"/>
                  <a:pt x="207" y="543"/>
                </a:cubicBezTo>
                <a:cubicBezTo>
                  <a:pt x="248" y="543"/>
                  <a:pt x="301" y="543"/>
                  <a:pt x="336" y="528"/>
                </a:cubicBezTo>
                <a:cubicBezTo>
                  <a:pt x="371" y="513"/>
                  <a:pt x="408" y="490"/>
                  <a:pt x="417" y="453"/>
                </a:cubicBezTo>
                <a:cubicBezTo>
                  <a:pt x="426" y="416"/>
                  <a:pt x="405" y="363"/>
                  <a:pt x="390" y="306"/>
                </a:cubicBezTo>
                <a:cubicBezTo>
                  <a:pt x="375" y="249"/>
                  <a:pt x="345" y="154"/>
                  <a:pt x="327" y="108"/>
                </a:cubicBezTo>
                <a:cubicBezTo>
                  <a:pt x="309" y="62"/>
                  <a:pt x="302" y="45"/>
                  <a:pt x="282" y="27"/>
                </a:cubicBezTo>
                <a:cubicBezTo>
                  <a:pt x="262" y="9"/>
                  <a:pt x="225" y="6"/>
                  <a:pt x="21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527800" y="2133720"/>
            <a:ext cx="12049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573880" y="2997360"/>
            <a:ext cx="10998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396120" y="26179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7243920" y="246384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651640" y="2624040"/>
            <a:ext cx="4680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035760" y="2473200"/>
            <a:ext cx="43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7872480" y="2143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7850160" y="2413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7888320" y="1865160"/>
            <a:ext cx="3762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7494480" y="2962440"/>
            <a:ext cx="4460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6751800" y="2133720"/>
            <a:ext cx="1223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 flipH="1">
            <a:off x="7597800" y="271296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7599240" y="30002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 flipH="1">
            <a:off x="7599240" y="290988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 flipH="1">
            <a:off x="7603920" y="281304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7873920" y="21366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7873920" y="22320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7873920" y="23335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866000" y="243360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7599240" y="244152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8136000" y="213840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719760" y="299736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6500880" y="177336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7602480" y="26240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H="1">
            <a:off x="7602480" y="25304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 flipH="1">
            <a:off x="7597800" y="244152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967440" y="2193840"/>
            <a:ext cx="557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6505560" y="2133720"/>
            <a:ext cx="461880" cy="314280"/>
          </a:xfrm>
          <a:custGeom>
            <a:avLst/>
            <a:gdLst/>
            <a:ahLst/>
            <a:rect l="l" t="t" r="r" b="b"/>
            <a:pathLst>
              <a:path w="291" h="198">
                <a:moveTo>
                  <a:pt x="144" y="0"/>
                </a:moveTo>
                <a:cubicBezTo>
                  <a:pt x="119" y="1"/>
                  <a:pt x="86" y="14"/>
                  <a:pt x="66" y="33"/>
                </a:cubicBezTo>
                <a:cubicBezTo>
                  <a:pt x="46" y="52"/>
                  <a:pt x="32" y="87"/>
                  <a:pt x="21" y="114"/>
                </a:cubicBezTo>
                <a:cubicBezTo>
                  <a:pt x="10" y="141"/>
                  <a:pt x="12" y="150"/>
                  <a:pt x="0" y="195"/>
                </a:cubicBezTo>
                <a:cubicBezTo>
                  <a:pt x="93" y="198"/>
                  <a:pt x="216" y="195"/>
                  <a:pt x="291" y="195"/>
                </a:cubicBezTo>
                <a:cubicBezTo>
                  <a:pt x="273" y="144"/>
                  <a:pt x="273" y="136"/>
                  <a:pt x="261" y="108"/>
                </a:cubicBezTo>
                <a:cubicBezTo>
                  <a:pt x="249" y="80"/>
                  <a:pt x="236" y="45"/>
                  <a:pt x="216" y="27"/>
                </a:cubicBezTo>
                <a:cubicBezTo>
                  <a:pt x="196" y="9"/>
                  <a:pt x="159" y="6"/>
                  <a:pt x="144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 flipH="1">
            <a:off x="6411600" y="2446200"/>
            <a:ext cx="1081080" cy="0"/>
          </a:xfrm>
          <a:prstGeom prst="line">
            <a:avLst/>
          </a:prstGeom>
          <a:ln w="1908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591080" y="301140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592520" y="328788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: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4191120" y="3570120"/>
            <a:ext cx="3620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4932360" y="4017960"/>
                <a:ext cx="21607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6" name=""/>
          <p:cNvSpPr/>
          <p:nvPr/>
        </p:nvSpPr>
        <p:spPr>
          <a:xfrm>
            <a:off x="7974000" y="3852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7378200" y="45655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745400" y="45435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53480" y="4548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54920" y="4106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54920" y="4973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8454960" y="4548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451640" y="4548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020000" y="4570560"/>
            <a:ext cx="5745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8616960" y="4432320"/>
            <a:ext cx="466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805880" y="3619440"/>
            <a:ext cx="466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8323200" y="4589640"/>
            <a:ext cx="5032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451640" y="4967280"/>
            <a:ext cx="6652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37640" y="3890880"/>
            <a:ext cx="57456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470720" y="4125960"/>
            <a:ext cx="1003320" cy="446040"/>
          </a:xfrm>
          <a:custGeom>
            <a:avLst/>
            <a:gdLst/>
            <a:ahLst/>
            <a:rect l="l" t="t" r="r" b="b"/>
            <a:pathLst>
              <a:path w="632" h="281">
                <a:moveTo>
                  <a:pt x="0" y="281"/>
                </a:moveTo>
                <a:cubicBezTo>
                  <a:pt x="15" y="260"/>
                  <a:pt x="57" y="191"/>
                  <a:pt x="88" y="153"/>
                </a:cubicBezTo>
                <a:cubicBezTo>
                  <a:pt x="119" y="115"/>
                  <a:pt x="155" y="76"/>
                  <a:pt x="184" y="53"/>
                </a:cubicBezTo>
                <a:cubicBezTo>
                  <a:pt x="213" y="30"/>
                  <a:pt x="238" y="22"/>
                  <a:pt x="260" y="13"/>
                </a:cubicBezTo>
                <a:cubicBezTo>
                  <a:pt x="282" y="4"/>
                  <a:pt x="296" y="2"/>
                  <a:pt x="316" y="1"/>
                </a:cubicBezTo>
                <a:cubicBezTo>
                  <a:pt x="336" y="0"/>
                  <a:pt x="356" y="1"/>
                  <a:pt x="380" y="9"/>
                </a:cubicBezTo>
                <a:cubicBezTo>
                  <a:pt x="404" y="17"/>
                  <a:pt x="433" y="27"/>
                  <a:pt x="460" y="49"/>
                </a:cubicBezTo>
                <a:cubicBezTo>
                  <a:pt x="487" y="71"/>
                  <a:pt x="515" y="103"/>
                  <a:pt x="544" y="141"/>
                </a:cubicBezTo>
                <a:cubicBezTo>
                  <a:pt x="573" y="179"/>
                  <a:pt x="614" y="249"/>
                  <a:pt x="632" y="27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 flipV="1">
            <a:off x="7472520" y="4568760"/>
            <a:ext cx="1003320" cy="425520"/>
          </a:xfrm>
          <a:custGeom>
            <a:avLst/>
            <a:gdLst/>
            <a:ahLst/>
            <a:rect l="l" t="t" r="r" b="b"/>
            <a:pathLst>
              <a:path w="632" h="281">
                <a:moveTo>
                  <a:pt x="0" y="281"/>
                </a:moveTo>
                <a:cubicBezTo>
                  <a:pt x="15" y="260"/>
                  <a:pt x="57" y="191"/>
                  <a:pt x="88" y="153"/>
                </a:cubicBezTo>
                <a:cubicBezTo>
                  <a:pt x="119" y="115"/>
                  <a:pt x="155" y="76"/>
                  <a:pt x="184" y="53"/>
                </a:cubicBezTo>
                <a:cubicBezTo>
                  <a:pt x="213" y="30"/>
                  <a:pt x="238" y="22"/>
                  <a:pt x="260" y="13"/>
                </a:cubicBezTo>
                <a:cubicBezTo>
                  <a:pt x="282" y="4"/>
                  <a:pt x="296" y="2"/>
                  <a:pt x="316" y="1"/>
                </a:cubicBezTo>
                <a:cubicBezTo>
                  <a:pt x="336" y="0"/>
                  <a:pt x="356" y="1"/>
                  <a:pt x="380" y="9"/>
                </a:cubicBezTo>
                <a:cubicBezTo>
                  <a:pt x="404" y="17"/>
                  <a:pt x="433" y="27"/>
                  <a:pt x="460" y="49"/>
                </a:cubicBezTo>
                <a:cubicBezTo>
                  <a:pt x="487" y="71"/>
                  <a:pt x="515" y="103"/>
                  <a:pt x="544" y="141"/>
                </a:cubicBezTo>
                <a:cubicBezTo>
                  <a:pt x="573" y="179"/>
                  <a:pt x="614" y="249"/>
                  <a:pt x="632" y="27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879800" y="47084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430960" y="4638600"/>
                <a:ext cx="16556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4" name=""/>
          <p:cNvSpPr/>
          <p:nvPr/>
        </p:nvSpPr>
        <p:spPr>
          <a:xfrm>
            <a:off x="5199120" y="5003640"/>
            <a:ext cx="21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V="1">
            <a:off x="6732720" y="19159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807320" y="3621240"/>
            <a:ext cx="466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604360" y="4406760"/>
            <a:ext cx="295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13520" y="3908520"/>
            <a:ext cx="2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8369280" y="43243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164360" y="4329000"/>
            <a:ext cx="4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596360" y="4976640"/>
            <a:ext cx="47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270920" y="5310360"/>
            <a:ext cx="1520640" cy="371160"/>
          </a:xfrm>
          <a:prstGeom prst="rect">
            <a:avLst/>
          </a:prstGeom>
          <a:solidFill>
            <a:srgbClr val="ffcc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,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4951440" y="5600880"/>
            <a:ext cx="25923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тержн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965840" y="6076800"/>
            <a:ext cx="33843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пластин и оболоче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y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6012000" y="5369040"/>
            <a:ext cx="1368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Обобщённ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816440" y="3857760"/>
            <a:ext cx="255420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для прямоугольного сеч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470720" y="4260960"/>
            <a:ext cx="1009800" cy="603000"/>
          </a:xfrm>
          <a:custGeom>
            <a:avLst/>
            <a:gdLst/>
            <a:ahLst/>
            <a:rect l="l" t="t" r="r" b="b"/>
            <a:pathLst>
              <a:path w="636" h="380">
                <a:moveTo>
                  <a:pt x="0" y="192"/>
                </a:moveTo>
                <a:lnTo>
                  <a:pt x="318" y="0"/>
                </a:lnTo>
                <a:lnTo>
                  <a:pt x="636" y="192"/>
                </a:lnTo>
                <a:lnTo>
                  <a:pt x="316" y="380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3" dur="indefinite" restart="never" nodeType="tmRoot">
          <p:childTnLst>
            <p:seq>
              <p:cTn id="6104" dur="indefinite" nodeType="mainSeq">
                <p:childTnLst>
                  <p:par>
                    <p:cTn id="6105" fill="hold">
                      <p:stCondLst>
                        <p:cond delay="0"/>
                      </p:stCondLst>
                      <p:childTnLst>
                        <p:par>
                          <p:cTn id="6106" fill="hold">
                            <p:stCondLst>
                              <p:cond delay="0"/>
                            </p:stCondLst>
                            <p:childTnLst>
                              <p:par>
                                <p:cTn id="6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9" dur="8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0" dur="8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1" dur="8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2" fill="hold">
                      <p:stCondLst>
                        <p:cond delay="indefinite"/>
                      </p:stCondLst>
                      <p:childTnLst>
                        <p:par>
                          <p:cTn id="6113" fill="hold">
                            <p:stCondLst>
                              <p:cond delay="0"/>
                            </p:stCondLst>
                            <p:childTnLst>
                              <p:par>
                                <p:cTn id="6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6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7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8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2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6" dur="8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7" dur="8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8" dur="80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5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8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9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0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4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0" dur="10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3" dur="1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6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9" dur="10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2" dur="1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5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8" dur="1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1" dur="1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2" fill="hold">
                      <p:stCondLst>
                        <p:cond delay="indefinite"/>
                      </p:stCondLst>
                      <p:childTnLst>
                        <p:par>
                          <p:cTn id="6173" fill="hold">
                            <p:stCondLst>
                              <p:cond delay="0"/>
                            </p:stCondLst>
                            <p:childTnLst>
                              <p:par>
                                <p:cTn id="6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6" dur="80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7" dur="80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8" dur="80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9" fill="hold">
                            <p:stCondLst>
                              <p:cond delay="560"/>
                            </p:stCondLst>
                            <p:childTnLst>
                              <p:par>
                                <p:cTn id="6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2" dur="80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3" dur="80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4" dur="80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5" fill="hold">
                            <p:stCondLst>
                              <p:cond delay="1440"/>
                            </p:stCondLst>
                            <p:childTnLst>
                              <p:par>
                                <p:cTn id="6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8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9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0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1" fill="hold">
                            <p:stCondLst>
                              <p:cond delay="2440"/>
                            </p:stCondLst>
                            <p:childTnLst>
                              <p:par>
                                <p:cTn id="6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4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5" dur="1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6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7" fill="hold">
                      <p:stCondLst>
                        <p:cond delay="indefinite"/>
                      </p:stCondLst>
                      <p:childTnLst>
                        <p:par>
                          <p:cTn id="6198" fill="hold">
                            <p:stCondLst>
                              <p:cond delay="0"/>
                            </p:stCondLst>
                            <p:childTnLst>
                              <p:par>
                                <p:cTn id="6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1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2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3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6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7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8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3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6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7" dur="10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8" dur="1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1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2" dur="10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3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7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1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5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6" fill="hold">
                      <p:stCondLst>
                        <p:cond delay="indefinite"/>
                      </p:stCondLst>
                      <p:childTnLst>
                        <p:par>
                          <p:cTn id="6237" fill="hold">
                            <p:stCondLst>
                              <p:cond delay="0"/>
                            </p:stCondLst>
                            <p:childTnLst>
                              <p:par>
                                <p:cTn id="6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0" dur="8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1" dur="8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2" dur="80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3" fill="hold">
                            <p:stCondLst>
                              <p:cond delay="1080"/>
                            </p:stCondLst>
                            <p:childTnLst>
                              <p:par>
                                <p:cTn id="6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6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7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8" dur="1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9" fill="hold">
                      <p:stCondLst>
                        <p:cond delay="indefinite"/>
                      </p:stCondLst>
                      <p:childTnLst>
                        <p:par>
                          <p:cTn id="6250" fill="hold">
                            <p:stCondLst>
                              <p:cond delay="0"/>
                            </p:stCondLst>
                            <p:childTnLst>
                              <p:par>
                                <p:cTn id="6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3" dur="80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4" dur="80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5" dur="80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9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0" dur="10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1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5" dur="10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6" dur="10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7" dur="1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8" fill="hold">
                      <p:stCondLst>
                        <p:cond delay="indefinite"/>
                      </p:stCondLst>
                      <p:childTnLst>
                        <p:par>
                          <p:cTn id="6269" fill="hold">
                            <p:stCondLst>
                              <p:cond delay="0"/>
                            </p:stCondLst>
                            <p:childTnLst>
                              <p:par>
                                <p:cTn id="6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2" dur="1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5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8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1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4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7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1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7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0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2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6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7" fill="hold">
                      <p:stCondLst>
                        <p:cond delay="indefinite"/>
                      </p:stCondLst>
                      <p:childTnLst>
                        <p:par>
                          <p:cTn id="6318" fill="hold">
                            <p:stCondLst>
                              <p:cond delay="0"/>
                            </p:stCondLst>
                            <p:childTnLst>
                              <p:par>
                                <p:cTn id="6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1" dur="1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5" dur="1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6" fill="hold">
                      <p:stCondLst>
                        <p:cond delay="indefinite"/>
                      </p:stCondLst>
                      <p:childTnLst>
                        <p:par>
                          <p:cTn id="6327" fill="hold">
                            <p:stCondLst>
                              <p:cond delay="0"/>
                            </p:stCondLst>
                            <p:childTnLst>
                              <p:par>
                                <p:cTn id="6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0" dur="1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4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5" fill="hold">
                      <p:stCondLst>
                        <p:cond delay="indefinite"/>
                      </p:stCondLst>
                      <p:childTnLst>
                        <p:par>
                          <p:cTn id="6336" fill="hold">
                            <p:stCondLst>
                              <p:cond delay="0"/>
                            </p:stCondLst>
                            <p:childTnLst>
                              <p:par>
                                <p:cTn id="6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9" dur="2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0" fill="hold">
                      <p:stCondLst>
                        <p:cond delay="indefinite"/>
                      </p:stCondLst>
                      <p:childTnLst>
                        <p:par>
                          <p:cTn id="6341" fill="hold">
                            <p:stCondLst>
                              <p:cond delay="0"/>
                            </p:stCondLst>
                            <p:childTnLst>
                              <p:par>
                                <p:cTn id="6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4" dur="80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5" dur="80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46" dur="80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7" fill="hold">
                      <p:stCondLst>
                        <p:cond delay="indefinite"/>
                      </p:stCondLst>
                      <p:childTnLst>
                        <p:par>
                          <p:cTn id="6348" fill="hold">
                            <p:stCondLst>
                              <p:cond delay="0"/>
                            </p:stCondLst>
                            <p:childTnLst>
                              <p:par>
                                <p:cTn id="6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1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4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7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1" dur="1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5" dur="10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9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3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7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8" dur="10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9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0" fill="hold">
                            <p:stCondLst>
                              <p:cond delay="6000"/>
                            </p:stCondLst>
                            <p:childTnLst>
                              <p:par>
                                <p:cTn id="63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3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4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5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3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9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2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5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8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1" dur="10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2" fill="hold">
                      <p:stCondLst>
                        <p:cond delay="indefinite"/>
                      </p:stCondLst>
                      <p:childTnLst>
                        <p:par>
                          <p:cTn id="6403" fill="hold">
                            <p:stCondLst>
                              <p:cond delay="0"/>
                            </p:stCondLst>
                            <p:childTnLst>
                              <p:par>
                                <p:cTn id="6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6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7" dur="1000" fill="hold"/>
                                        <p:tgtEl>
                                          <p:spTgt spid="1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8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1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2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3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7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0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3" dur="1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6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9" dur="10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2" dur="1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5" dur="10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8" dur="1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1" dur="10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4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7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0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3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6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9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2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5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9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0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1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4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5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6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80" dur="10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1" fill="hold">
                      <p:stCondLst>
                        <p:cond delay="indefinite"/>
                      </p:stCondLst>
                      <p:childTnLst>
                        <p:par>
                          <p:cTn id="6482" fill="hold">
                            <p:stCondLst>
                              <p:cond delay="0"/>
                            </p:stCondLst>
                            <p:childTnLst>
                              <p:par>
                                <p:cTn id="6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5" dur="80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6" dur="80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7" dur="80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8" fill="hold">
                      <p:stCondLst>
                        <p:cond delay="indefinite"/>
                      </p:stCondLst>
                      <p:childTnLst>
                        <p:par>
                          <p:cTn id="6489" fill="hold">
                            <p:stCondLst>
                              <p:cond delay="0"/>
                            </p:stCondLst>
                            <p:childTnLst>
                              <p:par>
                                <p:cTn id="6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2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3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4" dur="80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5" fill="hold">
                      <p:stCondLst>
                        <p:cond delay="indefinite"/>
                      </p:stCondLst>
                      <p:childTnLst>
                        <p:par>
                          <p:cTn id="6496" fill="hold">
                            <p:stCondLst>
                              <p:cond delay="0"/>
                            </p:stCondLst>
                            <p:childTnLst>
                              <p:par>
                                <p:cTn id="6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9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0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1" dur="80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2" fill="hold">
                            <p:stCondLst>
                              <p:cond delay="840"/>
                            </p:stCondLst>
                            <p:childTnLst>
                              <p:par>
                                <p:cTn id="6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5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6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7" dur="80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8" fill="hold">
                            <p:stCondLst>
                              <p:cond delay="1880"/>
                            </p:stCondLst>
                            <p:childTnLst>
                              <p:par>
                                <p:cTn id="65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2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3" dur="10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4" fill="hold">
                      <p:stCondLst>
                        <p:cond delay="indefinite"/>
                      </p:stCondLst>
                      <p:childTnLst>
                        <p:par>
                          <p:cTn id="6515" fill="hold">
                            <p:stCondLst>
                              <p:cond delay="0"/>
                            </p:stCondLst>
                            <p:childTnLst>
                              <p:par>
                                <p:cTn id="6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8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9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0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3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5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9" dur="80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0" dur="80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1" dur="80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2" fill="hold">
                      <p:stCondLst>
                        <p:cond delay="indefinite"/>
                      </p:stCondLst>
                      <p:childTnLst>
                        <p:par>
                          <p:cTn id="6533" fill="hold">
                            <p:stCondLst>
                              <p:cond delay="0"/>
                            </p:stCondLst>
                            <p:childTnLst>
                              <p:par>
                                <p:cTn id="6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6" dur="1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3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2" dur="1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5" dur="10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48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1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0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1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2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6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7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8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1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2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3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7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8" dur="10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9" dur="1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2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3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4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8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9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0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3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4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5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9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0" fill="hold">
                      <p:stCondLst>
                        <p:cond delay="indefinite"/>
                      </p:stCondLst>
                      <p:childTnLst>
                        <p:par>
                          <p:cTn id="6601" fill="hold">
                            <p:stCondLst>
                              <p:cond delay="0"/>
                            </p:stCondLst>
                            <p:childTnLst>
                              <p:par>
                                <p:cTn id="6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04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5" fill="hold">
                      <p:stCondLst>
                        <p:cond delay="indefinite"/>
                      </p:stCondLst>
                      <p:childTnLst>
                        <p:par>
                          <p:cTn id="6606" fill="hold">
                            <p:stCondLst>
                              <p:cond delay="0"/>
                            </p:stCondLst>
                            <p:childTnLst>
                              <p:par>
                                <p:cTn id="6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8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1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4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17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0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23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7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8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9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2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3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4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7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8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9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2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3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4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7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8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9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2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3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4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5" fill="hold">
                      <p:stCondLst>
                        <p:cond delay="indefinite"/>
                      </p:stCondLst>
                      <p:childTnLst>
                        <p:par>
                          <p:cTn id="6656" fill="hold">
                            <p:stCondLst>
                              <p:cond delay="0"/>
                            </p:stCondLst>
                            <p:childTnLst>
                              <p:par>
                                <p:cTn id="6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9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0" fill="hold">
                      <p:stCondLst>
                        <p:cond delay="indefinite"/>
                      </p:stCondLst>
                      <p:childTnLst>
                        <p:par>
                          <p:cTn id="6661" fill="hold">
                            <p:stCondLst>
                              <p:cond delay="0"/>
                            </p:stCondLst>
                            <p:childTnLst>
                              <p:par>
                                <p:cTn id="6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4" dur="80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5" dur="80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6" dur="80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7" fill="hold">
                            <p:stCondLst>
                              <p:cond delay="440"/>
                            </p:stCondLst>
                            <p:childTnLst>
                              <p:par>
                                <p:cTn id="66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0" dur="2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1" fill="hold">
                      <p:stCondLst>
                        <p:cond delay="indefinite"/>
                      </p:stCondLst>
                      <p:childTnLst>
                        <p:par>
                          <p:cTn id="6672" fill="hold">
                            <p:stCondLst>
                              <p:cond delay="0"/>
                            </p:stCondLst>
                            <p:childTnLst>
                              <p:par>
                                <p:cTn id="6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5" dur="80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6" dur="80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7" dur="80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8" fill="hold">
                      <p:stCondLst>
                        <p:cond delay="indefinite"/>
                      </p:stCondLst>
                      <p:childTnLst>
                        <p:par>
                          <p:cTn id="6679" fill="hold">
                            <p:stCondLst>
                              <p:cond delay="0"/>
                            </p:stCondLst>
                            <p:childTnLst>
                              <p:par>
                                <p:cTn id="6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2" dur="8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3" dur="8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4" dur="8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568520" y="8002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Теория предельного равновесия (Т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395280" y="1268280"/>
            <a:ext cx="29527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татический метод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132000" y="1268280"/>
            <a:ext cx="3095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Кинематический метод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6227640" y="1266840"/>
            <a:ext cx="2592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Двухсторонняя оценка предельн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478400" y="1163520"/>
            <a:ext cx="0" cy="15408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1407960" y="1150920"/>
            <a:ext cx="0" cy="15408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7524720" y="1163520"/>
            <a:ext cx="0" cy="15408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1403280" y="1171440"/>
            <a:ext cx="6121440" cy="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700200" y="1557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ческая теорема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70000" y="1893960"/>
            <a:ext cx="4249440" cy="109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едельная нагрузк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 ниже 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ую может уравновесить </a:t>
            </a:r>
            <a:r>
              <a:rPr b="1" i="1" lang="ru-RU" sz="1800" spc="-1" strike="noStrike">
                <a:solidFill>
                  <a:srgbClr val="cc0066"/>
                </a:solidFill>
                <a:latin typeface="Arial Narrow"/>
              </a:rPr>
              <a:t>статически допустимо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поле напряжений (усилий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763560" y="2593800"/>
                <a:ext cx="13557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2665440" y="2610000"/>
                <a:ext cx="1312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460440" y="3029040"/>
                <a:ext cx="7635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251000" y="3029040"/>
                <a:ext cx="728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4" name=""/>
          <p:cNvSpPr/>
          <p:nvPr/>
        </p:nvSpPr>
        <p:spPr>
          <a:xfrm>
            <a:off x="414360" y="3068640"/>
            <a:ext cx="38163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                    –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нагрузка,  находящая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в равновесии со статически допустимыми напряжениями (усил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04640" y="3656160"/>
            <a:ext cx="3961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Статически </a:t>
            </a:r>
            <a:r>
              <a:rPr b="1" i="1" lang="en-US" sz="16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допустимы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называе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статически возможно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е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оле) напряжений (усилий)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довлетв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яющее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м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ёму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ы условию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1332000" y="4343400"/>
                <a:ext cx="11649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2973240" y="4332240"/>
                <a:ext cx="12780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8" name=""/>
          <p:cNvSpPr/>
          <p:nvPr/>
        </p:nvSpPr>
        <p:spPr>
          <a:xfrm>
            <a:off x="189000" y="4600440"/>
            <a:ext cx="452736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Times New Roman"/>
              </a:rPr>
              <a:t>Статически возможны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называется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е-деление (поле) напряжений (усилий)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удовле-творяющее  при заданных воздействиях урав-нения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вновесия и статическим граничным услов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816440" y="16876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нематическая теорема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600440" y="2041560"/>
            <a:ext cx="4176720" cy="95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едельная нагрузк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 выше т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ая соответствует </a:t>
            </a:r>
            <a:r>
              <a:rPr b="1" i="1" lang="ru-RU" sz="1800" spc="-1" strike="noStrike">
                <a:solidFill>
                  <a:srgbClr val="cc0066"/>
                </a:solidFill>
                <a:latin typeface="Arial Narrow"/>
              </a:rPr>
              <a:t>кинематически допустимому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лю скоростей перемещений и деформ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6084720" y="2975040"/>
                <a:ext cx="1233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2" name=""/>
          <p:cNvSpPr/>
          <p:nvPr/>
        </p:nvSpPr>
        <p:spPr>
          <a:xfrm>
            <a:off x="4672080" y="4275000"/>
            <a:ext cx="4292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              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</a:rPr>
              <a:t>Кинематически допустимы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ывается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пределение (поле) скоростей перемещений и деформаций, удовлетворяю-щее уравнениям совместности  и  кинемати-ческим граничным услов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44640" y="5307120"/>
            <a:ext cx="5473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общающая (двойственная) теорема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39640" y="5618160"/>
            <a:ext cx="8136000" cy="60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едельная нагрузка является максимальной из всех уравновешиваемых статически допустимыми полями напряжений (усилий) и одновременно минимальной из всех нагрузок,  соответствующих кинематически допустимым</a:t>
            </a:r>
            <a:r>
              <a:rPr b="1" i="1" lang="ru-RU" sz="1600" spc="-1" strike="noStrike">
                <a:solidFill>
                  <a:srgbClr val="cc0066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лям скоростей перемещений и деформа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060720" y="6213600"/>
            <a:ext cx="3024000" cy="403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195720" y="6184800"/>
                <a:ext cx="2754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e>
                      <m:lim>
                        <m:r>
                          <m:t xml:space="preserve">σ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e>
                      <m:lim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lim>
                    </m:limLow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4753080" y="3330720"/>
                <a:ext cx="7524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(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8" name=""/>
          <p:cNvSpPr/>
          <p:nvPr/>
        </p:nvSpPr>
        <p:spPr>
          <a:xfrm>
            <a:off x="4822920" y="3405240"/>
            <a:ext cx="3960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  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нагрузка, найденная для неко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хемы механизма разрушения  с кинемат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чески  допустимым  полем  переме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деформа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5" dur="indefinite" restart="never" nodeType="tmRoot">
          <p:childTnLst>
            <p:seq>
              <p:cTn id="6686" dur="indefinite" nodeType="mainSeq">
                <p:childTnLst>
                  <p:par>
                    <p:cTn id="6687" fill="hold">
                      <p:stCondLst>
                        <p:cond delay="0"/>
                      </p:stCondLst>
                      <p:childTnLst>
                        <p:par>
                          <p:cTn id="6688" fill="hold">
                            <p:stCondLst>
                              <p:cond delay="0"/>
                            </p:stCondLst>
                            <p:childTnLst>
                              <p:par>
                                <p:cTn id="66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1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2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7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8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9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2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4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7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8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9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3" dur="80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4" dur="80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5" dur="80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6" fill="hold">
                            <p:stCondLst>
                              <p:cond delay="2800"/>
                            </p:stCondLst>
                            <p:childTnLst>
                              <p:par>
                                <p:cTn id="67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9" dur="80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0" dur="80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1" dur="80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2" fill="hold">
                            <p:stCondLst>
                              <p:cond delay="3720"/>
                            </p:stCondLst>
                            <p:childTnLst>
                              <p:par>
                                <p:cTn id="67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5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6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7" dur="80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8" fill="hold">
                      <p:stCondLst>
                        <p:cond delay="indefinite"/>
                      </p:stCondLst>
                      <p:childTnLst>
                        <p:par>
                          <p:cTn id="6729" fill="hold">
                            <p:stCondLst>
                              <p:cond delay="0"/>
                            </p:stCondLst>
                            <p:childTnLst>
                              <p:par>
                                <p:cTn id="67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2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3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8" dur="8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9" dur="8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0" dur="80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1" fill="hold">
                            <p:stCondLst>
                              <p:cond delay="5040"/>
                            </p:stCondLst>
                            <p:childTnLst>
                              <p:par>
                                <p:cTn id="6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6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1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2" fill="hold">
                      <p:stCondLst>
                        <p:cond delay="indefinite"/>
                      </p:stCondLst>
                      <p:childTnLst>
                        <p:par>
                          <p:cTn id="6753" fill="hold">
                            <p:stCondLst>
                              <p:cond delay="0"/>
                            </p:stCondLst>
                            <p:childTnLst>
                              <p:par>
                                <p:cTn id="67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7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8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3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4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8" dur="80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9" dur="80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0" dur="80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1" fill="hold">
                      <p:stCondLst>
                        <p:cond delay="indefinite"/>
                      </p:stCondLst>
                      <p:childTnLst>
                        <p:par>
                          <p:cTn id="6772" fill="hold">
                            <p:stCondLst>
                              <p:cond delay="0"/>
                            </p:stCondLst>
                            <p:childTnLst>
                              <p:par>
                                <p:cTn id="67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5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6" dur="1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7" dur="1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8" fill="hold">
                      <p:stCondLst>
                        <p:cond delay="indefinite"/>
                      </p:stCondLst>
                      <p:childTnLst>
                        <p:par>
                          <p:cTn id="6789" fill="hold">
                            <p:stCondLst>
                              <p:cond delay="0"/>
                            </p:stCondLst>
                            <p:childTnLst>
                              <p:par>
                                <p:cTn id="67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2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4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5" fill="hold">
                      <p:stCondLst>
                        <p:cond delay="indefinite"/>
                      </p:stCondLst>
                      <p:childTnLst>
                        <p:par>
                          <p:cTn id="6796" fill="hold">
                            <p:stCondLst>
                              <p:cond delay="0"/>
                            </p:stCondLst>
                            <p:childTnLst>
                              <p:par>
                                <p:cTn id="67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9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0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1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5" dur="80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6" dur="80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7" dur="80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8" fill="hold">
                            <p:stCondLst>
                              <p:cond delay="5440"/>
                            </p:stCondLst>
                            <p:childTnLst>
                              <p:par>
                                <p:cTn id="68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1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2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3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4" fill="hold">
                            <p:stCondLst>
                              <p:cond delay="6440"/>
                            </p:stCondLst>
                            <p:childTnLst>
                              <p:par>
                                <p:cTn id="6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7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8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9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0" fill="hold">
                            <p:stCondLst>
                              <p:cond delay="7440"/>
                            </p:stCondLst>
                            <p:childTnLst>
                              <p:par>
                                <p:cTn id="68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3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4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5" dur="80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6" fill="hold">
                      <p:stCondLst>
                        <p:cond delay="indefinite"/>
                      </p:stCondLst>
                      <p:childTnLst>
                        <p:par>
                          <p:cTn id="6827" fill="hold">
                            <p:stCondLst>
                              <p:cond delay="0"/>
                            </p:stCondLst>
                            <p:childTnLst>
                              <p:par>
                                <p:cTn id="6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0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1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2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3" fill="hold">
                      <p:stCondLst>
                        <p:cond delay="indefinite"/>
                      </p:stCondLst>
                      <p:childTnLst>
                        <p:par>
                          <p:cTn id="6834" fill="hold">
                            <p:stCondLst>
                              <p:cond delay="0"/>
                            </p:stCondLst>
                            <p:childTnLst>
                              <p:par>
                                <p:cTn id="6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7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8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9" dur="1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3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4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5" dur="80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6" fill="hold">
                            <p:stCondLst>
                              <p:cond delay="9800"/>
                            </p:stCondLst>
                            <p:childTnLst>
                              <p:par>
                                <p:cTn id="68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9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0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1" dur="10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4" dur="1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568520" y="80028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 Black"/>
              </a:rPr>
              <a:t>Теория предельного равновесия (Т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93560" y="115560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ариационные принципы статики жёсткопластически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730520" y="1506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минимума полной энергии системы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539640" y="1854360"/>
            <a:ext cx="7993080" cy="76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з всех кинематически допустимых</a:t>
            </a:r>
            <a:r>
              <a:rPr b="1" i="1" lang="ru-RU" sz="1800" spc="-1" strike="noStrike">
                <a:solidFill>
                  <a:srgbClr val="cc0066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лей скоростей перемещений (деформ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стинным при заданных воздействиях является то, которому соответствует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минимальная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и  </a:t>
            </a:r>
            <a:r>
              <a:rPr b="1" lang="ru-RU" sz="1800" spc="-1" strike="noStrike">
                <a:solidFill>
                  <a:srgbClr val="cc0066"/>
                </a:solidFill>
                <a:latin typeface="Arial Narrow"/>
              </a:rPr>
              <a:t>равная нулю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полная энергия жёсткопластической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2843280" y="2570040"/>
                <a:ext cx="3240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П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ε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6" name=""/>
          <p:cNvSpPr/>
          <p:nvPr/>
        </p:nvSpPr>
        <p:spPr>
          <a:xfrm>
            <a:off x="852480" y="3017880"/>
            <a:ext cx="7416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нергия диссипации  в пластических зонах  (для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 введёнными шарнирами текучести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ельных усилий на перемещениях механизма разрушения)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 потенциал нагрузк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7621560" y="25988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933480" y="39942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риант записи (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3209760" y="3909960"/>
                <a:ext cx="2644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П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0" name=""/>
          <p:cNvSpPr/>
          <p:nvPr/>
        </p:nvSpPr>
        <p:spPr>
          <a:xfrm>
            <a:off x="7621560" y="3951360"/>
            <a:ext cx="7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I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1004760" y="4334040"/>
                <a:ext cx="10382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2004840" y="4400640"/>
            <a:ext cx="60231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а нагрузки на перемещениях пред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стического мех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157480" y="488808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максимума работы нагрузк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900000" y="5241960"/>
            <a:ext cx="7272360" cy="76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з всех статически допустимых</a:t>
            </a:r>
            <a:r>
              <a:rPr b="1" i="1" lang="en-US" sz="1800" spc="-1" strike="noStrike">
                <a:solidFill>
                  <a:srgbClr val="cc0066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олей напряжений истинным является то, которому соответствует  </a:t>
            </a:r>
            <a:r>
              <a:rPr b="1" i="1" lang="en-US" sz="1800" spc="-1" strike="noStrike">
                <a:solidFill>
                  <a:srgbClr val="333399"/>
                </a:solidFill>
                <a:latin typeface="Arial Narrow"/>
              </a:rPr>
              <a:t>максимум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работы нагрузки,  уравновешивае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этим полем, на </a:t>
            </a:r>
            <a:r>
              <a:rPr b="1" i="1" lang="en-US" sz="1800" spc="-1" strike="noStrike">
                <a:solidFill>
                  <a:srgbClr val="cc0066"/>
                </a:solidFill>
                <a:latin typeface="Arial Narrow"/>
              </a:rPr>
              <a:t>истинны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перемещениях механизма разруш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2441520" y="6075360"/>
                <a:ext cx="1698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4897440" y="6064200"/>
                <a:ext cx="1703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7621560" y="606600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I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284720" y="60897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5" dur="indefinite" restart="never" nodeType="tmRoot">
          <p:childTnLst>
            <p:seq>
              <p:cTn id="6856" dur="indefinite" nodeType="mainSeq">
                <p:childTnLst>
                  <p:par>
                    <p:cTn id="6857" fill="hold">
                      <p:stCondLst>
                        <p:cond delay="0"/>
                      </p:stCondLst>
                      <p:childTnLst>
                        <p:par>
                          <p:cTn id="6858" fill="hold">
                            <p:stCondLst>
                              <p:cond delay="0"/>
                            </p:stCondLst>
                            <p:childTnLst>
                              <p:par>
                                <p:cTn id="68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1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2" fill="hold">
                      <p:stCondLst>
                        <p:cond delay="indefinite"/>
                      </p:stCondLst>
                      <p:childTnLst>
                        <p:par>
                          <p:cTn id="6863" fill="hold">
                            <p:stCondLst>
                              <p:cond delay="0"/>
                            </p:stCondLst>
                            <p:childTnLst>
                              <p:par>
                                <p:cTn id="68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6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7" dur="10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8" dur="1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2" dur="80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3" dur="80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4" dur="80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5" fill="hold">
                            <p:stCondLst>
                              <p:cond delay="8640"/>
                            </p:stCondLst>
                            <p:childTnLst>
                              <p:par>
                                <p:cTn id="68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8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9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0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1" fill="hold">
                            <p:stCondLst>
                              <p:cond delay="9640"/>
                            </p:stCondLst>
                            <p:childTnLst>
                              <p:par>
                                <p:cTn id="68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4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5" fill="hold">
                            <p:stCondLst>
                              <p:cond delay="10140"/>
                            </p:stCondLst>
                            <p:childTnLst>
                              <p:par>
                                <p:cTn id="68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8" dur="80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9" dur="80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0" dur="80"/>
                                        <p:tgtEl>
                                          <p:spTgt spid="1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1" fill="hold">
                      <p:stCondLst>
                        <p:cond delay="indefinite"/>
                      </p:stCondLst>
                      <p:childTnLst>
                        <p:par>
                          <p:cTn id="6892" fill="hold">
                            <p:stCondLst>
                              <p:cond delay="0"/>
                            </p:stCondLst>
                            <p:childTnLst>
                              <p:par>
                                <p:cTn id="68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5" dur="80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6" dur="80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7" dur="80"/>
                                        <p:tgtEl>
                                          <p:spTgt spid="1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8" fill="hold">
                            <p:stCondLst>
                              <p:cond delay="720"/>
                            </p:stCondLst>
                            <p:childTnLst>
                              <p:par>
                                <p:cTn id="68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1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3" dur="10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6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7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8" dur="10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9" fill="hold">
                            <p:stCondLst>
                              <p:cond delay="1720"/>
                            </p:stCondLst>
                            <p:childTnLst>
                              <p:par>
                                <p:cTn id="69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2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3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4" dur="10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5" fill="hold">
                            <p:stCondLst>
                              <p:cond delay="2720"/>
                            </p:stCondLst>
                            <p:childTnLst>
                              <p:par>
                                <p:cTn id="69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8" dur="80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9" dur="80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0" dur="80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1" fill="hold">
                      <p:stCondLst>
                        <p:cond delay="indefinite"/>
                      </p:stCondLst>
                      <p:childTnLst>
                        <p:par>
                          <p:cTn id="6922" fill="hold">
                            <p:stCondLst>
                              <p:cond delay="0"/>
                            </p:stCondLst>
                            <p:childTnLst>
                              <p:par>
                                <p:cTn id="6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5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6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7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1" dur="80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2" dur="80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3" dur="80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4" fill="hold">
                            <p:stCondLst>
                              <p:cond delay="7920"/>
                            </p:stCondLst>
                            <p:childTnLst>
                              <p:par>
                                <p:cTn id="69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7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8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9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2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3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4" dur="1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7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8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9" dur="1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0" fill="hold">
                            <p:stCondLst>
                              <p:cond delay="8920"/>
                            </p:stCondLst>
                            <p:childTnLst>
                              <p:par>
                                <p:cTn id="69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3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4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5" dur="10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776240" y="82404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пределение предельных нагрузок ба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396720" y="162396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68360" y="16239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1230480" y="124128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68360" y="1768320"/>
            <a:ext cx="186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268360" y="196200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2268360" y="1962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371680" y="1746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2338560" y="19191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2338560" y="17305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1900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100980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20816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140184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59228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17827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9861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218268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2371680" y="153972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253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68360" y="1539720"/>
            <a:ext cx="19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68360" y="2298600"/>
            <a:ext cx="19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68360" y="191124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2379600" y="198900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 flipH="1">
            <a:off x="431280" y="22604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2341080" y="226692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289160" y="20462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1280" y="1762200"/>
            <a:ext cx="15843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ечение – постоя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419640" y="119700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Решение ст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495520" y="15667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пределение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статически возможного пол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изгибающих момен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2527200" y="1863720"/>
            <a:ext cx="6437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ифференциальное уравнение равновесия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его решение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1866960" y="203688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1870200" y="2133720"/>
            <a:ext cx="50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flipH="1">
            <a:off x="2341080" y="210348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1829880" y="20955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981080" y="18892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527200" y="2327400"/>
            <a:ext cx="6365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татические граничные условия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d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2371680" y="1293480"/>
            <a:ext cx="0" cy="431640"/>
          </a:xfrm>
          <a:prstGeom prst="line">
            <a:avLst/>
          </a:prstGeom>
          <a:ln w="38160">
            <a:solidFill>
              <a:srgbClr val="cc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030400" y="12477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76280" y="2395440"/>
            <a:ext cx="1914480" cy="803520"/>
          </a:xfrm>
          <a:custGeom>
            <a:avLst/>
            <a:gdLst/>
            <a:ahLst/>
            <a:rect l="l" t="t" r="r" b="b"/>
            <a:pathLst>
              <a:path w="1206" h="506">
                <a:moveTo>
                  <a:pt x="0" y="237"/>
                </a:moveTo>
                <a:cubicBezTo>
                  <a:pt x="0" y="198"/>
                  <a:pt x="0" y="177"/>
                  <a:pt x="0" y="0"/>
                </a:cubicBezTo>
                <a:cubicBezTo>
                  <a:pt x="92" y="96"/>
                  <a:pt x="127" y="137"/>
                  <a:pt x="182" y="188"/>
                </a:cubicBezTo>
                <a:cubicBezTo>
                  <a:pt x="237" y="240"/>
                  <a:pt x="279" y="275"/>
                  <a:pt x="330" y="315"/>
                </a:cubicBezTo>
                <a:cubicBezTo>
                  <a:pt x="381" y="355"/>
                  <a:pt x="436" y="397"/>
                  <a:pt x="489" y="426"/>
                </a:cubicBezTo>
                <a:cubicBezTo>
                  <a:pt x="542" y="455"/>
                  <a:pt x="595" y="480"/>
                  <a:pt x="651" y="492"/>
                </a:cubicBezTo>
                <a:cubicBezTo>
                  <a:pt x="707" y="504"/>
                  <a:pt x="775" y="506"/>
                  <a:pt x="827" y="499"/>
                </a:cubicBezTo>
                <a:cubicBezTo>
                  <a:pt x="879" y="492"/>
                  <a:pt x="918" y="476"/>
                  <a:pt x="962" y="452"/>
                </a:cubicBezTo>
                <a:cubicBezTo>
                  <a:pt x="1006" y="428"/>
                  <a:pt x="1051" y="393"/>
                  <a:pt x="1092" y="357"/>
                </a:cubicBezTo>
                <a:cubicBezTo>
                  <a:pt x="1133" y="321"/>
                  <a:pt x="1182" y="260"/>
                  <a:pt x="1206" y="234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71600" y="2768760"/>
            <a:ext cx="192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77720" y="2392200"/>
            <a:ext cx="287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96960" y="2336760"/>
            <a:ext cx="863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rot="2971200">
            <a:off x="4275360" y="2461320"/>
            <a:ext cx="454320" cy="144360"/>
          </a:xfrm>
          <a:prstGeom prst="rightArrow">
            <a:avLst>
              <a:gd name="adj1" fmla="val 50000"/>
              <a:gd name="adj2" fmla="val 78678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 rot="826200">
            <a:off x="4149360" y="2684520"/>
            <a:ext cx="434880" cy="144360"/>
          </a:xfrm>
          <a:prstGeom prst="rightArrow">
            <a:avLst>
              <a:gd name="adj1" fmla="val 50000"/>
              <a:gd name="adj2" fmla="val 75312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500720" y="2692440"/>
            <a:ext cx="2016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655640" y="2776680"/>
            <a:ext cx="0" cy="4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527200" y="2938320"/>
            <a:ext cx="64375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араметр варьирования статически возможного поля моме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огд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)/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5018040" y="3235320"/>
            <a:ext cx="201600" cy="144360"/>
          </a:xfrm>
          <a:prstGeom prst="rightArrow">
            <a:avLst>
              <a:gd name="adj1" fmla="val 40657"/>
              <a:gd name="adj2" fmla="val 57179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654200" y="2546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649520" y="2597040"/>
            <a:ext cx="744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 flipH="1">
            <a:off x="2352240" y="25653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1619280" y="25639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392200" y="2546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854360" y="2297160"/>
            <a:ext cx="433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1434960" y="3193560"/>
            <a:ext cx="21600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762120" y="3135240"/>
            <a:ext cx="792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050920" y="3889440"/>
            <a:ext cx="53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словия </a:t>
            </a:r>
            <a:r>
              <a:rPr b="1" i="1" lang="en-US" sz="1600" spc="-1" strike="noStrike">
                <a:solidFill>
                  <a:srgbClr val="cc0066"/>
                </a:solidFill>
                <a:latin typeface="Times New Roman"/>
              </a:rPr>
              <a:t>допустимост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статически возможного поля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3780000" y="3390840"/>
                <a:ext cx="404784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1638360" y="4330800"/>
                <a:ext cx="13287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3398760" y="4137120"/>
                <a:ext cx="17938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2" name=""/>
          <p:cNvSpPr/>
          <p:nvPr/>
        </p:nvSpPr>
        <p:spPr>
          <a:xfrm rot="21227400">
            <a:off x="2962440" y="4403880"/>
            <a:ext cx="434880" cy="144360"/>
          </a:xfrm>
          <a:prstGeom prst="rightArrow">
            <a:avLst>
              <a:gd name="adj1" fmla="val 50000"/>
              <a:gd name="adj2" fmla="val 75312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 rot="615000">
            <a:off x="2971440" y="4762440"/>
            <a:ext cx="434880" cy="144360"/>
          </a:xfrm>
          <a:prstGeom prst="rightArrow">
            <a:avLst>
              <a:gd name="adj1" fmla="val 50000"/>
              <a:gd name="adj2" fmla="val 75312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5187960" y="4603680"/>
            <a:ext cx="290520" cy="250920"/>
          </a:xfrm>
          <a:prstGeom prst="rightArrow">
            <a:avLst>
              <a:gd name="adj1" fmla="val 49370"/>
              <a:gd name="adj2" fmla="val 48081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5473800" y="4113360"/>
                <a:ext cx="338436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≤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*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6" name=""/>
          <p:cNvSpPr/>
          <p:nvPr/>
        </p:nvSpPr>
        <p:spPr>
          <a:xfrm>
            <a:off x="611280" y="4486320"/>
            <a:ext cx="2808360" cy="165744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611280" y="5854680"/>
            <a:ext cx="25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611280" y="5278320"/>
            <a:ext cx="25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611280" y="5565600"/>
            <a:ext cx="25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611280" y="498960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611280" y="4702320"/>
            <a:ext cx="865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042920" y="4702320"/>
            <a:ext cx="0" cy="14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476360" y="4702320"/>
            <a:ext cx="0" cy="14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908000" y="527832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2340000" y="527832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771640" y="527832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203640" y="527832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611280" y="5419800"/>
            <a:ext cx="2598480" cy="434880"/>
          </a:xfrm>
          <a:custGeom>
            <a:avLst/>
            <a:gdLst/>
            <a:ahLst/>
            <a:rect l="l" t="t" r="r" b="b"/>
            <a:pathLst>
              <a:path w="1637" h="274">
                <a:moveTo>
                  <a:pt x="0" y="274"/>
                </a:moveTo>
                <a:cubicBezTo>
                  <a:pt x="47" y="271"/>
                  <a:pt x="188" y="266"/>
                  <a:pt x="281" y="258"/>
                </a:cubicBezTo>
                <a:cubicBezTo>
                  <a:pt x="374" y="250"/>
                  <a:pt x="466" y="240"/>
                  <a:pt x="557" y="228"/>
                </a:cubicBezTo>
                <a:cubicBezTo>
                  <a:pt x="648" y="216"/>
                  <a:pt x="738" y="202"/>
                  <a:pt x="827" y="186"/>
                </a:cubicBezTo>
                <a:cubicBezTo>
                  <a:pt x="916" y="170"/>
                  <a:pt x="1001" y="151"/>
                  <a:pt x="1091" y="132"/>
                </a:cubicBezTo>
                <a:cubicBezTo>
                  <a:pt x="1181" y="113"/>
                  <a:pt x="1276" y="94"/>
                  <a:pt x="1367" y="72"/>
                </a:cubicBezTo>
                <a:cubicBezTo>
                  <a:pt x="1458" y="50"/>
                  <a:pt x="1581" y="15"/>
                  <a:pt x="1637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933480" y="4695840"/>
            <a:ext cx="2276280" cy="1257120"/>
          </a:xfrm>
          <a:custGeom>
            <a:avLst/>
            <a:gdLst/>
            <a:ahLst/>
            <a:rect l="l" t="t" r="r" b="b"/>
            <a:pathLst>
              <a:path w="1434" h="792">
                <a:moveTo>
                  <a:pt x="0" y="0"/>
                </a:moveTo>
                <a:cubicBezTo>
                  <a:pt x="10" y="28"/>
                  <a:pt x="37" y="117"/>
                  <a:pt x="66" y="180"/>
                </a:cubicBezTo>
                <a:cubicBezTo>
                  <a:pt x="95" y="243"/>
                  <a:pt x="127" y="317"/>
                  <a:pt x="174" y="378"/>
                </a:cubicBezTo>
                <a:cubicBezTo>
                  <a:pt x="221" y="439"/>
                  <a:pt x="277" y="497"/>
                  <a:pt x="348" y="546"/>
                </a:cubicBezTo>
                <a:cubicBezTo>
                  <a:pt x="419" y="595"/>
                  <a:pt x="511" y="641"/>
                  <a:pt x="600" y="672"/>
                </a:cubicBezTo>
                <a:cubicBezTo>
                  <a:pt x="689" y="703"/>
                  <a:pt x="789" y="716"/>
                  <a:pt x="882" y="732"/>
                </a:cubicBezTo>
                <a:cubicBezTo>
                  <a:pt x="975" y="748"/>
                  <a:pt x="1066" y="758"/>
                  <a:pt x="1158" y="768"/>
                </a:cubicBezTo>
                <a:cubicBezTo>
                  <a:pt x="1250" y="778"/>
                  <a:pt x="1377" y="787"/>
                  <a:pt x="1434" y="79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85920" y="414972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*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2862360" y="5800680"/>
            <a:ext cx="450720" cy="12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252960" y="5548320"/>
            <a:ext cx="71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557440" y="489888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2593800" y="5240160"/>
            <a:ext cx="144720" cy="325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49200" y="614988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03160" y="615168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690560" y="615168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987640" y="6151680"/>
            <a:ext cx="504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2563920" y="6151680"/>
            <a:ext cx="504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195640" y="615168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66840" y="574848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66840" y="545940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76200" y="615168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61800" y="517212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66840" y="487044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361800" y="459576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3362400" y="601668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592200" y="61182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792440" y="57150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8666280" y="239868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 rot="15655800">
            <a:off x="864360" y="480672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 rot="15655800">
            <a:off x="999720" y="5077080"/>
            <a:ext cx="2887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 rot="1419000">
            <a:off x="1205640" y="533232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 rot="1161600">
            <a:off x="1442520" y="550836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941480" y="557856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2268360" y="551016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2589120" y="5440320"/>
            <a:ext cx="28908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2916360" y="5362560"/>
            <a:ext cx="28872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19200" y="5748480"/>
            <a:ext cx="2576520" cy="385560"/>
          </a:xfrm>
          <a:custGeom>
            <a:avLst/>
            <a:gdLst/>
            <a:ahLst/>
            <a:rect l="l" t="t" r="r" b="b"/>
            <a:pathLst>
              <a:path w="1623" h="243">
                <a:moveTo>
                  <a:pt x="0" y="243"/>
                </a:moveTo>
                <a:lnTo>
                  <a:pt x="1623" y="243"/>
                </a:lnTo>
                <a:lnTo>
                  <a:pt x="1623" y="135"/>
                </a:lnTo>
                <a:lnTo>
                  <a:pt x="1428" y="120"/>
                </a:lnTo>
                <a:lnTo>
                  <a:pt x="1239" y="99"/>
                </a:lnTo>
                <a:lnTo>
                  <a:pt x="1107" y="81"/>
                </a:lnTo>
                <a:lnTo>
                  <a:pt x="972" y="60"/>
                </a:lnTo>
                <a:lnTo>
                  <a:pt x="852" y="33"/>
                </a:lnTo>
                <a:lnTo>
                  <a:pt x="753" y="0"/>
                </a:lnTo>
                <a:lnTo>
                  <a:pt x="579" y="27"/>
                </a:lnTo>
                <a:lnTo>
                  <a:pt x="393" y="48"/>
                </a:lnTo>
                <a:lnTo>
                  <a:pt x="201" y="63"/>
                </a:lnTo>
                <a:lnTo>
                  <a:pt x="0" y="75"/>
                </a:lnTo>
                <a:lnTo>
                  <a:pt x="0" y="243"/>
                </a:lnTo>
                <a:close/>
              </a:path>
            </a:pathLst>
          </a:custGeom>
          <a:blipFill rotWithShape="0">
            <a:blip r:embed="rId4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479760" y="530064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статической теореме ТП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1" name=""/>
              <p:cNvSpPr txBox="1"/>
              <p:nvPr/>
            </p:nvSpPr>
            <p:spPr>
              <a:xfrm>
                <a:off x="6537240" y="5300640"/>
                <a:ext cx="1513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α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2" name=""/>
          <p:cNvSpPr/>
          <p:nvPr/>
        </p:nvSpPr>
        <p:spPr>
          <a:xfrm>
            <a:off x="8050320" y="5388120"/>
            <a:ext cx="206280" cy="144360"/>
          </a:xfrm>
          <a:prstGeom prst="rightArrow">
            <a:avLst>
              <a:gd name="adj1" fmla="val 50000"/>
              <a:gd name="adj2" fmla="val 35723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8204040" y="5226120"/>
            <a:ext cx="75096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911760" y="5510160"/>
            <a:ext cx="165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4200480" y="5878440"/>
                <a:ext cx="12524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6" name=""/>
          <p:cNvSpPr/>
          <p:nvPr/>
        </p:nvSpPr>
        <p:spPr>
          <a:xfrm rot="5400000">
            <a:off x="4586400" y="5799240"/>
            <a:ext cx="196560" cy="250560"/>
          </a:xfrm>
          <a:prstGeom prst="rightArrow">
            <a:avLst>
              <a:gd name="adj1" fmla="val 49370"/>
              <a:gd name="adj2" fmla="val 41528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 rot="19921200">
            <a:off x="5421240" y="5917680"/>
            <a:ext cx="357120" cy="144720"/>
          </a:xfrm>
          <a:prstGeom prst="rightArrow">
            <a:avLst>
              <a:gd name="adj1" fmla="val 50000"/>
              <a:gd name="adj2" fmla="val 61692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5737320" y="5676840"/>
                <a:ext cx="144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9" name=""/>
              <p:cNvSpPr txBox="1"/>
              <p:nvPr/>
            </p:nvSpPr>
            <p:spPr>
              <a:xfrm>
                <a:off x="5743440" y="6040440"/>
                <a:ext cx="13496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±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90" name=""/>
          <p:cNvSpPr/>
          <p:nvPr/>
        </p:nvSpPr>
        <p:spPr>
          <a:xfrm rot="5400000">
            <a:off x="6148080" y="5904000"/>
            <a:ext cx="196920" cy="250920"/>
          </a:xfrm>
          <a:prstGeom prst="rightArrow">
            <a:avLst>
              <a:gd name="adj1" fmla="val 49370"/>
              <a:gd name="adj2" fmla="val 41528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5454720" y="6321600"/>
                <a:ext cx="1670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68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7308720" y="5805360"/>
                <a:ext cx="1581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α</m:t>
                            </m:r>
                          </m:lim>
                        </m:limLow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q*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,66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3" name=""/>
          <p:cNvSpPr/>
          <p:nvPr/>
        </p:nvSpPr>
        <p:spPr>
          <a:xfrm rot="5400000">
            <a:off x="7359120" y="5627520"/>
            <a:ext cx="217800" cy="217800"/>
          </a:xfrm>
          <a:prstGeom prst="rightArrow">
            <a:avLst>
              <a:gd name="adj1" fmla="val 40667"/>
              <a:gd name="adj2" fmla="val 44264"/>
            </a:avLst>
          </a:prstGeom>
          <a:solidFill>
            <a:srgbClr val="debde1"/>
          </a:solidFill>
          <a:ln w="9360">
            <a:solidFill>
              <a:srgbClr val="970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rot="20510400">
            <a:off x="7128000" y="6359040"/>
            <a:ext cx="191880" cy="144720"/>
          </a:xfrm>
          <a:prstGeom prst="rightArrow">
            <a:avLst>
              <a:gd name="adj1" fmla="val 50000"/>
              <a:gd name="adj2" fmla="val 33147"/>
            </a:avLst>
          </a:prstGeom>
          <a:solidFill>
            <a:srgbClr val="debde1"/>
          </a:solidFill>
          <a:ln w="9360">
            <a:solidFill>
              <a:srgbClr val="970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971640" y="5919840"/>
            <a:ext cx="1728720" cy="201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865080" y="5864400"/>
            <a:ext cx="2016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ласть   статичес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опустимых    значений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1816200" y="5762520"/>
            <a:ext cx="0" cy="360360"/>
          </a:xfrm>
          <a:prstGeom prst="line">
            <a:avLst/>
          </a:prstGeom>
          <a:ln w="19080">
            <a:solidFill>
              <a:srgbClr val="97077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1798560" y="6122880"/>
            <a:ext cx="42840" cy="42840"/>
          </a:xfrm>
          <a:prstGeom prst="ellipse">
            <a:avLst/>
          </a:prstGeom>
          <a:solidFill>
            <a:srgbClr val="9707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695600" y="6165720"/>
            <a:ext cx="183960" cy="311400"/>
          </a:xfrm>
          <a:custGeom>
            <a:avLst/>
            <a:gdLst/>
            <a:ahLst/>
            <a:rect l="l" t="t" r="r" b="b"/>
            <a:pathLst>
              <a:path w="116" h="196">
                <a:moveTo>
                  <a:pt x="64" y="0"/>
                </a:moveTo>
                <a:cubicBezTo>
                  <a:pt x="57" y="7"/>
                  <a:pt x="30" y="22"/>
                  <a:pt x="20" y="40"/>
                </a:cubicBezTo>
                <a:cubicBezTo>
                  <a:pt x="10" y="58"/>
                  <a:pt x="0" y="86"/>
                  <a:pt x="4" y="108"/>
                </a:cubicBezTo>
                <a:cubicBezTo>
                  <a:pt x="8" y="130"/>
                  <a:pt x="25" y="157"/>
                  <a:pt x="44" y="172"/>
                </a:cubicBezTo>
                <a:cubicBezTo>
                  <a:pt x="63" y="187"/>
                  <a:pt x="101" y="191"/>
                  <a:pt x="116" y="19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814400" y="634212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778"/>
                </a:solidFill>
                <a:latin typeface="Symbol"/>
                <a:ea typeface="Symbol"/>
              </a:rPr>
              <a:t></a:t>
            </a:r>
            <a:r>
              <a:rPr b="1" i="1" lang="en-US" sz="1600" spc="-1" strike="noStrike" baseline="-25000">
                <a:solidFill>
                  <a:srgbClr val="970778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6" dur="indefinite" restart="never" nodeType="tmRoot">
          <p:childTnLst>
            <p:seq>
              <p:cTn id="6957" dur="indefinite" nodeType="mainSeq">
                <p:childTnLst>
                  <p:par>
                    <p:cTn id="6958" fill="hold">
                      <p:stCondLst>
                        <p:cond delay="0"/>
                      </p:stCondLst>
                      <p:childTnLst>
                        <p:par>
                          <p:cTn id="6959" fill="hold">
                            <p:stCondLst>
                              <p:cond delay="0"/>
                            </p:stCondLst>
                            <p:childTnLst>
                              <p:par>
                                <p:cTn id="69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2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6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69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2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5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7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0" dur="1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3" dur="1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6" dur="10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9" dur="10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2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4" dur="1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7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8" dur="1000" fill="hold"/>
                                        <p:tgtEl>
                                          <p:spTgt spid="1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9" dur="10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2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3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4" dur="10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7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8" dur="10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9" dur="1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2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3" dur="1000" fill="hold"/>
                                        <p:tgtEl>
                                          <p:spTgt spid="1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4" dur="1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7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8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9" dur="1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2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3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4" dur="10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7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8" dur="10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9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2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3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4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7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8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9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2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3" dur="1000" fill="hold"/>
                                        <p:tgtEl>
                                          <p:spTgt spid="1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4" dur="1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7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8" dur="10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9" dur="1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2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5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8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1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4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7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8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9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3" dur="80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4" dur="80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5" dur="80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6" fill="hold">
                      <p:stCondLst>
                        <p:cond delay="indefinite"/>
                      </p:stCondLst>
                      <p:childTnLst>
                        <p:par>
                          <p:cTn id="7077" fill="hold">
                            <p:stCondLst>
                              <p:cond delay="0"/>
                            </p:stCondLst>
                            <p:childTnLst>
                              <p:par>
                                <p:cTn id="70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0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1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2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6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7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8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9" fill="hold">
                      <p:stCondLst>
                        <p:cond delay="indefinite"/>
                      </p:stCondLst>
                      <p:childTnLst>
                        <p:par>
                          <p:cTn id="7090" fill="hold">
                            <p:stCondLst>
                              <p:cond delay="0"/>
                            </p:stCondLst>
                            <p:childTnLst>
                              <p:par>
                                <p:cTn id="7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3" dur="80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4" dur="80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5" dur="80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6" fill="hold">
                            <p:stCondLst>
                              <p:cond delay="3520"/>
                            </p:stCondLst>
                            <p:childTnLst>
                              <p:par>
                                <p:cTn id="70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9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2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5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8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1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2" fill="hold">
                      <p:stCondLst>
                        <p:cond delay="indefinite"/>
                      </p:stCondLst>
                      <p:childTnLst>
                        <p:par>
                          <p:cTn id="7113" fill="hold">
                            <p:stCondLst>
                              <p:cond delay="0"/>
                            </p:stCondLst>
                            <p:childTnLst>
                              <p:par>
                                <p:cTn id="7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6" dur="80"/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7" dur="80"/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8" dur="80"/>
                                        <p:tgtEl>
                                          <p:spTgt spid="1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9" fill="hold">
                            <p:stCondLst>
                              <p:cond delay="2160"/>
                            </p:stCondLst>
                            <p:childTnLst>
                              <p:par>
                                <p:cTn id="7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2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3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4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7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8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9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0" fill="hold">
                            <p:stCondLst>
                              <p:cond delay="3160"/>
                            </p:stCondLst>
                            <p:childTnLst>
                              <p:par>
                                <p:cTn id="7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3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4" dur="1000" fill="hold"/>
                                        <p:tgtEl>
                                          <p:spTgt spid="1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5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6" fill="hold">
                            <p:stCondLst>
                              <p:cond delay="4160"/>
                            </p:stCondLst>
                            <p:childTnLst>
                              <p:par>
                                <p:cTn id="7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9" dur="80"/>
                                        <p:tgtEl>
                                          <p:spTgt spid="1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0" dur="80"/>
                                        <p:tgtEl>
                                          <p:spTgt spid="1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1" dur="80"/>
                                        <p:tgtEl>
                                          <p:spTgt spid="1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2" fill="hold">
                      <p:stCondLst>
                        <p:cond delay="indefinite"/>
                      </p:stCondLst>
                      <p:childTnLst>
                        <p:par>
                          <p:cTn id="7143" fill="hold">
                            <p:stCondLst>
                              <p:cond delay="0"/>
                            </p:stCondLst>
                            <p:childTnLst>
                              <p:par>
                                <p:cTn id="7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6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7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8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1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2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3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7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8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9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0" fill="hold">
                      <p:stCondLst>
                        <p:cond delay="indefinite"/>
                      </p:stCondLst>
                      <p:childTnLst>
                        <p:par>
                          <p:cTn id="7161" fill="hold">
                            <p:stCondLst>
                              <p:cond delay="0"/>
                            </p:stCondLst>
                            <p:childTnLst>
                              <p:par>
                                <p:cTn id="7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4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67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1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2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3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6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7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8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2" dur="8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3" dur="8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4" dur="80"/>
                                        <p:tgtEl>
                                          <p:spTgt spid="1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5" fill="hold">
                            <p:stCondLst>
                              <p:cond delay="4280"/>
                            </p:stCondLst>
                            <p:childTnLst>
                              <p:par>
                                <p:cTn id="7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8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1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4" dur="10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7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0" dur="10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3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4" fill="hold">
                            <p:stCondLst>
                              <p:cond delay="5280"/>
                            </p:stCondLst>
                            <p:childTnLst>
                              <p:par>
                                <p:cTn id="7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7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8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9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2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3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4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7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8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9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0" fill="hold">
                            <p:stCondLst>
                              <p:cond delay="6280"/>
                            </p:stCondLst>
                            <p:childTnLst>
                              <p:par>
                                <p:cTn id="7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3" dur="8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4" dur="8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5" dur="80"/>
                                        <p:tgtEl>
                                          <p:spTgt spid="1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0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1" fill="hold">
                            <p:stCondLst>
                              <p:cond delay="8240"/>
                            </p:stCondLst>
                            <p:childTnLst>
                              <p:par>
                                <p:cTn id="7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7" fill="hold">
                      <p:stCondLst>
                        <p:cond delay="indefinite"/>
                      </p:stCondLst>
                      <p:childTnLst>
                        <p:par>
                          <p:cTn id="7238" fill="hold">
                            <p:stCondLst>
                              <p:cond delay="0"/>
                            </p:stCondLst>
                            <p:childTnLst>
                              <p:par>
                                <p:cTn id="7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1" dur="80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2" dur="80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3" dur="80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4" fill="hold">
                            <p:stCondLst>
                              <p:cond delay="1800"/>
                            </p:stCondLst>
                            <p:childTnLst>
                              <p:par>
                                <p:cTn id="7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7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8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9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0" fill="hold">
                      <p:stCondLst>
                        <p:cond delay="indefinite"/>
                      </p:stCondLst>
                      <p:childTnLst>
                        <p:par>
                          <p:cTn id="7251" fill="hold">
                            <p:stCondLst>
                              <p:cond delay="0"/>
                            </p:stCondLst>
                            <p:childTnLst>
                              <p:par>
                                <p:cTn id="7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4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5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6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9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0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1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8" fill="hold">
                      <p:stCondLst>
                        <p:cond delay="indefinite"/>
                      </p:stCondLst>
                      <p:childTnLst>
                        <p:par>
                          <p:cTn id="7269" fill="hold">
                            <p:stCondLst>
                              <p:cond delay="0"/>
                            </p:stCondLst>
                            <p:childTnLst>
                              <p:par>
                                <p:cTn id="7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2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3" dur="1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4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8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9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0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1" fill="hold">
                      <p:stCondLst>
                        <p:cond delay="indefinite"/>
                      </p:stCondLst>
                      <p:childTnLst>
                        <p:par>
                          <p:cTn id="7282" fill="hold">
                            <p:stCondLst>
                              <p:cond delay="0"/>
                            </p:stCondLst>
                            <p:childTnLst>
                              <p:par>
                                <p:cTn id="7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5" dur="2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8" dur="2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1" dur="2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5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8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73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2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5" dur="1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8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1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4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1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0" dur="1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3" dur="10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6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9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2" dur="1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0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4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5" fill="hold">
                            <p:stCondLst>
                              <p:cond delay="5500"/>
                            </p:stCondLst>
                            <p:childTnLst>
                              <p:par>
                                <p:cTn id="7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8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7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2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6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4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3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6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7" fill="hold">
                      <p:stCondLst>
                        <p:cond delay="indefinite"/>
                      </p:stCondLst>
                      <p:childTnLst>
                        <p:par>
                          <p:cTn id="7378" fill="hold">
                            <p:stCondLst>
                              <p:cond delay="0"/>
                            </p:stCondLst>
                            <p:childTnLst>
                              <p:par>
                                <p:cTn id="7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1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5" dur="10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8" dur="10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9" fill="hold">
                      <p:stCondLst>
                        <p:cond delay="indefinite"/>
                      </p:stCondLst>
                      <p:childTnLst>
                        <p:par>
                          <p:cTn id="7390" fill="hold">
                            <p:stCondLst>
                              <p:cond delay="0"/>
                            </p:stCondLst>
                            <p:childTnLst>
                              <p:par>
                                <p:cTn id="7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3" dur="2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6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99" dur="2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3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4" fill="hold">
                      <p:stCondLst>
                        <p:cond delay="indefinite"/>
                      </p:stCondLst>
                      <p:childTnLst>
                        <p:par>
                          <p:cTn id="7405" fill="hold">
                            <p:stCondLst>
                              <p:cond delay="0"/>
                            </p:stCondLst>
                            <p:childTnLst>
                              <p:par>
                                <p:cTn id="7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9" fill="hold">
                            <p:stCondLst>
                              <p:cond delay="500"/>
                            </p:stCondLst>
                            <p:childTnLst>
                              <p:par>
                                <p:cTn id="7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2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0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1" fill="hold">
                      <p:stCondLst>
                        <p:cond delay="indefinite"/>
                      </p:stCondLst>
                      <p:childTnLst>
                        <p:par>
                          <p:cTn id="7422" fill="hold">
                            <p:stCondLst>
                              <p:cond delay="0"/>
                            </p:stCondLst>
                            <p:childTnLst>
                              <p:par>
                                <p:cTn id="7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6" fill="hold">
                            <p:stCondLst>
                              <p:cond delay="500"/>
                            </p:stCondLst>
                            <p:childTnLst>
                              <p:par>
                                <p:cTn id="7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9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3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7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8" fill="hold">
                      <p:stCondLst>
                        <p:cond delay="indefinite"/>
                      </p:stCondLst>
                      <p:childTnLst>
                        <p:par>
                          <p:cTn id="7439" fill="hold">
                            <p:stCondLst>
                              <p:cond delay="0"/>
                            </p:stCondLst>
                            <p:childTnLst>
                              <p:par>
                                <p:cTn id="74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2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6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7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8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2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4" fill="hold">
                      <p:stCondLst>
                        <p:cond delay="indefinite"/>
                      </p:stCondLst>
                      <p:childTnLst>
                        <p:par>
                          <p:cTn id="7455" fill="hold">
                            <p:stCondLst>
                              <p:cond delay="0"/>
                            </p:stCondLst>
                            <p:childTnLst>
                              <p:par>
                                <p:cTn id="7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8" dur="80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9" dur="80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0" dur="80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4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5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6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0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1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2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5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6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7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8" fill="hold">
                      <p:stCondLst>
                        <p:cond delay="indefinite"/>
                      </p:stCondLst>
                      <p:childTnLst>
                        <p:par>
                          <p:cTn id="7479" fill="hold">
                            <p:stCondLst>
                              <p:cond delay="0"/>
                            </p:stCondLst>
                            <p:childTnLst>
                              <p:par>
                                <p:cTn id="7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2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3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4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5" fill="hold">
                      <p:stCondLst>
                        <p:cond delay="indefinite"/>
                      </p:stCondLst>
                      <p:childTnLst>
                        <p:par>
                          <p:cTn id="7486" fill="hold">
                            <p:stCondLst>
                              <p:cond delay="0"/>
                            </p:stCondLst>
                            <p:childTnLst>
                              <p:par>
                                <p:cTn id="7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9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0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1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5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2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6" dur="1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7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8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2" dur="1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3" fill="hold">
                      <p:stCondLst>
                        <p:cond delay="indefinite"/>
                      </p:stCondLst>
                      <p:childTnLst>
                        <p:par>
                          <p:cTn id="7514" fill="hold">
                            <p:stCondLst>
                              <p:cond delay="0"/>
                            </p:stCondLst>
                            <p:childTnLst>
                              <p:par>
                                <p:cTn id="7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7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8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9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3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4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5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6" fill="hold">
                      <p:stCondLst>
                        <p:cond delay="indefinite"/>
                      </p:stCondLst>
                      <p:childTnLst>
                        <p:par>
                          <p:cTn id="7527" fill="hold">
                            <p:stCondLst>
                              <p:cond delay="0"/>
                            </p:stCondLst>
                            <p:childTnLst>
                              <p:par>
                                <p:cTn id="7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2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7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8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2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3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4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5" fill="hold">
                      <p:stCondLst>
                        <p:cond delay="indefinite"/>
                      </p:stCondLst>
                      <p:childTnLst>
                        <p:par>
                          <p:cTn id="7546" fill="hold">
                            <p:stCondLst>
                              <p:cond delay="0"/>
                            </p:stCondLst>
                            <p:childTnLst>
                              <p:par>
                                <p:cTn id="7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9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3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6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7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8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1776240" y="82404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пределение предельных нагрузок ба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96720" y="162396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68360" y="16239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230480" y="124128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68360" y="1768320"/>
            <a:ext cx="186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268360" y="196200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2268360" y="1962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371680" y="1746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338560" y="19191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338560" y="17305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81900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0980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120816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140184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59228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7827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19861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218268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371680" y="153972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253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68360" y="1539720"/>
            <a:ext cx="19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68360" y="2395440"/>
            <a:ext cx="19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68360" y="20080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379600" y="20858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431280" y="235728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2341080" y="236376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1289160" y="214308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205080" y="1197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Решение кинем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059280" y="1585800"/>
            <a:ext cx="5905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r>
              <a:rPr b="1" i="1" lang="ru-RU" sz="1600" spc="-1" strike="noStrike">
                <a:solidFill>
                  <a:srgbClr val="cc0000"/>
                </a:solidFill>
                <a:latin typeface="Times New Roman"/>
              </a:rPr>
              <a:t>кинематически допустимо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ля перемещени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ельного пластического механизма (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ханизма разруше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503360" y="141300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68360" y="1484280"/>
            <a:ext cx="1033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434520" y="144288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 flipH="1">
            <a:off x="1469520" y="144612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812880" y="1204920"/>
            <a:ext cx="4968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484360" y="2743200"/>
            <a:ext cx="302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ex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346720" y="2760840"/>
            <a:ext cx="3556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1/2)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 rot="8763600">
            <a:off x="7252920" y="3035160"/>
            <a:ext cx="290520" cy="144720"/>
          </a:xfrm>
          <a:prstGeom prst="rightArrow">
            <a:avLst>
              <a:gd name="adj1" fmla="val 50000"/>
              <a:gd name="adj2" fmla="val 5018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087720" y="2036880"/>
            <a:ext cx="57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равнение предельного равновесия механизма разрушения (по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принципу Лагранж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2631960" y="3127320"/>
                <a:ext cx="2084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β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2" name=""/>
          <p:cNvSpPr/>
          <p:nvPr/>
        </p:nvSpPr>
        <p:spPr>
          <a:xfrm>
            <a:off x="5181480" y="4815000"/>
            <a:ext cx="300240" cy="179280"/>
          </a:xfrm>
          <a:prstGeom prst="rightArrow">
            <a:avLst>
              <a:gd name="adj1" fmla="val 50000"/>
              <a:gd name="adj2" fmla="val 41867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197840" y="4800600"/>
            <a:ext cx="326880" cy="193680"/>
          </a:xfrm>
          <a:prstGeom prst="rightArrow">
            <a:avLst>
              <a:gd name="adj1" fmla="val 49315"/>
              <a:gd name="adj2" fmla="val 59438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716360" y="3249720"/>
            <a:ext cx="290520" cy="250560"/>
          </a:xfrm>
          <a:prstGeom prst="rightArrow">
            <a:avLst>
              <a:gd name="adj1" fmla="val 49370"/>
              <a:gd name="adj2" fmla="val 48151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5057640" y="3049560"/>
                <a:ext cx="3781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6" name=""/>
          <p:cNvSpPr/>
          <p:nvPr/>
        </p:nvSpPr>
        <p:spPr>
          <a:xfrm>
            <a:off x="611280" y="2738520"/>
            <a:ext cx="1944720" cy="19461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11280" y="439596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611280" y="381960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11280" y="410688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042920" y="2954160"/>
            <a:ext cx="0" cy="172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476360" y="2954160"/>
            <a:ext cx="0" cy="172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908000" y="2954160"/>
            <a:ext cx="0" cy="172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40000" y="2954160"/>
            <a:ext cx="0" cy="1729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819000" y="2951280"/>
            <a:ext cx="1452600" cy="1179360"/>
          </a:xfrm>
          <a:custGeom>
            <a:avLst/>
            <a:gdLst/>
            <a:ahLst/>
            <a:rect l="l" t="t" r="r" b="b"/>
            <a:pathLst>
              <a:path w="915" h="743">
                <a:moveTo>
                  <a:pt x="0" y="0"/>
                </a:moveTo>
                <a:cubicBezTo>
                  <a:pt x="7" y="41"/>
                  <a:pt x="18" y="165"/>
                  <a:pt x="42" y="252"/>
                </a:cubicBezTo>
                <a:cubicBezTo>
                  <a:pt x="66" y="339"/>
                  <a:pt x="106" y="453"/>
                  <a:pt x="144" y="522"/>
                </a:cubicBezTo>
                <a:cubicBezTo>
                  <a:pt x="182" y="591"/>
                  <a:pt x="224" y="631"/>
                  <a:pt x="270" y="666"/>
                </a:cubicBezTo>
                <a:cubicBezTo>
                  <a:pt x="316" y="701"/>
                  <a:pt x="372" y="721"/>
                  <a:pt x="420" y="732"/>
                </a:cubicBezTo>
                <a:cubicBezTo>
                  <a:pt x="468" y="743"/>
                  <a:pt x="517" y="743"/>
                  <a:pt x="561" y="735"/>
                </a:cubicBezTo>
                <a:cubicBezTo>
                  <a:pt x="605" y="727"/>
                  <a:pt x="650" y="710"/>
                  <a:pt x="684" y="684"/>
                </a:cubicBezTo>
                <a:cubicBezTo>
                  <a:pt x="718" y="658"/>
                  <a:pt x="743" y="624"/>
                  <a:pt x="768" y="582"/>
                </a:cubicBezTo>
                <a:cubicBezTo>
                  <a:pt x="793" y="540"/>
                  <a:pt x="813" y="501"/>
                  <a:pt x="834" y="432"/>
                </a:cubicBezTo>
                <a:cubicBezTo>
                  <a:pt x="855" y="363"/>
                  <a:pt x="881" y="240"/>
                  <a:pt x="894" y="168"/>
                </a:cubicBezTo>
                <a:cubicBezTo>
                  <a:pt x="907" y="96"/>
                  <a:pt x="911" y="35"/>
                  <a:pt x="91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95280" y="2421000"/>
            <a:ext cx="1449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1249200" y="469116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803160" y="469260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1690560" y="4692600"/>
            <a:ext cx="505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195640" y="469260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66840" y="4289400"/>
            <a:ext cx="28872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70000" y="4000680"/>
            <a:ext cx="433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76200" y="469260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484360" y="457668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92200" y="46594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571760" y="4111560"/>
            <a:ext cx="42840" cy="42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 rot="7346400">
            <a:off x="5353200" y="305028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826920" y="2957400"/>
            <a:ext cx="1440000" cy="1158840"/>
          </a:xfrm>
          <a:custGeom>
            <a:avLst/>
            <a:gdLst/>
            <a:ahLst/>
            <a:rect l="l" t="t" r="r" b="b"/>
            <a:pathLst>
              <a:path w="907" h="730">
                <a:moveTo>
                  <a:pt x="0" y="0"/>
                </a:moveTo>
                <a:lnTo>
                  <a:pt x="907" y="0"/>
                </a:lnTo>
                <a:lnTo>
                  <a:pt x="874" y="196"/>
                </a:lnTo>
                <a:lnTo>
                  <a:pt x="838" y="373"/>
                </a:lnTo>
                <a:lnTo>
                  <a:pt x="787" y="532"/>
                </a:lnTo>
                <a:lnTo>
                  <a:pt x="727" y="619"/>
                </a:lnTo>
                <a:lnTo>
                  <a:pt x="682" y="676"/>
                </a:lnTo>
                <a:lnTo>
                  <a:pt x="616" y="706"/>
                </a:lnTo>
                <a:lnTo>
                  <a:pt x="544" y="727"/>
                </a:lnTo>
                <a:lnTo>
                  <a:pt x="466" y="730"/>
                </a:lnTo>
                <a:lnTo>
                  <a:pt x="379" y="712"/>
                </a:lnTo>
                <a:lnTo>
                  <a:pt x="301" y="676"/>
                </a:lnTo>
                <a:lnTo>
                  <a:pt x="235" y="628"/>
                </a:lnTo>
                <a:lnTo>
                  <a:pt x="166" y="553"/>
                </a:lnTo>
                <a:lnTo>
                  <a:pt x="118" y="466"/>
                </a:lnTo>
                <a:lnTo>
                  <a:pt x="64" y="322"/>
                </a:lnTo>
                <a:lnTo>
                  <a:pt x="25" y="1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>
              <a:alphaModFix amt="2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664000" y="1655640"/>
            <a:ext cx="431640" cy="144720"/>
          </a:xfrm>
          <a:prstGeom prst="leftArrow">
            <a:avLst>
              <a:gd name="adj1" fmla="val 50000"/>
              <a:gd name="adj2" fmla="val 74565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217520" y="14302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68360" y="1776240"/>
            <a:ext cx="1865160" cy="230400"/>
          </a:xfrm>
          <a:custGeom>
            <a:avLst/>
            <a:gdLst/>
            <a:ahLst/>
            <a:rect l="l" t="t" r="r" b="b"/>
            <a:pathLst>
              <a:path w="1175" h="145">
                <a:moveTo>
                  <a:pt x="0" y="0"/>
                </a:moveTo>
                <a:lnTo>
                  <a:pt x="641" y="145"/>
                </a:lnTo>
                <a:lnTo>
                  <a:pt x="117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819000" y="162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1009800" y="1660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1208160" y="1706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397160" y="1744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592280" y="17445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782720" y="1698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986120" y="16398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182680" y="15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371680" y="1547640"/>
            <a:ext cx="0" cy="20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625320" y="1573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468360" y="1541520"/>
            <a:ext cx="1911240" cy="225360"/>
          </a:xfrm>
          <a:custGeom>
            <a:avLst/>
            <a:gdLst/>
            <a:ahLst/>
            <a:rect l="l" t="t" r="r" b="b"/>
            <a:pathLst>
              <a:path w="1204" h="142">
                <a:moveTo>
                  <a:pt x="0" y="0"/>
                </a:moveTo>
                <a:lnTo>
                  <a:pt x="661" y="142"/>
                </a:lnTo>
                <a:lnTo>
                  <a:pt x="12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461880" y="176220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444680" y="194472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H="1" flipV="1">
            <a:off x="1577160" y="1851120"/>
            <a:ext cx="29340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138320" y="1851120"/>
            <a:ext cx="29340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436400" y="204948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1521000" y="204948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436680" y="172872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520560" y="1684440"/>
            <a:ext cx="6192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487440" y="1647720"/>
            <a:ext cx="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 flipV="1" rot="12370200">
            <a:off x="559800" y="1718280"/>
            <a:ext cx="29268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68360" y="195264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900000" y="197820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638360" y="197640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68360" y="142092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424240" y="1766880"/>
            <a:ext cx="1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593720" y="2008080"/>
            <a:ext cx="93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556000" y="1779480"/>
            <a:ext cx="71280" cy="216000"/>
          </a:xfrm>
          <a:custGeom>
            <a:avLst/>
            <a:gdLst>
              <a:gd name="textAreaLeft" fmla="*/ 0 w 71280"/>
              <a:gd name="textAreaRight" fmla="*/ 25560 w 7128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556000" y="1771560"/>
            <a:ext cx="287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089080" y="1628640"/>
            <a:ext cx="11160" cy="123840"/>
          </a:xfrm>
          <a:custGeom>
            <a:avLst/>
            <a:gdLst/>
            <a:ahLst/>
            <a:rect l="l" t="t" r="r" b="b"/>
            <a:pathLst>
              <a:path w="7" h="78">
                <a:moveTo>
                  <a:pt x="7" y="0"/>
                </a:moveTo>
                <a:cubicBezTo>
                  <a:pt x="6" y="5"/>
                  <a:pt x="2" y="17"/>
                  <a:pt x="1" y="30"/>
                </a:cubicBezTo>
                <a:cubicBezTo>
                  <a:pt x="0" y="43"/>
                  <a:pt x="1" y="68"/>
                  <a:pt x="1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104920" y="184932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27" y="66"/>
                </a:moveTo>
                <a:cubicBezTo>
                  <a:pt x="25" y="63"/>
                  <a:pt x="19" y="56"/>
                  <a:pt x="15" y="45"/>
                </a:cubicBezTo>
                <a:cubicBezTo>
                  <a:pt x="11" y="34"/>
                  <a:pt x="3" y="9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 flipH="1">
            <a:off x="862920" y="1882800"/>
            <a:ext cx="3636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27" y="66"/>
                </a:moveTo>
                <a:cubicBezTo>
                  <a:pt x="25" y="63"/>
                  <a:pt x="19" y="56"/>
                  <a:pt x="15" y="45"/>
                </a:cubicBezTo>
                <a:cubicBezTo>
                  <a:pt x="11" y="34"/>
                  <a:pt x="3" y="9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890640" y="1638360"/>
            <a:ext cx="14400" cy="123840"/>
          </a:xfrm>
          <a:custGeom>
            <a:avLst/>
            <a:gdLst/>
            <a:ahLst/>
            <a:rect l="l" t="t" r="r" b="b"/>
            <a:pathLst>
              <a:path w="9" h="78">
                <a:moveTo>
                  <a:pt x="0" y="0"/>
                </a:moveTo>
                <a:cubicBezTo>
                  <a:pt x="1" y="6"/>
                  <a:pt x="3" y="21"/>
                  <a:pt x="5" y="34"/>
                </a:cubicBezTo>
                <a:cubicBezTo>
                  <a:pt x="7" y="47"/>
                  <a:pt x="8" y="69"/>
                  <a:pt x="9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2095560" y="1488960"/>
            <a:ext cx="431640" cy="317520"/>
          </a:xfrm>
          <a:custGeom>
            <a:avLst/>
            <a:gdLst/>
            <a:ahLst/>
            <a:rect l="l" t="t" r="r" b="b"/>
            <a:pathLst>
              <a:path w="272" h="182">
                <a:moveTo>
                  <a:pt x="0" y="182"/>
                </a:moveTo>
                <a:cubicBezTo>
                  <a:pt x="7" y="166"/>
                  <a:pt x="15" y="151"/>
                  <a:pt x="45" y="136"/>
                </a:cubicBezTo>
                <a:cubicBezTo>
                  <a:pt x="75" y="121"/>
                  <a:pt x="143" y="114"/>
                  <a:pt x="181" y="91"/>
                </a:cubicBezTo>
                <a:cubicBezTo>
                  <a:pt x="219" y="68"/>
                  <a:pt x="245" y="34"/>
                  <a:pt x="272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99960" y="1816200"/>
            <a:ext cx="495360" cy="177840"/>
          </a:xfrm>
          <a:custGeom>
            <a:avLst/>
            <a:gdLst/>
            <a:ahLst/>
            <a:rect l="l" t="t" r="r" b="b"/>
            <a:pathLst>
              <a:path w="327" h="140">
                <a:moveTo>
                  <a:pt x="327" y="5"/>
                </a:moveTo>
                <a:cubicBezTo>
                  <a:pt x="307" y="5"/>
                  <a:pt x="245" y="0"/>
                  <a:pt x="207" y="8"/>
                </a:cubicBezTo>
                <a:cubicBezTo>
                  <a:pt x="169" y="16"/>
                  <a:pt x="133" y="31"/>
                  <a:pt x="99" y="53"/>
                </a:cubicBezTo>
                <a:cubicBezTo>
                  <a:pt x="65" y="75"/>
                  <a:pt x="21" y="122"/>
                  <a:pt x="0" y="14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79280" y="1919160"/>
            <a:ext cx="365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387520" y="1254240"/>
            <a:ext cx="496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038560" y="2421000"/>
            <a:ext cx="18003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x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611280" y="353052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611280" y="324324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611280" y="2954160"/>
            <a:ext cx="1728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70000" y="3708360"/>
            <a:ext cx="433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70000" y="3425760"/>
            <a:ext cx="433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70000" y="3137040"/>
            <a:ext cx="433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70000" y="2844720"/>
            <a:ext cx="4334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655720" y="37101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кинематической теореме ТП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7" name=""/>
              <p:cNvSpPr txBox="1"/>
              <p:nvPr/>
            </p:nvSpPr>
            <p:spPr>
              <a:xfrm>
                <a:off x="6215040" y="3686040"/>
                <a:ext cx="1452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β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8" name=""/>
          <p:cNvSpPr/>
          <p:nvPr/>
        </p:nvSpPr>
        <p:spPr>
          <a:xfrm>
            <a:off x="7667640" y="3807000"/>
            <a:ext cx="309600" cy="144360"/>
          </a:xfrm>
          <a:prstGeom prst="rightArrow">
            <a:avLst>
              <a:gd name="adj1" fmla="val 50000"/>
              <a:gd name="adj2" fmla="val 53616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945560" y="3645000"/>
            <a:ext cx="8744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0" name=""/>
              <p:cNvSpPr txBox="1"/>
              <p:nvPr/>
            </p:nvSpPr>
            <p:spPr>
              <a:xfrm>
                <a:off x="7824960" y="4030560"/>
                <a:ext cx="9730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1" name=""/>
              <p:cNvSpPr txBox="1"/>
              <p:nvPr/>
            </p:nvSpPr>
            <p:spPr>
              <a:xfrm>
                <a:off x="2808360" y="4086360"/>
                <a:ext cx="3825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  <m:r>
                              <m:t xml:space="preserve">(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 </m:t>
                            </m:r>
                            <m:r>
                              <m:t xml:space="preserve">β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2" name=""/>
              <p:cNvSpPr txBox="1"/>
              <p:nvPr/>
            </p:nvSpPr>
            <p:spPr>
              <a:xfrm>
                <a:off x="5522760" y="4713120"/>
                <a:ext cx="1641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"/>
              <p:cNvSpPr txBox="1"/>
              <p:nvPr/>
            </p:nvSpPr>
            <p:spPr>
              <a:xfrm>
                <a:off x="7505640" y="4681440"/>
                <a:ext cx="13716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6967440" y="5099040"/>
                <a:ext cx="1871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58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5" name=""/>
          <p:cNvSpPr/>
          <p:nvPr/>
        </p:nvSpPr>
        <p:spPr>
          <a:xfrm rot="2185200">
            <a:off x="7557840" y="4105080"/>
            <a:ext cx="288720" cy="144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>
              <a:alpha val="6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5867280" y="5545080"/>
                <a:ext cx="29736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≤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β</m:t>
                            </m:r>
                          </m:lim>
                        </m:limLow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,66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7" name=""/>
          <p:cNvSpPr/>
          <p:nvPr/>
        </p:nvSpPr>
        <p:spPr>
          <a:xfrm>
            <a:off x="730080" y="5167440"/>
            <a:ext cx="3168720" cy="26424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двойственной теореме ТПР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324000" y="5289480"/>
                <a:ext cx="396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стат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,66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кин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,66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760320" y="5943600"/>
                <a:ext cx="30909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,66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097160" y="5962680"/>
                <a:ext cx="1627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458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1" name=""/>
          <p:cNvSpPr/>
          <p:nvPr/>
        </p:nvSpPr>
        <p:spPr>
          <a:xfrm>
            <a:off x="4222800" y="57895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70778"/>
                </a:solidFill>
                <a:latin typeface="Arial"/>
              </a:rPr>
              <a:t>Оц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1566720" y="46641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106640" y="3141720"/>
            <a:ext cx="1008000" cy="46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042920" y="3137040"/>
            <a:ext cx="1143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ла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инематичес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зможных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начений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590840" y="4164120"/>
            <a:ext cx="0" cy="503280"/>
          </a:xfrm>
          <a:prstGeom prst="line">
            <a:avLst/>
          </a:prstGeom>
          <a:ln w="19080">
            <a:solidFill>
              <a:srgbClr val="97077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595520" y="4695840"/>
            <a:ext cx="142920" cy="247680"/>
          </a:xfrm>
          <a:custGeom>
            <a:avLst/>
            <a:gdLst/>
            <a:ahLst/>
            <a:rect l="l" t="t" r="r" b="b"/>
            <a:pathLst>
              <a:path w="90" h="156">
                <a:moveTo>
                  <a:pt x="0" y="0"/>
                </a:moveTo>
                <a:cubicBezTo>
                  <a:pt x="4" y="7"/>
                  <a:pt x="19" y="25"/>
                  <a:pt x="27" y="42"/>
                </a:cubicBezTo>
                <a:cubicBezTo>
                  <a:pt x="35" y="59"/>
                  <a:pt x="41" y="83"/>
                  <a:pt x="51" y="102"/>
                </a:cubicBezTo>
                <a:cubicBezTo>
                  <a:pt x="61" y="121"/>
                  <a:pt x="82" y="145"/>
                  <a:pt x="90" y="15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647720" y="487980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0778"/>
                </a:solidFill>
                <a:latin typeface="Symbol"/>
                <a:ea typeface="Symbol"/>
              </a:rPr>
              <a:t></a:t>
            </a:r>
            <a:r>
              <a:rPr b="1" i="1" lang="en-US" sz="1600" spc="-1" strike="noStrike" baseline="-25000">
                <a:solidFill>
                  <a:srgbClr val="970778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9" dur="indefinite" restart="never" nodeType="tmRoot">
          <p:childTnLst>
            <p:seq>
              <p:cTn id="7560" dur="indefinite" nodeType="mainSeq">
                <p:childTnLst>
                  <p:par>
                    <p:cTn id="7561" fill="hold">
                      <p:stCondLst>
                        <p:cond delay="0"/>
                      </p:stCondLst>
                      <p:childTnLst>
                        <p:par>
                          <p:cTn id="7562" fill="hold">
                            <p:stCondLst>
                              <p:cond delay="0"/>
                            </p:stCondLst>
                            <p:childTnLst>
                              <p:par>
                                <p:cTn id="75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5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6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7" dur="1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8" fill="hold">
                      <p:stCondLst>
                        <p:cond delay="indefinite"/>
                      </p:stCondLst>
                      <p:childTnLst>
                        <p:par>
                          <p:cTn id="7569" fill="hold">
                            <p:stCondLst>
                              <p:cond delay="0"/>
                            </p:stCondLst>
                            <p:childTnLst>
                              <p:par>
                                <p:cTn id="7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2" dur="8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3" dur="8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4" dur="80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5" fill="hold">
                            <p:stCondLst>
                              <p:cond delay="4080"/>
                            </p:stCondLst>
                            <p:childTnLst>
                              <p:par>
                                <p:cTn id="75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8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9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0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1" fill="hold">
                            <p:stCondLst>
                              <p:cond delay="5080"/>
                            </p:stCondLst>
                            <p:childTnLst>
                              <p:par>
                                <p:cTn id="75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3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6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9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2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5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8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1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4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7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0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3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6" dur="10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19" dur="10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3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6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9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5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38" dur="10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1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4" dur="10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47" dur="10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0" dur="1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3" dur="10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6" dur="10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9" dur="10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5" dur="10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8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1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4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7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0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3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6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9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0" fill="hold">
                            <p:stCondLst>
                              <p:cond delay="6080"/>
                            </p:stCondLst>
                            <p:childTnLst>
                              <p:par>
                                <p:cTn id="76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3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6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9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0" fill="hold">
                            <p:stCondLst>
                              <p:cond delay="7080"/>
                            </p:stCondLst>
                            <p:childTnLst>
                              <p:par>
                                <p:cTn id="77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3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6" dur="10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9" dur="1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2" dur="1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5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8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9" fill="hold">
                      <p:stCondLst>
                        <p:cond delay="indefinite"/>
                      </p:stCondLst>
                      <p:childTnLst>
                        <p:par>
                          <p:cTn id="7720" fill="hold">
                            <p:stCondLst>
                              <p:cond delay="0"/>
                            </p:stCondLst>
                            <p:childTnLst>
                              <p:par>
                                <p:cTn id="77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6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7" dur="10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8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1" dur="1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2" dur="1000" fill="hold"/>
                                        <p:tgtEl>
                                          <p:spTgt spid="1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3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8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2" dur="1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3" dur="1000" fill="hold"/>
                                        <p:tgtEl>
                                          <p:spTgt spid="1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4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8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9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0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3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4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5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8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9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0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3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4" dur="1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5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9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2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5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8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9" fill="hold">
                      <p:stCondLst>
                        <p:cond delay="indefinite"/>
                      </p:stCondLst>
                      <p:childTnLst>
                        <p:par>
                          <p:cTn id="7780" fill="hold">
                            <p:stCondLst>
                              <p:cond delay="0"/>
                            </p:stCondLst>
                            <p:childTnLst>
                              <p:par>
                                <p:cTn id="7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3" dur="80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4" dur="80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5" dur="80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6" fill="hold">
                            <p:stCondLst>
                              <p:cond delay="2840"/>
                            </p:stCondLst>
                            <p:childTnLst>
                              <p:par>
                                <p:cTn id="77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9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0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2" fill="hold">
                            <p:stCondLst>
                              <p:cond delay="3840"/>
                            </p:stCondLst>
                            <p:childTnLst>
                              <p:par>
                                <p:cTn id="77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5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6" dur="10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7" dur="1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8" fill="hold">
                            <p:stCondLst>
                              <p:cond delay="4840"/>
                            </p:stCondLst>
                            <p:childTnLst>
                              <p:par>
                                <p:cTn id="77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1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2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03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4" fill="hold">
                      <p:stCondLst>
                        <p:cond delay="indefinite"/>
                      </p:stCondLst>
                      <p:childTnLst>
                        <p:par>
                          <p:cTn id="7805" fill="hold">
                            <p:stCondLst>
                              <p:cond delay="0"/>
                            </p:stCondLst>
                            <p:childTnLst>
                              <p:par>
                                <p:cTn id="7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8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9" dur="1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0" dur="1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1" fill="hold">
                      <p:stCondLst>
                        <p:cond delay="indefinite"/>
                      </p:stCondLst>
                      <p:childTnLst>
                        <p:par>
                          <p:cTn id="7812" fill="hold">
                            <p:stCondLst>
                              <p:cond delay="0"/>
                            </p:stCondLst>
                            <p:childTnLst>
                              <p:par>
                                <p:cTn id="7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5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8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1" dur="2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4" dur="2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5" fill="hold">
                      <p:stCondLst>
                        <p:cond delay="indefinite"/>
                      </p:stCondLst>
                      <p:childTnLst>
                        <p:par>
                          <p:cTn id="7826" fill="hold">
                            <p:stCondLst>
                              <p:cond delay="0"/>
                            </p:stCondLst>
                            <p:childTnLst>
                              <p:par>
                                <p:cTn id="78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9" dur="2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2" dur="20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5" dur="2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8" dur="2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41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5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6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7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1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2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5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6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7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0" dur="1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1" dur="10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2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5" dur="1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6" dur="1000" fill="hold"/>
                                        <p:tgtEl>
                                          <p:spTgt spid="1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7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0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1" dur="1000" fill="hold"/>
                                        <p:tgtEl>
                                          <p:spTgt spid="1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5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6" dur="10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7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0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1" dur="10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2" dur="10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5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6" dur="10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7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0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1" dur="10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2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0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4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5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8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9" fill="hold">
                            <p:stCondLst>
                              <p:cond delay="5000"/>
                            </p:stCondLst>
                            <p:childTnLst>
                              <p:par>
                                <p:cTn id="79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2" dur="5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3" fill="hold">
                            <p:stCondLst>
                              <p:cond delay="5500"/>
                            </p:stCondLst>
                            <p:childTnLst>
                              <p:par>
                                <p:cTn id="79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6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0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1" fill="hold">
                            <p:stCondLst>
                              <p:cond delay="6500"/>
                            </p:stCondLst>
                            <p:childTnLst>
                              <p:par>
                                <p:cTn id="79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5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8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9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2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3" fill="hold">
                      <p:stCondLst>
                        <p:cond delay="indefinite"/>
                      </p:stCondLst>
                      <p:childTnLst>
                        <p:par>
                          <p:cTn id="7934" fill="hold">
                            <p:stCondLst>
                              <p:cond delay="0"/>
                            </p:stCondLst>
                            <p:childTnLst>
                              <p:par>
                                <p:cTn id="79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7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41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9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0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1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2" fill="hold">
                      <p:stCondLst>
                        <p:cond delay="indefinite"/>
                      </p:stCondLst>
                      <p:childTnLst>
                        <p:par>
                          <p:cTn id="7953" fill="hold">
                            <p:stCondLst>
                              <p:cond delay="0"/>
                            </p:stCondLst>
                            <p:childTnLst>
                              <p:par>
                                <p:cTn id="79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6" dur="80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57" dur="80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8" dur="80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9" fill="hold">
                            <p:stCondLst>
                              <p:cond delay="1120"/>
                            </p:stCondLst>
                            <p:childTnLst>
                              <p:par>
                                <p:cTn id="79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62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3" fill="hold">
                            <p:stCondLst>
                              <p:cond delay="3120"/>
                            </p:stCondLst>
                            <p:childTnLst>
                              <p:par>
                                <p:cTn id="79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6" dur="10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7" dur="1000" fill="hold"/>
                                        <p:tgtEl>
                                          <p:spTgt spid="2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8" dur="1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1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3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4" fill="hold">
                            <p:stCondLst>
                              <p:cond delay="4120"/>
                            </p:stCondLst>
                            <p:childTnLst>
                              <p:par>
                                <p:cTn id="79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7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3" dur="10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4" fill="hold">
                            <p:stCondLst>
                              <p:cond delay="5120"/>
                            </p:stCondLst>
                            <p:childTnLst>
                              <p:par>
                                <p:cTn id="79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0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1" fill="hold">
                      <p:stCondLst>
                        <p:cond delay="indefinite"/>
                      </p:stCondLst>
                      <p:childTnLst>
                        <p:par>
                          <p:cTn id="7992" fill="hold">
                            <p:stCondLst>
                              <p:cond delay="0"/>
                            </p:stCondLst>
                            <p:childTnLst>
                              <p:par>
                                <p:cTn id="79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5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6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7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0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1" dur="10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2" dur="1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6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7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8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9" fill="hold">
                      <p:stCondLst>
                        <p:cond delay="indefinite"/>
                      </p:stCondLst>
                      <p:childTnLst>
                        <p:par>
                          <p:cTn id="8010" fill="hold">
                            <p:stCondLst>
                              <p:cond delay="0"/>
                            </p:stCondLst>
                            <p:childTnLst>
                              <p:par>
                                <p:cTn id="8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3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4" dur="1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5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8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9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20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1" fill="hold">
                      <p:stCondLst>
                        <p:cond delay="indefinite"/>
                      </p:stCondLst>
                      <p:childTnLst>
                        <p:par>
                          <p:cTn id="8022" fill="hold">
                            <p:stCondLst>
                              <p:cond delay="0"/>
                            </p:stCondLst>
                            <p:childTnLst>
                              <p:par>
                                <p:cTn id="8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5" dur="10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6" dur="10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7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1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2" dur="10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3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4" fill="hold">
                      <p:stCondLst>
                        <p:cond delay="indefinite"/>
                      </p:stCondLst>
                      <p:childTnLst>
                        <p:par>
                          <p:cTn id="8035" fill="hold">
                            <p:stCondLst>
                              <p:cond delay="0"/>
                            </p:stCondLst>
                            <p:childTnLst>
                              <p:par>
                                <p:cTn id="80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8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9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0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44" dur="2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5" fill="hold">
                      <p:stCondLst>
                        <p:cond delay="indefinite"/>
                      </p:stCondLst>
                      <p:childTnLst>
                        <p:par>
                          <p:cTn id="8046" fill="hold">
                            <p:stCondLst>
                              <p:cond delay="0"/>
                            </p:stCondLst>
                            <p:childTnLst>
                              <p:par>
                                <p:cTn id="80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9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0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1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8" fill="hold">
                      <p:stCondLst>
                        <p:cond delay="indefinite"/>
                      </p:stCondLst>
                      <p:childTnLst>
                        <p:par>
                          <p:cTn id="8059" fill="hold">
                            <p:stCondLst>
                              <p:cond delay="0"/>
                            </p:stCondLst>
                            <p:childTnLst>
                              <p:par>
                                <p:cTn id="80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2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3" fill="hold">
                      <p:stCondLst>
                        <p:cond delay="indefinite"/>
                      </p:stCondLst>
                      <p:childTnLst>
                        <p:par>
                          <p:cTn id="8064" fill="hold">
                            <p:stCondLst>
                              <p:cond delay="0"/>
                            </p:stCondLst>
                            <p:childTnLst>
                              <p:par>
                                <p:cTn id="80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7" dur="80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8" dur="80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9" dur="80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0" fill="hold">
                            <p:stCondLst>
                              <p:cond delay="320"/>
                            </p:stCondLst>
                            <p:childTnLst>
                              <p:par>
                                <p:cTn id="80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4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5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776240" y="82404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пределение предельных нагрузок ба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573120" y="1898640"/>
            <a:ext cx="7128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644400" y="18986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644400" y="2036880"/>
            <a:ext cx="15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052720" y="223668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052720" y="22366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155680" y="2021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122560" y="21938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122560" y="20048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44400" y="2565360"/>
            <a:ext cx="151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44400" y="218592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157480" y="22636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H="1">
            <a:off x="608040" y="252900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 flipH="1">
            <a:off x="2119320" y="253512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860400" y="2320920"/>
            <a:ext cx="504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600120" y="2048040"/>
            <a:ext cx="15843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ечение – постоя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434960" y="2265480"/>
            <a:ext cx="0" cy="358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1398600" y="253044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579680" y="2325600"/>
            <a:ext cx="504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428840" y="1666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249200" y="140004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2155680" y="270360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44400" y="2917800"/>
            <a:ext cx="1511280" cy="504720"/>
          </a:xfrm>
          <a:custGeom>
            <a:avLst/>
            <a:gdLst/>
            <a:ahLst/>
            <a:rect l="l" t="t" r="r" b="b"/>
            <a:pathLst>
              <a:path w="952" h="318">
                <a:moveTo>
                  <a:pt x="0" y="182"/>
                </a:moveTo>
                <a:lnTo>
                  <a:pt x="952" y="182"/>
                </a:lnTo>
                <a:lnTo>
                  <a:pt x="498" y="318"/>
                </a:lnTo>
                <a:lnTo>
                  <a:pt x="0" y="0"/>
                </a:lnTo>
                <a:lnTo>
                  <a:pt x="0" y="182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434960" y="32068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860400" y="2678040"/>
            <a:ext cx="1152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упругой ста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1166760" y="3355920"/>
                <a:ext cx="5047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F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284040" y="2603520"/>
                <a:ext cx="5050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F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236520" y="3713040"/>
                <a:ext cx="22590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F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826920" y="4211640"/>
                <a:ext cx="11512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9" name=""/>
          <p:cNvSpPr/>
          <p:nvPr/>
        </p:nvSpPr>
        <p:spPr>
          <a:xfrm>
            <a:off x="1258920" y="4065480"/>
            <a:ext cx="360360" cy="216000"/>
          </a:xfrm>
          <a:prstGeom prst="downArrow">
            <a:avLst>
              <a:gd name="adj1" fmla="val 49778"/>
              <a:gd name="adj2" fmla="val 455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038400" y="1197000"/>
            <a:ext cx="43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. Решение статическим методом Т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700360" y="1679400"/>
            <a:ext cx="41418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690640" y="2417760"/>
            <a:ext cx="48578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2724120" y="2048040"/>
            <a:ext cx="1440000" cy="369720"/>
          </a:xfrm>
          <a:custGeom>
            <a:avLst/>
            <a:gdLst/>
            <a:ahLst/>
            <a:rect l="l" t="t" r="r" b="b"/>
            <a:pathLst>
              <a:path w="907" h="233">
                <a:moveTo>
                  <a:pt x="0" y="0"/>
                </a:moveTo>
                <a:lnTo>
                  <a:pt x="907" y="0"/>
                </a:lnTo>
                <a:lnTo>
                  <a:pt x="452" y="23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3443400" y="20480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4838760" y="2046240"/>
            <a:ext cx="1436760" cy="371520"/>
          </a:xfrm>
          <a:custGeom>
            <a:avLst/>
            <a:gdLst/>
            <a:ahLst/>
            <a:rect l="l" t="t" r="r" b="b"/>
            <a:pathLst>
              <a:path w="905" h="234">
                <a:moveTo>
                  <a:pt x="0" y="0"/>
                </a:moveTo>
                <a:lnTo>
                  <a:pt x="905" y="1"/>
                </a:lnTo>
                <a:lnTo>
                  <a:pt x="450" y="234"/>
                </a:lnTo>
                <a:lnTo>
                  <a:pt x="0" y="23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842160" y="1684440"/>
            <a:ext cx="1436760" cy="734760"/>
          </a:xfrm>
          <a:custGeom>
            <a:avLst/>
            <a:gdLst/>
            <a:ahLst/>
            <a:rect l="l" t="t" r="r" b="b"/>
            <a:pathLst>
              <a:path w="905" h="463">
                <a:moveTo>
                  <a:pt x="0" y="229"/>
                </a:moveTo>
                <a:lnTo>
                  <a:pt x="905" y="230"/>
                </a:lnTo>
                <a:lnTo>
                  <a:pt x="450" y="463"/>
                </a:lnTo>
                <a:lnTo>
                  <a:pt x="0" y="0"/>
                </a:lnTo>
                <a:lnTo>
                  <a:pt x="0" y="22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565600" y="20480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7561440" y="20480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842160" y="1679400"/>
            <a:ext cx="1438200" cy="362160"/>
          </a:xfrm>
          <a:custGeom>
            <a:avLst/>
            <a:gdLst/>
            <a:ahLst/>
            <a:rect l="l" t="t" r="r" b="b"/>
            <a:pathLst>
              <a:path w="906" h="228">
                <a:moveTo>
                  <a:pt x="0" y="0"/>
                </a:moveTo>
                <a:lnTo>
                  <a:pt x="906" y="2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4840200" y="2048040"/>
            <a:ext cx="1438200" cy="366480"/>
          </a:xfrm>
          <a:custGeom>
            <a:avLst/>
            <a:gdLst/>
            <a:ahLst/>
            <a:rect l="l" t="t" r="r" b="b"/>
            <a:pathLst>
              <a:path w="906" h="228">
                <a:moveTo>
                  <a:pt x="0" y="0"/>
                </a:moveTo>
                <a:lnTo>
                  <a:pt x="906" y="228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7556400" y="1860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556240" y="2230560"/>
            <a:ext cx="719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2916360" y="2048040"/>
            <a:ext cx="41767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7556400" y="241776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551720" y="185580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221000" y="2043000"/>
            <a:ext cx="0" cy="3747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6222960" y="2228760"/>
            <a:ext cx="0" cy="190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8405640" y="1855800"/>
            <a:ext cx="0" cy="565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164120" y="2090880"/>
            <a:ext cx="647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189840" y="2168640"/>
            <a:ext cx="647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8350200" y="2004840"/>
            <a:ext cx="647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614680" y="1689120"/>
            <a:ext cx="71280" cy="358920"/>
          </a:xfrm>
          <a:custGeom>
            <a:avLst/>
            <a:gdLst>
              <a:gd name="textAreaLeft" fmla="*/ 45720 w 71280"/>
              <a:gd name="textAreaRight" fmla="*/ 71640 w 7128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2614680" y="2058840"/>
            <a:ext cx="71280" cy="358920"/>
          </a:xfrm>
          <a:custGeom>
            <a:avLst/>
            <a:gdLst>
              <a:gd name="textAreaLeft" fmla="*/ 45720 w 71280"/>
              <a:gd name="textAreaRight" fmla="*/ 71640 w 7128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2246400" y="1730520"/>
            <a:ext cx="5014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2247840" y="2109960"/>
            <a:ext cx="5018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2928960" y="2421000"/>
                <a:ext cx="10796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7" name=""/>
              <p:cNvSpPr txBox="1"/>
              <p:nvPr/>
            </p:nvSpPr>
            <p:spPr>
              <a:xfrm>
                <a:off x="4941720" y="2421000"/>
                <a:ext cx="10591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8" name=""/>
              <p:cNvSpPr txBox="1"/>
              <p:nvPr/>
            </p:nvSpPr>
            <p:spPr>
              <a:xfrm>
                <a:off x="7029360" y="2421000"/>
                <a:ext cx="1060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9" name=""/>
          <p:cNvSpPr/>
          <p:nvPr/>
        </p:nvSpPr>
        <p:spPr>
          <a:xfrm rot="16200000">
            <a:off x="5381640" y="133200"/>
            <a:ext cx="217440" cy="5653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47240 h 5653080"/>
              <a:gd name="textAreaBottom" fmla="*/ 5505840 h 56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987640" y="3056040"/>
            <a:ext cx="4967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атически допустимые поля изгибающих мо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995560" y="3411360"/>
            <a:ext cx="71640" cy="35892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2995560" y="3781440"/>
            <a:ext cx="71640" cy="35892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2627280" y="3452760"/>
            <a:ext cx="5018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629080" y="3832200"/>
            <a:ext cx="5014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276720" y="3421080"/>
            <a:ext cx="1436400" cy="871560"/>
          </a:xfrm>
          <a:custGeom>
            <a:avLst/>
            <a:gdLst/>
            <a:ahLst/>
            <a:rect l="l" t="t" r="r" b="b"/>
            <a:pathLst>
              <a:path w="905" h="549">
                <a:moveTo>
                  <a:pt x="0" y="229"/>
                </a:moveTo>
                <a:lnTo>
                  <a:pt x="905" y="230"/>
                </a:lnTo>
                <a:lnTo>
                  <a:pt x="448" y="549"/>
                </a:lnTo>
                <a:lnTo>
                  <a:pt x="0" y="0"/>
                </a:lnTo>
                <a:lnTo>
                  <a:pt x="0" y="22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124080" y="3421080"/>
            <a:ext cx="2960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132000" y="3792600"/>
            <a:ext cx="3240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132000" y="4152960"/>
            <a:ext cx="3888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087960" y="3421080"/>
            <a:ext cx="1436760" cy="738000"/>
          </a:xfrm>
          <a:custGeom>
            <a:avLst/>
            <a:gdLst/>
            <a:ahLst/>
            <a:rect l="l" t="t" r="r" b="b"/>
            <a:pathLst>
              <a:path w="905" h="465">
                <a:moveTo>
                  <a:pt x="0" y="229"/>
                </a:moveTo>
                <a:lnTo>
                  <a:pt x="905" y="230"/>
                </a:lnTo>
                <a:lnTo>
                  <a:pt x="905" y="465"/>
                </a:lnTo>
                <a:lnTo>
                  <a:pt x="450" y="463"/>
                </a:lnTo>
                <a:lnTo>
                  <a:pt x="0" y="0"/>
                </a:lnTo>
                <a:lnTo>
                  <a:pt x="0" y="2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804000" y="37861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89440" y="4152960"/>
            <a:ext cx="277920" cy="125280"/>
          </a:xfrm>
          <a:custGeom>
            <a:avLst/>
            <a:gdLst/>
            <a:ahLst/>
            <a:rect l="l" t="t" r="r" b="b"/>
            <a:pathLst>
              <a:path w="166" h="74">
                <a:moveTo>
                  <a:pt x="0" y="2"/>
                </a:moveTo>
                <a:lnTo>
                  <a:pt x="166" y="0"/>
                </a:lnTo>
                <a:lnTo>
                  <a:pt x="60" y="74"/>
                </a:lnTo>
                <a:lnTo>
                  <a:pt x="0" y="2"/>
                </a:lnTo>
                <a:close/>
              </a:path>
            </a:pathLst>
          </a:custGeom>
          <a:solidFill>
            <a:srgbClr val="f87e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3995640" y="3780000"/>
            <a:ext cx="0" cy="49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419640" y="3429000"/>
            <a:ext cx="2089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Статически недопусти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         </a:t>
            </a:r>
            <a:r>
              <a:rPr b="1" lang="en-US" sz="1400" spc="-1" strike="noStrike">
                <a:solidFill>
                  <a:srgbClr val="cc0000"/>
                </a:solidFill>
                <a:latin typeface="Arial Narrow"/>
              </a:rPr>
              <a:t>поле  мо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760920" y="4064040"/>
            <a:ext cx="485640" cy="2728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4238640" y="3686040"/>
            <a:ext cx="996840" cy="611280"/>
          </a:xfrm>
          <a:custGeom>
            <a:avLst/>
            <a:gdLst/>
            <a:ahLst/>
            <a:rect l="l" t="t" r="r" b="b"/>
            <a:pathLst>
              <a:path w="628" h="385">
                <a:moveTo>
                  <a:pt x="564" y="0"/>
                </a:moveTo>
                <a:cubicBezTo>
                  <a:pt x="573" y="11"/>
                  <a:pt x="609" y="33"/>
                  <a:pt x="618" y="66"/>
                </a:cubicBezTo>
                <a:cubicBezTo>
                  <a:pt x="627" y="99"/>
                  <a:pt x="628" y="160"/>
                  <a:pt x="618" y="198"/>
                </a:cubicBezTo>
                <a:cubicBezTo>
                  <a:pt x="608" y="236"/>
                  <a:pt x="590" y="266"/>
                  <a:pt x="558" y="294"/>
                </a:cubicBezTo>
                <a:cubicBezTo>
                  <a:pt x="526" y="322"/>
                  <a:pt x="483" y="351"/>
                  <a:pt x="426" y="366"/>
                </a:cubicBezTo>
                <a:cubicBezTo>
                  <a:pt x="369" y="381"/>
                  <a:pt x="287" y="385"/>
                  <a:pt x="216" y="384"/>
                </a:cubicBezTo>
                <a:cubicBezTo>
                  <a:pt x="145" y="383"/>
                  <a:pt x="45" y="365"/>
                  <a:pt x="0" y="36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227640" y="3400560"/>
            <a:ext cx="208944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 Narrow"/>
              </a:rPr>
              <a:t>Статически невозмож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ff"/>
                </a:solidFill>
                <a:latin typeface="Arial Narrow"/>
              </a:rPr>
              <a:t>         </a:t>
            </a:r>
            <a:r>
              <a:rPr b="1" lang="en-US" sz="1400" spc="-1" strike="noStrike">
                <a:solidFill>
                  <a:srgbClr val="6666ff"/>
                </a:solidFill>
                <a:latin typeface="Arial Narrow"/>
              </a:rPr>
              <a:t>поле  мо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423200" y="3733920"/>
            <a:ext cx="173160" cy="487080"/>
          </a:xfrm>
          <a:prstGeom prst="ellipse">
            <a:avLst/>
          </a:prstGeom>
          <a:noFill/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843280" y="43797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. Решение кинематическим методом Т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160640" y="5079960"/>
            <a:ext cx="71280" cy="287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231920" y="50799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1231920" y="521820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639880" y="5418000"/>
            <a:ext cx="21600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639880" y="5418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752560" y="5202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2709720" y="537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2709720" y="518652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2016000" y="50529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846440" y="479736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309680" y="4960800"/>
            <a:ext cx="1444680" cy="524160"/>
          </a:xfrm>
          <a:custGeom>
            <a:avLst/>
            <a:gdLst/>
            <a:ahLst/>
            <a:rect l="l" t="t" r="r" b="b"/>
            <a:pathLst>
              <a:path w="910" h="330">
                <a:moveTo>
                  <a:pt x="0" y="172"/>
                </a:moveTo>
                <a:lnTo>
                  <a:pt x="454" y="330"/>
                </a:lnTo>
                <a:lnTo>
                  <a:pt x="91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2749680" y="49849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960560" y="542592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H="1" flipV="1" rot="19782000">
            <a:off x="2073600" y="5265360"/>
            <a:ext cx="29268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6" y="215"/>
                </a:moveTo>
                <a:arcTo wR="10800" hR="10800" stAng="-4712280" swAng="10883284"/>
                <a:lnTo>
                  <a:pt x="10800" y="10800"/>
                </a:lnTo>
                <a:close/>
              </a:path>
              <a:path fill="none" w="21600" h="21600">
                <a:moveTo>
                  <a:pt x="12946" y="215"/>
                </a:moveTo>
                <a:arcTo wR="10800" hR="10800" stAng="-4712280" swAng="1088328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V="1" rot="992400">
            <a:off x="1649880" y="5290920"/>
            <a:ext cx="29268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38" y="436"/>
                </a:moveTo>
                <a:arcTo wR="10800" hR="10800" stAng="-4419803" swAng="10590807"/>
                <a:lnTo>
                  <a:pt x="10800" y="10800"/>
                </a:lnTo>
                <a:close/>
              </a:path>
              <a:path fill="none" w="21600" h="21600">
                <a:moveTo>
                  <a:pt x="13838" y="436"/>
                </a:moveTo>
                <a:arcTo wR="10800" hR="10800" stAng="-4419803" swAng="1059080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036880" y="552456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1204920" y="516564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 flipH="1">
            <a:off x="1289160" y="5121360"/>
            <a:ext cx="6192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255680" y="5084640"/>
            <a:ext cx="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V="1" rot="12370200">
            <a:off x="1321920" y="5174280"/>
            <a:ext cx="292680" cy="2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303200" y="490212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460520" y="542124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2173320" y="541188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>
            <a:off x="1962000" y="5533920"/>
            <a:ext cx="3672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639880" y="4886280"/>
            <a:ext cx="216000" cy="43200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826920" y="5783400"/>
            <a:ext cx="23767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Кинематически недопустим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         </a:t>
            </a:r>
            <a:r>
              <a:rPr b="1" lang="ru-RU" sz="1400" spc="-1" strike="noStrike">
                <a:solidFill>
                  <a:srgbClr val="cc0000"/>
                </a:solidFill>
                <a:latin typeface="Arial Narrow"/>
              </a:rPr>
              <a:t>поле  перемещ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2859120" y="5119560"/>
            <a:ext cx="458640" cy="679680"/>
          </a:xfrm>
          <a:custGeom>
            <a:avLst/>
            <a:gdLst/>
            <a:ahLst/>
            <a:rect l="l" t="t" r="r" b="b"/>
            <a:pathLst>
              <a:path w="289" h="428">
                <a:moveTo>
                  <a:pt x="160" y="428"/>
                </a:moveTo>
                <a:cubicBezTo>
                  <a:pt x="175" y="415"/>
                  <a:pt x="227" y="385"/>
                  <a:pt x="248" y="352"/>
                </a:cubicBezTo>
                <a:cubicBezTo>
                  <a:pt x="269" y="319"/>
                  <a:pt x="287" y="270"/>
                  <a:pt x="288" y="228"/>
                </a:cubicBezTo>
                <a:cubicBezTo>
                  <a:pt x="289" y="186"/>
                  <a:pt x="277" y="135"/>
                  <a:pt x="252" y="100"/>
                </a:cubicBezTo>
                <a:cubicBezTo>
                  <a:pt x="227" y="65"/>
                  <a:pt x="178" y="37"/>
                  <a:pt x="136" y="20"/>
                </a:cubicBezTo>
                <a:cubicBezTo>
                  <a:pt x="94" y="3"/>
                  <a:pt x="28" y="4"/>
                  <a:pt x="0" y="0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819600" y="5084640"/>
            <a:ext cx="71280" cy="2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890880" y="508464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890880" y="52228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299200" y="5423040"/>
            <a:ext cx="21564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299200" y="54230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411880" y="520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369040" y="53802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5369040" y="51912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675320" y="5057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4505400" y="480204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330800" y="5246640"/>
            <a:ext cx="1041480" cy="243000"/>
          </a:xfrm>
          <a:custGeom>
            <a:avLst/>
            <a:gdLst/>
            <a:ahLst/>
            <a:rect l="l" t="t" r="r" b="b"/>
            <a:pathLst>
              <a:path w="656" h="153">
                <a:moveTo>
                  <a:pt x="0" y="0"/>
                </a:moveTo>
                <a:lnTo>
                  <a:pt x="226" y="153"/>
                </a:lnTo>
                <a:lnTo>
                  <a:pt x="6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4619520" y="543096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 flipH="1" flipV="1" rot="20137800">
            <a:off x="4741200" y="5281920"/>
            <a:ext cx="292320" cy="25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67" y="755"/>
                </a:moveTo>
                <a:arcTo wR="10800" hR="10800" stAng="-4107062" swAng="9762697"/>
                <a:lnTo>
                  <a:pt x="10800" y="10800"/>
                </a:lnTo>
                <a:close/>
              </a:path>
              <a:path fill="none" w="21600" h="21600">
                <a:moveTo>
                  <a:pt x="14767" y="755"/>
                </a:moveTo>
                <a:arcTo wR="10800" hR="10800" stAng="-4107062" swAng="97626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V="1" rot="3111600">
            <a:off x="4332960" y="5238000"/>
            <a:ext cx="292680" cy="2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602" y="2411"/>
                </a:moveTo>
                <a:arcTo wR="10800" hR="10800" stAng="-3057829" swAng="9228833"/>
                <a:lnTo>
                  <a:pt x="10800" y="10800"/>
                </a:lnTo>
                <a:close/>
              </a:path>
              <a:path fill="none" w="21600" h="21600">
                <a:moveTo>
                  <a:pt x="17602" y="2411"/>
                </a:moveTo>
                <a:arcTo wR="10800" hR="10800" stAng="-3057829" swAng="9228833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4695840" y="5529240"/>
            <a:ext cx="3636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4248000" y="517032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H="1">
            <a:off x="4332240" y="5126040"/>
            <a:ext cx="6192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 rot="13236000">
            <a:off x="4330440" y="5231880"/>
            <a:ext cx="292320" cy="2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948" y="1306"/>
                </a:moveTo>
                <a:arcTo wR="10800" hR="10800" stAng="-3692097" swAng="9305490"/>
                <a:lnTo>
                  <a:pt x="10800" y="10800"/>
                </a:lnTo>
                <a:close/>
              </a:path>
              <a:path fill="none" w="21600" h="21600">
                <a:moveTo>
                  <a:pt x="15948" y="1306"/>
                </a:moveTo>
                <a:arcTo wR="10800" hR="10800" stAng="-3692097" swAng="9305490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898800" y="483696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4119480" y="542592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832280" y="541656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4620960" y="5538960"/>
            <a:ext cx="3636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6621480" y="5084640"/>
            <a:ext cx="71280" cy="287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6692760" y="508464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6692760" y="5222880"/>
            <a:ext cx="1511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8101080" y="542304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8101080" y="54230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8213760" y="5207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8170920" y="53802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8170920" y="51912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7477200" y="5057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307280" y="480204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770520" y="5238720"/>
            <a:ext cx="1403640" cy="250920"/>
          </a:xfrm>
          <a:custGeom>
            <a:avLst/>
            <a:gdLst/>
            <a:ahLst/>
            <a:rect l="l" t="t" r="r" b="b"/>
            <a:pathLst>
              <a:path w="884" h="158">
                <a:moveTo>
                  <a:pt x="0" y="0"/>
                </a:moveTo>
                <a:lnTo>
                  <a:pt x="454" y="158"/>
                </a:lnTo>
                <a:lnTo>
                  <a:pt x="884" y="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7421400" y="543096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 flipV="1" rot="20137800">
            <a:off x="7549920" y="5306760"/>
            <a:ext cx="292680" cy="250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6" y="215"/>
                </a:moveTo>
                <a:arcTo wR="10800" hR="10800" stAng="-4712280" swAng="10883284"/>
                <a:lnTo>
                  <a:pt x="10800" y="10800"/>
                </a:lnTo>
                <a:close/>
              </a:path>
              <a:path fill="none" w="21600" h="21600">
                <a:moveTo>
                  <a:pt x="12946" y="215"/>
                </a:moveTo>
                <a:arcTo wR="10800" hR="10800" stAng="-4712280" swAng="1088328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V="1" rot="992400">
            <a:off x="7110360" y="5309280"/>
            <a:ext cx="2934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38" y="436"/>
                </a:moveTo>
                <a:arcTo wR="10800" hR="10800" stAng="-4419803" swAng="10590807"/>
                <a:lnTo>
                  <a:pt x="10800" y="10800"/>
                </a:lnTo>
                <a:close/>
              </a:path>
              <a:path fill="none" w="21600" h="21600">
                <a:moveTo>
                  <a:pt x="13838" y="436"/>
                </a:moveTo>
                <a:arcTo wR="10800" hR="10800" stAng="-4419803" swAng="1059080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7497720" y="5529240"/>
            <a:ext cx="3672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665760" y="5170320"/>
            <a:ext cx="108000" cy="10800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6750000" y="5126040"/>
            <a:ext cx="6192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716880" y="5089680"/>
            <a:ext cx="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V="1" rot="12370200">
            <a:off x="6782400" y="5179680"/>
            <a:ext cx="29268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5710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571004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6764400" y="490680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921360" y="542592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634160" y="5416560"/>
            <a:ext cx="48600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7422840" y="5538960"/>
            <a:ext cx="3636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884760" y="522612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300560" y="5095800"/>
            <a:ext cx="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 flipV="1" rot="10800000">
            <a:off x="3932640" y="5087160"/>
            <a:ext cx="291600" cy="2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67" y="755"/>
                </a:moveTo>
                <a:arcTo wR="10800" hR="10800" stAng="-4107062" swAng="9762697"/>
                <a:lnTo>
                  <a:pt x="10800" y="10800"/>
                </a:lnTo>
                <a:close/>
              </a:path>
              <a:path fill="none" w="21600" h="21600">
                <a:moveTo>
                  <a:pt x="14767" y="755"/>
                </a:moveTo>
                <a:arcTo wR="10800" hR="10800" stAng="-4107062" swAng="9762697"/>
              </a:path>
            </a:pathLst>
          </a:cu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5248440" y="4765680"/>
                <a:ext cx="12967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5" name=""/>
          <p:cNvSpPr/>
          <p:nvPr/>
        </p:nvSpPr>
        <p:spPr>
          <a:xfrm>
            <a:off x="3676680" y="5229360"/>
            <a:ext cx="142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676680" y="548496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47960" y="522936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348000" y="5151600"/>
            <a:ext cx="4856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886200" y="533556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299120" y="570240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892680" y="5765760"/>
            <a:ext cx="403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3857760" y="5727240"/>
            <a:ext cx="7272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4264200" y="5734080"/>
            <a:ext cx="72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419640" y="5589720"/>
            <a:ext cx="473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048280" y="5224320"/>
            <a:ext cx="23760" cy="119160"/>
          </a:xfrm>
          <a:custGeom>
            <a:avLst/>
            <a:gdLst/>
            <a:ahLst/>
            <a:rect l="l" t="t" r="r" b="b"/>
            <a:pathLst>
              <a:path w="15" h="75">
                <a:moveTo>
                  <a:pt x="0" y="0"/>
                </a:moveTo>
                <a:cubicBezTo>
                  <a:pt x="0" y="5"/>
                  <a:pt x="1" y="24"/>
                  <a:pt x="3" y="36"/>
                </a:cubicBezTo>
                <a:cubicBezTo>
                  <a:pt x="5" y="48"/>
                  <a:pt x="12" y="67"/>
                  <a:pt x="15" y="7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7861320" y="5219640"/>
            <a:ext cx="23760" cy="119160"/>
          </a:xfrm>
          <a:custGeom>
            <a:avLst/>
            <a:gdLst/>
            <a:ahLst/>
            <a:rect l="l" t="t" r="r" b="b"/>
            <a:pathLst>
              <a:path w="15" h="75">
                <a:moveTo>
                  <a:pt x="0" y="0"/>
                </a:moveTo>
                <a:cubicBezTo>
                  <a:pt x="0" y="5"/>
                  <a:pt x="1" y="24"/>
                  <a:pt x="3" y="36"/>
                </a:cubicBezTo>
                <a:cubicBezTo>
                  <a:pt x="5" y="48"/>
                  <a:pt x="12" y="67"/>
                  <a:pt x="15" y="7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7081920" y="5214960"/>
            <a:ext cx="23760" cy="123840"/>
          </a:xfrm>
          <a:custGeom>
            <a:avLst/>
            <a:gdLst/>
            <a:ahLst/>
            <a:rect l="l" t="t" r="r" b="b"/>
            <a:pathLst>
              <a:path w="15" h="78">
                <a:moveTo>
                  <a:pt x="12" y="0"/>
                </a:moveTo>
                <a:cubicBezTo>
                  <a:pt x="12" y="7"/>
                  <a:pt x="15" y="30"/>
                  <a:pt x="13" y="43"/>
                </a:cubicBezTo>
                <a:cubicBezTo>
                  <a:pt x="11" y="56"/>
                  <a:pt x="3" y="71"/>
                  <a:pt x="0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910040" y="500868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719840" y="500868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5460840" y="5170320"/>
            <a:ext cx="11541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348000" y="5810400"/>
            <a:ext cx="23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–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6659640" y="5810400"/>
            <a:ext cx="1728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–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3784680" y="5662440"/>
            <a:ext cx="311040" cy="103320"/>
          </a:xfrm>
          <a:custGeom>
            <a:avLst/>
            <a:gdLst/>
            <a:ahLst/>
            <a:rect l="l" t="t" r="r" b="b"/>
            <a:pathLst>
              <a:path w="196" h="65">
                <a:moveTo>
                  <a:pt x="0" y="25"/>
                </a:moveTo>
                <a:cubicBezTo>
                  <a:pt x="13" y="20"/>
                  <a:pt x="53" y="2"/>
                  <a:pt x="80" y="1"/>
                </a:cubicBezTo>
                <a:cubicBezTo>
                  <a:pt x="107" y="0"/>
                  <a:pt x="145" y="6"/>
                  <a:pt x="164" y="17"/>
                </a:cubicBezTo>
                <a:cubicBezTo>
                  <a:pt x="183" y="28"/>
                  <a:pt x="189" y="55"/>
                  <a:pt x="196" y="6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4" name=""/>
              <p:cNvSpPr txBox="1"/>
              <p:nvPr/>
            </p:nvSpPr>
            <p:spPr>
              <a:xfrm>
                <a:off x="3894120" y="6075360"/>
                <a:ext cx="122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6896160" y="6075360"/>
                <a:ext cx="1150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6" name=""/>
          <p:cNvSpPr/>
          <p:nvPr/>
        </p:nvSpPr>
        <p:spPr>
          <a:xfrm>
            <a:off x="8153280" y="2695680"/>
            <a:ext cx="474840" cy="1741320"/>
          </a:xfrm>
          <a:custGeom>
            <a:avLst/>
            <a:gdLst/>
            <a:ahLst/>
            <a:rect l="l" t="t" r="r" b="b"/>
            <a:pathLst>
              <a:path w="299" h="1116">
                <a:moveTo>
                  <a:pt x="294" y="1116"/>
                </a:moveTo>
                <a:cubicBezTo>
                  <a:pt x="294" y="1071"/>
                  <a:pt x="294" y="945"/>
                  <a:pt x="294" y="846"/>
                </a:cubicBezTo>
                <a:cubicBezTo>
                  <a:pt x="294" y="747"/>
                  <a:pt x="299" y="621"/>
                  <a:pt x="294" y="522"/>
                </a:cubicBezTo>
                <a:cubicBezTo>
                  <a:pt x="289" y="423"/>
                  <a:pt x="288" y="332"/>
                  <a:pt x="264" y="253"/>
                </a:cubicBezTo>
                <a:cubicBezTo>
                  <a:pt x="240" y="174"/>
                  <a:pt x="192" y="92"/>
                  <a:pt x="148" y="50"/>
                </a:cubicBezTo>
                <a:cubicBezTo>
                  <a:pt x="104" y="8"/>
                  <a:pt x="31" y="10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V="1">
            <a:off x="8101080" y="4734000"/>
            <a:ext cx="527040" cy="1657440"/>
          </a:xfrm>
          <a:custGeom>
            <a:avLst/>
            <a:gdLst/>
            <a:ahLst/>
            <a:rect l="l" t="t" r="r" b="b"/>
            <a:pathLst>
              <a:path w="299" h="1116">
                <a:moveTo>
                  <a:pt x="294" y="1116"/>
                </a:moveTo>
                <a:cubicBezTo>
                  <a:pt x="294" y="1071"/>
                  <a:pt x="294" y="945"/>
                  <a:pt x="294" y="846"/>
                </a:cubicBezTo>
                <a:cubicBezTo>
                  <a:pt x="294" y="747"/>
                  <a:pt x="299" y="621"/>
                  <a:pt x="294" y="522"/>
                </a:cubicBezTo>
                <a:cubicBezTo>
                  <a:pt x="289" y="423"/>
                  <a:pt x="288" y="332"/>
                  <a:pt x="264" y="253"/>
                </a:cubicBezTo>
                <a:cubicBezTo>
                  <a:pt x="240" y="174"/>
                  <a:pt x="192" y="92"/>
                  <a:pt x="148" y="50"/>
                </a:cubicBezTo>
                <a:cubicBezTo>
                  <a:pt x="104" y="8"/>
                  <a:pt x="31" y="10"/>
                  <a:pt x="0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8353440" y="4390920"/>
            <a:ext cx="504720" cy="379800"/>
          </a:xfrm>
          <a:prstGeom prst="rect">
            <a:avLst/>
          </a:prstGeom>
          <a:solidFill>
            <a:srgbClr val="eeb0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6" dur="indefinite" restart="never" nodeType="tmRoot">
          <p:childTnLst>
            <p:seq>
              <p:cTn id="8077" dur="indefinite" nodeType="mainSeq">
                <p:childTnLst>
                  <p:par>
                    <p:cTn id="8078" fill="hold">
                      <p:stCondLst>
                        <p:cond delay="0"/>
                      </p:stCondLst>
                      <p:childTnLst>
                        <p:par>
                          <p:cTn id="8079" fill="hold">
                            <p:stCondLst>
                              <p:cond delay="0"/>
                            </p:stCondLst>
                            <p:childTnLst>
                              <p:par>
                                <p:cTn id="80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5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8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1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4" dur="10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7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0" dur="1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3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6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9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5" dur="10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8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1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4" dur="10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7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0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3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6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9" dur="1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0" fill="hold">
                      <p:stCondLst>
                        <p:cond delay="indefinite"/>
                      </p:stCondLst>
                      <p:childTnLst>
                        <p:par>
                          <p:cTn id="8141" fill="hold">
                            <p:stCondLst>
                              <p:cond delay="0"/>
                            </p:stCondLst>
                            <p:childTnLst>
                              <p:par>
                                <p:cTn id="8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4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5" dur="10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6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0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1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2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5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6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7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0" dur="1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1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2" dur="1000" fill="hold"/>
                                        <p:tgtEl>
                                          <p:spTgt spid="2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6" dur="1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9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3" dur="1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4" dur="10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5" dur="1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6" fill="hold">
                      <p:stCondLst>
                        <p:cond delay="indefinite"/>
                      </p:stCondLst>
                      <p:childTnLst>
                        <p:par>
                          <p:cTn id="8177" fill="hold">
                            <p:stCondLst>
                              <p:cond delay="0"/>
                            </p:stCondLst>
                            <p:childTnLst>
                              <p:par>
                                <p:cTn id="8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0" dur="10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84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5" fill="hold">
                      <p:stCondLst>
                        <p:cond delay="indefinite"/>
                      </p:stCondLst>
                      <p:childTnLst>
                        <p:par>
                          <p:cTn id="8186" fill="hold">
                            <p:stCondLst>
                              <p:cond delay="0"/>
                            </p:stCondLst>
                            <p:childTnLst>
                              <p:par>
                                <p:cTn id="8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9" dur="80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0" dur="80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1" dur="80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2" fill="hold">
                      <p:stCondLst>
                        <p:cond delay="indefinite"/>
                      </p:stCondLst>
                      <p:childTnLst>
                        <p:par>
                          <p:cTn id="8193" fill="hold">
                            <p:stCondLst>
                              <p:cond delay="0"/>
                            </p:stCondLst>
                            <p:childTnLst>
                              <p:par>
                                <p:cTn id="8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6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7" dur="10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8" dur="10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1" dur="1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2" dur="1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3" dur="1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6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7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8" dur="10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2" dur="10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3" dur="10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4" dur="10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7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8" dur="10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9" dur="1000"/>
                                        <p:tgtEl>
                                          <p:spTgt spid="2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2" dur="1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3" dur="10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4" dur="10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7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8" dur="10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9" dur="10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3" dur="1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6" dur="10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0" dur="10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3" dur="1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7" dur="10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50" dur="1000"/>
                                        <p:tgtEl>
                                          <p:spTgt spid="2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4" dur="10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5" dur="1000" fill="hold"/>
                                        <p:tgtEl>
                                          <p:spTgt spid="2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6" dur="10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9" dur="80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0" dur="80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1" dur="80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2" fill="hold">
                      <p:stCondLst>
                        <p:cond delay="indefinite"/>
                      </p:stCondLst>
                      <p:childTnLst>
                        <p:par>
                          <p:cTn id="8263" fill="hold">
                            <p:stCondLst>
                              <p:cond delay="0"/>
                            </p:stCondLst>
                            <p:childTnLst>
                              <p:par>
                                <p:cTn id="8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6" dur="10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9" dur="10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3" dur="20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7" dur="20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0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3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7" dur="1000"/>
                                        <p:tgtEl>
                                          <p:spTgt spid="2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0" dur="1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4" dur="1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7" dur="10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00" dur="10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03" dur="10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4" fill="hold">
                      <p:stCondLst>
                        <p:cond delay="indefinite"/>
                      </p:stCondLst>
                      <p:childTnLst>
                        <p:par>
                          <p:cTn id="8305" fill="hold">
                            <p:stCondLst>
                              <p:cond delay="0"/>
                            </p:stCondLst>
                            <p:childTnLst>
                              <p:par>
                                <p:cTn id="8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8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9" dur="1000" fill="hold"/>
                                        <p:tgtEl>
                                          <p:spTgt spid="2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0" dur="10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4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5" dur="1000" fill="hold"/>
                                        <p:tgtEl>
                                          <p:spTgt spid="2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6" dur="1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0" dur="10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1" dur="1000" fill="hold"/>
                                        <p:tgtEl>
                                          <p:spTgt spid="2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2" dur="10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3" fill="hold">
                      <p:stCondLst>
                        <p:cond delay="indefinite"/>
                      </p:stCondLst>
                      <p:childTnLst>
                        <p:par>
                          <p:cTn id="8324" fill="hold">
                            <p:stCondLst>
                              <p:cond delay="0"/>
                            </p:stCondLst>
                            <p:childTnLst>
                              <p:par>
                                <p:cTn id="8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7" dur="1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8" dur="10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9" dur="10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2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3" dur="1000" fill="hold"/>
                                        <p:tgtEl>
                                          <p:spTgt spid="2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4" dur="10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7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8" dur="1000" fill="hold"/>
                                        <p:tgtEl>
                                          <p:spTgt spid="2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9" dur="1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3" dur="10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4" dur="10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5" dur="10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8" dur="10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9" dur="10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0" dur="1000"/>
                                        <p:tgtEl>
                                          <p:spTgt spid="2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3" dur="1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4" dur="10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5" dur="1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8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9" dur="1000" fill="hold"/>
                                        <p:tgtEl>
                                          <p:spTgt spid="2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0" dur="10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4" dur="10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7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1" dur="1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74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5" fill="hold">
                      <p:stCondLst>
                        <p:cond delay="indefinite"/>
                      </p:stCondLst>
                      <p:childTnLst>
                        <p:par>
                          <p:cTn id="8376" fill="hold">
                            <p:stCondLst>
                              <p:cond delay="0"/>
                            </p:stCondLst>
                            <p:childTnLst>
                              <p:par>
                                <p:cTn id="8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9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0" dur="10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1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5" dur="20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6" fill="hold">
                      <p:stCondLst>
                        <p:cond delay="indefinite"/>
                      </p:stCondLst>
                      <p:childTnLst>
                        <p:par>
                          <p:cTn id="8387" fill="hold">
                            <p:stCondLst>
                              <p:cond delay="0"/>
                            </p:stCondLst>
                            <p:childTnLst>
                              <p:par>
                                <p:cTn id="8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0" dur="8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1" dur="8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92" dur="80"/>
                                        <p:tgtEl>
                                          <p:spTgt spid="2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5" dur="1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6" fill="hold">
                            <p:stCondLst>
                              <p:cond delay="1400"/>
                            </p:stCondLst>
                            <p:childTnLst>
                              <p:par>
                                <p:cTn id="8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9" dur="1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0" fill="hold">
                            <p:stCondLst>
                              <p:cond delay="2400"/>
                            </p:stCondLst>
                            <p:childTnLst>
                              <p:par>
                                <p:cTn id="8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3" dur="8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4" dur="8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5" dur="80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6" fill="hold">
                      <p:stCondLst>
                        <p:cond delay="indefinite"/>
                      </p:stCondLst>
                      <p:childTnLst>
                        <p:par>
                          <p:cTn id="8407" fill="hold">
                            <p:stCondLst>
                              <p:cond delay="0"/>
                            </p:stCondLst>
                            <p:childTnLst>
                              <p:par>
                                <p:cTn id="8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10" dur="8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1" dur="8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2" dur="80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3" fill="hold">
                      <p:stCondLst>
                        <p:cond delay="indefinite"/>
                      </p:stCondLst>
                      <p:childTnLst>
                        <p:par>
                          <p:cTn id="8414" fill="hold">
                            <p:stCondLst>
                              <p:cond delay="0"/>
                            </p:stCondLst>
                            <p:childTnLst>
                              <p:par>
                                <p:cTn id="8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17" dur="10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0" dur="10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3" dur="10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6" dur="10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9" dur="10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2" dur="10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5" dur="10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38" dur="10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1" dur="10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4" dur="10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47" dur="10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0" dur="10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3" dur="10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6" dur="10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9" dur="10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2" dur="10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5" dur="10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8" dur="10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1" dur="10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4" dur="10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7" dur="10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0" dur="10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3" dur="10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6" dur="10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0" dur="20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1" fill="hold">
                      <p:stCondLst>
                        <p:cond delay="indefinite"/>
                      </p:stCondLst>
                      <p:childTnLst>
                        <p:par>
                          <p:cTn id="8492" fill="hold">
                            <p:stCondLst>
                              <p:cond delay="0"/>
                            </p:stCondLst>
                            <p:childTnLst>
                              <p:par>
                                <p:cTn id="8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5" dur="8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96" dur="8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7" dur="80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0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1" fill="hold">
                      <p:stCondLst>
                        <p:cond delay="indefinite"/>
                      </p:stCondLst>
                      <p:childTnLst>
                        <p:par>
                          <p:cTn id="8502" fill="hold">
                            <p:stCondLst>
                              <p:cond delay="0"/>
                            </p:stCondLst>
                            <p:childTnLst>
                              <p:par>
                                <p:cTn id="8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5" dur="10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08" dur="10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1" dur="10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4" dur="1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7" dur="10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0" dur="10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3" dur="10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6" dur="10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29" dur="1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2" dur="1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5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8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1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4" dur="10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7" dur="10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0" dur="10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3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6" dur="10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9" dur="10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2" dur="10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5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8" dur="10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1" dur="10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4" dur="10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77" dur="10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8" fill="hold">
                      <p:stCondLst>
                        <p:cond delay="indefinite"/>
                      </p:stCondLst>
                      <p:childTnLst>
                        <p:par>
                          <p:cTn id="8579" fill="hold">
                            <p:stCondLst>
                              <p:cond delay="0"/>
                            </p:stCondLst>
                            <p:childTnLst>
                              <p:par>
                                <p:cTn id="8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2" dur="10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3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4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7" dur="10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8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9" dur="1000" fill="hold"/>
                                        <p:tgtEl>
                                          <p:spTgt spid="2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2" dur="1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3" dur="1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4" dur="1000" fill="hold"/>
                                        <p:tgtEl>
                                          <p:spTgt spid="2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7" dur="10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8" dur="10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9" dur="1000" fill="hold"/>
                                        <p:tgtEl>
                                          <p:spTgt spid="2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2" dur="10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3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4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8" dur="10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1" dur="10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86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5" dur="10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8" dur="10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1" dur="10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24" dur="10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28" dur="10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31" dur="10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2" fill="hold">
                      <p:stCondLst>
                        <p:cond delay="indefinite"/>
                      </p:stCondLst>
                      <p:childTnLst>
                        <p:par>
                          <p:cTn id="8633" fill="hold">
                            <p:stCondLst>
                              <p:cond delay="0"/>
                            </p:stCondLst>
                            <p:childTnLst>
                              <p:par>
                                <p:cTn id="8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6" dur="2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9" dur="20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2" dur="20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5" dur="2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48" dur="2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1" dur="20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4" dur="20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7" dur="20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0" dur="20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3" dur="20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6" dur="20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9" dur="20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2" dur="2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5" dur="2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78" dur="2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1" dur="20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4" dur="2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7" dur="20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0" dur="20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3" dur="20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6" dur="20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99" dur="20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2" dur="20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5" dur="20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8" dur="20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11" dur="20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5" dur="10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6" dur="10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7" dur="10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8" fill="hold">
                      <p:stCondLst>
                        <p:cond delay="indefinite"/>
                      </p:stCondLst>
                      <p:childTnLst>
                        <p:par>
                          <p:cTn id="8719" fill="hold">
                            <p:stCondLst>
                              <p:cond delay="0"/>
                            </p:stCondLst>
                            <p:childTnLst>
                              <p:par>
                                <p:cTn id="87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2" dur="20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3" fill="hold">
                      <p:stCondLst>
                        <p:cond delay="indefinite"/>
                      </p:stCondLst>
                      <p:childTnLst>
                        <p:par>
                          <p:cTn id="8724" fill="hold">
                            <p:stCondLst>
                              <p:cond delay="0"/>
                            </p:stCondLst>
                            <p:childTnLst>
                              <p:par>
                                <p:cTn id="8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7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8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9" dur="10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33" dur="2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4" fill="hold">
                      <p:stCondLst>
                        <p:cond delay="indefinite"/>
                      </p:stCondLst>
                      <p:childTnLst>
                        <p:par>
                          <p:cTn id="8735" fill="hold">
                            <p:stCondLst>
                              <p:cond delay="0"/>
                            </p:stCondLst>
                            <p:childTnLst>
                              <p:par>
                                <p:cTn id="8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8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9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0" dur="10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44" dur="2000"/>
                                        <p:tgtEl>
                                          <p:spTgt spid="2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5" fill="hold">
                      <p:stCondLst>
                        <p:cond delay="indefinite"/>
                      </p:stCondLst>
                      <p:childTnLst>
                        <p:par>
                          <p:cTn id="8746" fill="hold">
                            <p:stCondLst>
                              <p:cond delay="0"/>
                            </p:stCondLst>
                            <p:childTnLst>
                              <p:par>
                                <p:cTn id="8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49" dur="2000"/>
                                        <p:tgtEl>
                                          <p:spTgt spid="2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2" dur="2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56" dur="2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82600"/>
            <a:ext cx="7129440" cy="1781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Нелинейно деформируем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ывается система, для которой зависим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 параметр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воздействия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узк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характерным (обобщённым) перемещением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не прямо пропорциональ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25720" y="2527200"/>
            <a:ext cx="2160720" cy="165744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82800" y="2195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440" y="3967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24120" y="4111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640" y="4160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25720" y="2781360"/>
            <a:ext cx="1873440" cy="1403280"/>
          </a:xfrm>
          <a:custGeom>
            <a:avLst/>
            <a:gdLst/>
            <a:ahLst/>
            <a:rect l="l" t="t" r="r" b="b"/>
            <a:pathLst>
              <a:path w="953" h="606">
                <a:moveTo>
                  <a:pt x="0" y="606"/>
                </a:moveTo>
                <a:cubicBezTo>
                  <a:pt x="18" y="564"/>
                  <a:pt x="81" y="413"/>
                  <a:pt x="110" y="352"/>
                </a:cubicBezTo>
                <a:cubicBezTo>
                  <a:pt x="139" y="291"/>
                  <a:pt x="143" y="273"/>
                  <a:pt x="171" y="240"/>
                </a:cubicBezTo>
                <a:cubicBezTo>
                  <a:pt x="199" y="207"/>
                  <a:pt x="233" y="177"/>
                  <a:pt x="275" y="152"/>
                </a:cubicBezTo>
                <a:cubicBezTo>
                  <a:pt x="317" y="127"/>
                  <a:pt x="356" y="112"/>
                  <a:pt x="425" y="92"/>
                </a:cubicBezTo>
                <a:cubicBezTo>
                  <a:pt x="494" y="72"/>
                  <a:pt x="598" y="47"/>
                  <a:pt x="687" y="32"/>
                </a:cubicBezTo>
                <a:cubicBezTo>
                  <a:pt x="775" y="17"/>
                  <a:pt x="897" y="7"/>
                  <a:pt x="953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3200" y="2600280"/>
            <a:ext cx="1438560" cy="1587600"/>
          </a:xfrm>
          <a:custGeom>
            <a:avLst/>
            <a:gdLst/>
            <a:ahLst/>
            <a:rect l="l" t="t" r="r" b="b"/>
            <a:pathLst>
              <a:path w="732" h="624">
                <a:moveTo>
                  <a:pt x="256" y="624"/>
                </a:moveTo>
                <a:lnTo>
                  <a:pt x="0" y="624"/>
                </a:lnTo>
                <a:lnTo>
                  <a:pt x="73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3971880"/>
            <a:ext cx="108000" cy="212760"/>
          </a:xfrm>
          <a:custGeom>
            <a:avLst/>
            <a:gdLst/>
            <a:ahLst/>
            <a:rect l="l" t="t" r="r" b="b"/>
            <a:pathLst>
              <a:path w="33" h="93">
                <a:moveTo>
                  <a:pt x="0" y="0"/>
                </a:moveTo>
                <a:cubicBezTo>
                  <a:pt x="4" y="7"/>
                  <a:pt x="22" y="27"/>
                  <a:pt x="27" y="42"/>
                </a:cubicBezTo>
                <a:cubicBezTo>
                  <a:pt x="32" y="57"/>
                  <a:pt x="32" y="83"/>
                  <a:pt x="33" y="93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1800" y="3443400"/>
            <a:ext cx="27370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бобщён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ёсткость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25720" y="3265560"/>
            <a:ext cx="395280" cy="920520"/>
          </a:xfrm>
          <a:custGeom>
            <a:avLst/>
            <a:gdLst/>
            <a:ahLst/>
            <a:rect l="l" t="t" r="r" b="b"/>
            <a:pathLst>
              <a:path w="227" h="545">
                <a:moveTo>
                  <a:pt x="227" y="545"/>
                </a:move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1080" y="410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0680" y="3105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374328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60600" y="3306600"/>
                <a:ext cx="174960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Δ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88960" y="4916520"/>
            <a:ext cx="1957320" cy="14032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6040" y="45784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75000" y="6102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7360" y="6246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9880" y="62960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84560" y="2184480"/>
            <a:ext cx="28432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Д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мяг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линейностью (МН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754520" y="2655720"/>
                <a:ext cx="13701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77800" y="5224320"/>
            <a:ext cx="1141560" cy="1098720"/>
          </a:xfrm>
          <a:custGeom>
            <a:avLst/>
            <a:gdLst/>
            <a:ahLst/>
            <a:rect l="l" t="t" r="r" b="b"/>
            <a:pathLst>
              <a:path w="719" h="692">
                <a:moveTo>
                  <a:pt x="0" y="692"/>
                </a:moveTo>
                <a:cubicBezTo>
                  <a:pt x="25" y="678"/>
                  <a:pt x="99" y="642"/>
                  <a:pt x="151" y="608"/>
                </a:cubicBezTo>
                <a:cubicBezTo>
                  <a:pt x="203" y="574"/>
                  <a:pt x="258" y="533"/>
                  <a:pt x="311" y="488"/>
                </a:cubicBezTo>
                <a:cubicBezTo>
                  <a:pt x="364" y="443"/>
                  <a:pt x="420" y="389"/>
                  <a:pt x="471" y="336"/>
                </a:cubicBezTo>
                <a:cubicBezTo>
                  <a:pt x="522" y="283"/>
                  <a:pt x="574" y="224"/>
                  <a:pt x="615" y="168"/>
                </a:cubicBezTo>
                <a:cubicBezTo>
                  <a:pt x="656" y="112"/>
                  <a:pt x="697" y="35"/>
                  <a:pt x="71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880" y="4695840"/>
            <a:ext cx="2736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Д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жёс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линейностью (ЖН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720800" y="5151600"/>
                <a:ext cx="1370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348000" y="4919760"/>
            <a:ext cx="1957320" cy="14032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508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34040" y="6105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46400" y="62499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28920" y="62992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36840" y="5373720"/>
            <a:ext cx="1698840" cy="952560"/>
          </a:xfrm>
          <a:custGeom>
            <a:avLst/>
            <a:gdLst/>
            <a:ahLst/>
            <a:rect l="l" t="t" r="r" b="b"/>
            <a:pathLst>
              <a:path w="871" h="641">
                <a:moveTo>
                  <a:pt x="0" y="641"/>
                </a:moveTo>
                <a:cubicBezTo>
                  <a:pt x="25" y="627"/>
                  <a:pt x="105" y="591"/>
                  <a:pt x="151" y="557"/>
                </a:cubicBezTo>
                <a:cubicBezTo>
                  <a:pt x="197" y="523"/>
                  <a:pt x="241" y="479"/>
                  <a:pt x="279" y="436"/>
                </a:cubicBezTo>
                <a:cubicBezTo>
                  <a:pt x="317" y="393"/>
                  <a:pt x="345" y="341"/>
                  <a:pt x="379" y="296"/>
                </a:cubicBezTo>
                <a:cubicBezTo>
                  <a:pt x="413" y="251"/>
                  <a:pt x="448" y="204"/>
                  <a:pt x="483" y="168"/>
                </a:cubicBezTo>
                <a:cubicBezTo>
                  <a:pt x="518" y="132"/>
                  <a:pt x="546" y="105"/>
                  <a:pt x="587" y="80"/>
                </a:cubicBezTo>
                <a:cubicBezTo>
                  <a:pt x="628" y="55"/>
                  <a:pt x="684" y="29"/>
                  <a:pt x="731" y="16"/>
                </a:cubicBezTo>
                <a:cubicBezTo>
                  <a:pt x="778" y="3"/>
                  <a:pt x="842" y="3"/>
                  <a:pt x="87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79760" y="4470480"/>
            <a:ext cx="24829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ДС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комбиниров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линей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7040" y="58132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503240" y="5454360"/>
            <a:ext cx="108000" cy="955800"/>
          </a:xfrm>
          <a:custGeom>
            <a:avLst/>
            <a:gdLst>
              <a:gd name="textAreaLeft" fmla="*/ 0 w 108000"/>
              <a:gd name="textAreaRight" fmla="*/ 38880 w 108000"/>
              <a:gd name="textAreaTop" fmla="*/ 24840 h 955800"/>
              <a:gd name="textAreaBottom" fmla="*/ 930960 h 9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3654360" y="5386320"/>
            <a:ext cx="98640" cy="695520"/>
          </a:xfrm>
          <a:custGeom>
            <a:avLst/>
            <a:gdLst>
              <a:gd name="textAreaLeft" fmla="*/ 0 w 98640"/>
              <a:gd name="textAreaRight" fmla="*/ 35640 w 98640"/>
              <a:gd name="textAreaTop" fmla="*/ 18000 h 695520"/>
              <a:gd name="textAreaBottom" fmla="*/ 677520 h 6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7840" y="53830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2400" y="590868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5479920"/>
            <a:ext cx="879480" cy="812880"/>
          </a:xfrm>
          <a:custGeom>
            <a:avLst/>
            <a:gdLst/>
            <a:ahLst/>
            <a:rect l="l" t="t" r="r" b="b"/>
            <a:pathLst>
              <a:path w="512" h="512">
                <a:moveTo>
                  <a:pt x="0" y="512"/>
                </a:moveTo>
                <a:lnTo>
                  <a:pt x="51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0600" y="5373720"/>
            <a:ext cx="876240" cy="909720"/>
          </a:xfrm>
          <a:custGeom>
            <a:avLst/>
            <a:gdLst/>
            <a:ahLst/>
            <a:rect l="l" t="t" r="r" b="b"/>
            <a:pathLst>
              <a:path w="512" h="512">
                <a:moveTo>
                  <a:pt x="0" y="512"/>
                </a:moveTo>
                <a:lnTo>
                  <a:pt x="51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89600" y="4678200"/>
            <a:ext cx="2879640" cy="1865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53240" y="4703760"/>
            <a:ext cx="30225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В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нелиней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физическая (Ф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геометрическая (Г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 конструктивн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К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12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64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64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64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64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2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6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16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32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32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32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32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320"/>
                            </p:stCondLst>
                            <p:childTnLst>
                              <p:par>
                                <p:cTn id="2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7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60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776240" y="824040"/>
            <a:ext cx="55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пределение предельных нагрузок ба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790560" y="141300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 выравнивания мо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717480" y="247176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287360" y="270972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287360" y="2709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1390680" y="2506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1357200" y="26668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1357200" y="24908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646200" y="2325600"/>
            <a:ext cx="7128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717480" y="23256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030400" y="2703600"/>
            <a:ext cx="21600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030400" y="2703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133720" y="2500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2100240" y="26607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100240" y="2484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2793960" y="2709720"/>
            <a:ext cx="216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2793960" y="2709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2897280" y="2506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2863800" y="26668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863800" y="24908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454560" y="2709720"/>
            <a:ext cx="21564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454560" y="2709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3557520" y="2506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524400" y="266688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524400" y="249084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175280" y="2709720"/>
            <a:ext cx="21564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175280" y="2709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278240" y="244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245120" y="266688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245120" y="243360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1077840" y="218268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789360" y="218592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049640" y="218592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39068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154764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70028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85112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199548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131920" y="2255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282760" y="227952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440080" y="22748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2593800" y="22748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2898720" y="22766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2752560" y="22766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392120" y="2249640"/>
            <a:ext cx="7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2139840" y="22748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95320" y="195120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608120" y="1967040"/>
            <a:ext cx="431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349360" y="1992240"/>
            <a:ext cx="3844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276720" y="213372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506760" y="1925640"/>
            <a:ext cx="54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3884760" y="1927080"/>
            <a:ext cx="54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717480" y="2925720"/>
            <a:ext cx="3567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717480" y="26179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1393920" y="2762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2131920" y="27558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2897280" y="2762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3557520" y="2762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4280040" y="2762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693720" y="289728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1365120" y="290052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2103480" y="289728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2871720" y="289728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530520" y="289728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H="1">
            <a:off x="4254480" y="2897280"/>
            <a:ext cx="54000" cy="52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2359080" y="2643120"/>
            <a:ext cx="384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3770280" y="2641680"/>
            <a:ext cx="384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3059280" y="2641680"/>
            <a:ext cx="504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933480" y="264168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628640" y="264168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684360" y="3213000"/>
            <a:ext cx="3600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684360" y="3932280"/>
            <a:ext cx="3600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74560" y="3209760"/>
            <a:ext cx="71640" cy="35892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74560" y="3579840"/>
            <a:ext cx="71640" cy="35892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89000" y="3247920"/>
            <a:ext cx="5014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90440" y="3627360"/>
            <a:ext cx="50184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284720" y="2987640"/>
            <a:ext cx="0" cy="93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717480" y="3213000"/>
            <a:ext cx="685800" cy="719280"/>
          </a:xfrm>
          <a:custGeom>
            <a:avLst/>
            <a:gdLst/>
            <a:ahLst/>
            <a:rect l="l" t="t" r="r" b="b"/>
            <a:pathLst>
              <a:path w="432" h="453">
                <a:moveTo>
                  <a:pt x="0" y="224"/>
                </a:moveTo>
                <a:lnTo>
                  <a:pt x="205" y="453"/>
                </a:lnTo>
                <a:lnTo>
                  <a:pt x="432" y="0"/>
                </a:lnTo>
                <a:lnTo>
                  <a:pt x="432" y="227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722160" y="2987640"/>
            <a:ext cx="0" cy="936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897280" y="3218040"/>
            <a:ext cx="1377720" cy="714240"/>
          </a:xfrm>
          <a:custGeom>
            <a:avLst/>
            <a:gdLst/>
            <a:ahLst/>
            <a:rect l="l" t="t" r="r" b="b"/>
            <a:pathLst>
              <a:path w="868" h="450">
                <a:moveTo>
                  <a:pt x="0" y="224"/>
                </a:moveTo>
                <a:lnTo>
                  <a:pt x="2" y="0"/>
                </a:lnTo>
                <a:lnTo>
                  <a:pt x="239" y="450"/>
                </a:lnTo>
                <a:lnTo>
                  <a:pt x="419" y="0"/>
                </a:lnTo>
                <a:lnTo>
                  <a:pt x="563" y="342"/>
                </a:lnTo>
                <a:lnTo>
                  <a:pt x="728" y="450"/>
                </a:lnTo>
                <a:lnTo>
                  <a:pt x="868" y="224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397160" y="3197160"/>
            <a:ext cx="741240" cy="739800"/>
          </a:xfrm>
          <a:custGeom>
            <a:avLst/>
            <a:gdLst/>
            <a:ahLst/>
            <a:rect l="l" t="t" r="r" b="b"/>
            <a:pathLst>
              <a:path w="467" h="466">
                <a:moveTo>
                  <a:pt x="4" y="237"/>
                </a:moveTo>
                <a:cubicBezTo>
                  <a:pt x="0" y="131"/>
                  <a:pt x="2" y="115"/>
                  <a:pt x="4" y="10"/>
                </a:cubicBezTo>
                <a:cubicBezTo>
                  <a:pt x="26" y="109"/>
                  <a:pt x="28" y="119"/>
                  <a:pt x="44" y="169"/>
                </a:cubicBezTo>
                <a:cubicBezTo>
                  <a:pt x="60" y="219"/>
                  <a:pt x="78" y="268"/>
                  <a:pt x="98" y="310"/>
                </a:cubicBezTo>
                <a:cubicBezTo>
                  <a:pt x="118" y="352"/>
                  <a:pt x="142" y="398"/>
                  <a:pt x="167" y="424"/>
                </a:cubicBezTo>
                <a:cubicBezTo>
                  <a:pt x="192" y="450"/>
                  <a:pt x="224" y="466"/>
                  <a:pt x="251" y="466"/>
                </a:cubicBezTo>
                <a:cubicBezTo>
                  <a:pt x="278" y="466"/>
                  <a:pt x="306" y="450"/>
                  <a:pt x="329" y="424"/>
                </a:cubicBezTo>
                <a:cubicBezTo>
                  <a:pt x="352" y="398"/>
                  <a:pt x="375" y="351"/>
                  <a:pt x="392" y="307"/>
                </a:cubicBezTo>
                <a:cubicBezTo>
                  <a:pt x="409" y="263"/>
                  <a:pt x="422" y="206"/>
                  <a:pt x="434" y="157"/>
                </a:cubicBezTo>
                <a:cubicBezTo>
                  <a:pt x="446" y="108"/>
                  <a:pt x="462" y="0"/>
                  <a:pt x="467" y="13"/>
                </a:cubicBezTo>
                <a:cubicBezTo>
                  <a:pt x="467" y="106"/>
                  <a:pt x="467" y="189"/>
                  <a:pt x="467" y="235"/>
                </a:cubicBez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130480" y="3198960"/>
            <a:ext cx="766800" cy="739800"/>
          </a:xfrm>
          <a:custGeom>
            <a:avLst/>
            <a:gdLst/>
            <a:ahLst/>
            <a:rect l="l" t="t" r="r" b="b"/>
            <a:pathLst>
              <a:path w="467" h="466">
                <a:moveTo>
                  <a:pt x="4" y="237"/>
                </a:moveTo>
                <a:cubicBezTo>
                  <a:pt x="0" y="131"/>
                  <a:pt x="2" y="115"/>
                  <a:pt x="4" y="10"/>
                </a:cubicBezTo>
                <a:cubicBezTo>
                  <a:pt x="26" y="109"/>
                  <a:pt x="28" y="119"/>
                  <a:pt x="44" y="169"/>
                </a:cubicBezTo>
                <a:cubicBezTo>
                  <a:pt x="60" y="219"/>
                  <a:pt x="78" y="268"/>
                  <a:pt x="98" y="310"/>
                </a:cubicBezTo>
                <a:cubicBezTo>
                  <a:pt x="118" y="352"/>
                  <a:pt x="142" y="398"/>
                  <a:pt x="167" y="424"/>
                </a:cubicBezTo>
                <a:cubicBezTo>
                  <a:pt x="192" y="450"/>
                  <a:pt x="224" y="466"/>
                  <a:pt x="251" y="466"/>
                </a:cubicBezTo>
                <a:cubicBezTo>
                  <a:pt x="278" y="466"/>
                  <a:pt x="306" y="450"/>
                  <a:pt x="329" y="424"/>
                </a:cubicBezTo>
                <a:cubicBezTo>
                  <a:pt x="352" y="398"/>
                  <a:pt x="375" y="351"/>
                  <a:pt x="392" y="307"/>
                </a:cubicBezTo>
                <a:cubicBezTo>
                  <a:pt x="409" y="263"/>
                  <a:pt x="422" y="206"/>
                  <a:pt x="434" y="157"/>
                </a:cubicBezTo>
                <a:cubicBezTo>
                  <a:pt x="446" y="108"/>
                  <a:pt x="462" y="0"/>
                  <a:pt x="467" y="13"/>
                </a:cubicBezTo>
                <a:cubicBezTo>
                  <a:pt x="467" y="106"/>
                  <a:pt x="467" y="189"/>
                  <a:pt x="467" y="235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716040" y="3573360"/>
            <a:ext cx="3562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04292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79244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255600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327672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3564000" y="321300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4052880" y="3573360"/>
            <a:ext cx="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789360" y="3573360"/>
            <a:ext cx="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68360" y="4325760"/>
            <a:ext cx="36734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независимых нагрузках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предельных нагруз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каждом пролёте отде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,  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,  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, 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68360" y="5380200"/>
            <a:ext cx="38876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однопараметрических нагруз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199120" y="115092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алки переменного с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372280" y="182556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251400" y="2060640"/>
            <a:ext cx="21600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6251400" y="2060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359400" y="185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321600" y="201780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6321600" y="184140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297400" y="1676520"/>
            <a:ext cx="71640" cy="287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369040" y="16765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7404120" y="2063880"/>
            <a:ext cx="21600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404120" y="2063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7507440" y="1860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7473960" y="202104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7469280" y="18446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5886360" y="1519200"/>
            <a:ext cx="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356520" y="16048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6548400" y="16048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6740640" y="16048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6932520" y="16048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7307280" y="15987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7497720" y="160668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667640" y="16398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7845480" y="1641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8199360" y="1641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8564400" y="16365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8381880" y="163656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6356520" y="1600200"/>
            <a:ext cx="113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7489800" y="163836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8459640" y="206856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8459640" y="2068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8562960" y="1808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8529480" y="20257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8529480" y="179244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605640" y="1787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7182000" y="17924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8028000" y="1638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7120080" y="160956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6364440" y="2347920"/>
            <a:ext cx="1157040" cy="760320"/>
          </a:xfrm>
          <a:custGeom>
            <a:avLst/>
            <a:gdLst/>
            <a:ahLst/>
            <a:rect l="l" t="t" r="r" b="b"/>
            <a:pathLst>
              <a:path w="729" h="479">
                <a:moveTo>
                  <a:pt x="3" y="373"/>
                </a:moveTo>
                <a:cubicBezTo>
                  <a:pt x="2" y="324"/>
                  <a:pt x="3" y="244"/>
                  <a:pt x="0" y="78"/>
                </a:cubicBezTo>
                <a:cubicBezTo>
                  <a:pt x="33" y="148"/>
                  <a:pt x="50" y="188"/>
                  <a:pt x="75" y="232"/>
                </a:cubicBezTo>
                <a:cubicBezTo>
                  <a:pt x="100" y="276"/>
                  <a:pt x="119" y="309"/>
                  <a:pt x="150" y="345"/>
                </a:cubicBezTo>
                <a:cubicBezTo>
                  <a:pt x="181" y="381"/>
                  <a:pt x="221" y="425"/>
                  <a:pt x="259" y="446"/>
                </a:cubicBezTo>
                <a:cubicBezTo>
                  <a:pt x="297" y="468"/>
                  <a:pt x="341" y="479"/>
                  <a:pt x="381" y="475"/>
                </a:cubicBezTo>
                <a:cubicBezTo>
                  <a:pt x="421" y="471"/>
                  <a:pt x="464" y="449"/>
                  <a:pt x="498" y="421"/>
                </a:cubicBezTo>
                <a:cubicBezTo>
                  <a:pt x="532" y="393"/>
                  <a:pt x="560" y="350"/>
                  <a:pt x="588" y="307"/>
                </a:cubicBezTo>
                <a:cubicBezTo>
                  <a:pt x="616" y="264"/>
                  <a:pt x="640" y="214"/>
                  <a:pt x="663" y="163"/>
                </a:cubicBezTo>
                <a:cubicBezTo>
                  <a:pt x="686" y="112"/>
                  <a:pt x="690" y="100"/>
                  <a:pt x="726" y="0"/>
                </a:cubicBezTo>
                <a:cubicBezTo>
                  <a:pt x="726" y="76"/>
                  <a:pt x="729" y="295"/>
                  <a:pt x="729" y="373"/>
                </a:cubicBez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6640560" y="1892160"/>
            <a:ext cx="0" cy="1079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7216920" y="1892160"/>
            <a:ext cx="0" cy="1079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5369040" y="2373480"/>
            <a:ext cx="993600" cy="866520"/>
          </a:xfrm>
          <a:custGeom>
            <a:avLst/>
            <a:gdLst/>
            <a:ahLst/>
            <a:rect l="l" t="t" r="r" b="b"/>
            <a:pathLst>
              <a:path w="633" h="546">
                <a:moveTo>
                  <a:pt x="0" y="363"/>
                </a:moveTo>
                <a:lnTo>
                  <a:pt x="0" y="0"/>
                </a:lnTo>
                <a:lnTo>
                  <a:pt x="342" y="546"/>
                </a:lnTo>
                <a:lnTo>
                  <a:pt x="633" y="63"/>
                </a:lnTo>
                <a:lnTo>
                  <a:pt x="633" y="363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5364000" y="2332080"/>
            <a:ext cx="3198960" cy="396720"/>
          </a:xfrm>
          <a:custGeom>
            <a:avLst/>
            <a:gdLst/>
            <a:ahLst/>
            <a:rect l="l" t="t" r="r" b="b"/>
            <a:pathLst>
              <a:path w="2015" h="250">
                <a:moveTo>
                  <a:pt x="0" y="23"/>
                </a:moveTo>
                <a:lnTo>
                  <a:pt x="755" y="22"/>
                </a:lnTo>
                <a:lnTo>
                  <a:pt x="755" y="248"/>
                </a:lnTo>
                <a:lnTo>
                  <a:pt x="1225" y="250"/>
                </a:lnTo>
                <a:lnTo>
                  <a:pt x="1224" y="2"/>
                </a:lnTo>
                <a:lnTo>
                  <a:pt x="1551" y="0"/>
                </a:lnTo>
                <a:lnTo>
                  <a:pt x="1551" y="248"/>
                </a:lnTo>
                <a:lnTo>
                  <a:pt x="2015" y="248"/>
                </a:ln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5365800" y="3164040"/>
            <a:ext cx="3193920" cy="133200"/>
          </a:xfrm>
          <a:custGeom>
            <a:avLst/>
            <a:gdLst/>
            <a:ahLst/>
            <a:rect l="l" t="t" r="r" b="b"/>
            <a:pathLst>
              <a:path w="2012" h="84">
                <a:moveTo>
                  <a:pt x="0" y="52"/>
                </a:moveTo>
                <a:lnTo>
                  <a:pt x="420" y="52"/>
                </a:lnTo>
                <a:lnTo>
                  <a:pt x="424" y="2"/>
                </a:lnTo>
                <a:lnTo>
                  <a:pt x="1548" y="0"/>
                </a:lnTo>
                <a:lnTo>
                  <a:pt x="1548" y="84"/>
                </a:lnTo>
                <a:lnTo>
                  <a:pt x="2012" y="84"/>
                </a:ln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566200" y="2109960"/>
            <a:ext cx="0" cy="1187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5364000" y="1925640"/>
            <a:ext cx="0" cy="1366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5345280" y="2349360"/>
            <a:ext cx="42840" cy="42840"/>
          </a:xfrm>
          <a:prstGeom prst="ellipse">
            <a:avLst/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5888160" y="3222720"/>
            <a:ext cx="42840" cy="42840"/>
          </a:xfrm>
          <a:prstGeom prst="ellipse">
            <a:avLst/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6621480" y="2921040"/>
            <a:ext cx="42840" cy="4284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7197840" y="2925720"/>
            <a:ext cx="42840" cy="4284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679320" y="24354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3098880" y="1925640"/>
            <a:ext cx="752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rot="16200000">
            <a:off x="6895440" y="2715120"/>
            <a:ext cx="106200" cy="1152360"/>
          </a:xfrm>
          <a:custGeom>
            <a:avLst/>
            <a:gdLst>
              <a:gd name="textAreaLeft" fmla="*/ 68040 w 106200"/>
              <a:gd name="textAreaRight" fmla="*/ 106560 w 1062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299280" y="3311640"/>
            <a:ext cx="12970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т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допустимое поле опреде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точками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576840" y="272880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7010280" y="273384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7381800" y="210492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5843520" y="1789200"/>
            <a:ext cx="90720" cy="903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 rot="678000">
            <a:off x="5954400" y="1732320"/>
            <a:ext cx="2350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6" y="215"/>
                </a:moveTo>
                <a:arcTo wR="10800" hR="10800" stAng="-4712280" swAng="9611596"/>
                <a:lnTo>
                  <a:pt x="10800" y="10800"/>
                </a:lnTo>
                <a:close/>
              </a:path>
              <a:path fill="none" w="21600" h="21600">
                <a:moveTo>
                  <a:pt x="12946" y="215"/>
                </a:moveTo>
                <a:arcTo wR="10800" hR="10800" stAng="-4712280" swAng="9611596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 rot="992400">
            <a:off x="5587200" y="1723320"/>
            <a:ext cx="23580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94" y="1816"/>
                </a:moveTo>
                <a:arcTo wR="10800" hR="10800" stAng="-3377235" swAng="9548239"/>
                <a:lnTo>
                  <a:pt x="10800" y="10800"/>
                </a:lnTo>
                <a:close/>
              </a:path>
              <a:path fill="none" w="21600" h="21600">
                <a:moveTo>
                  <a:pt x="16794" y="1816"/>
                </a:moveTo>
                <a:arcTo wR="10800" hR="10800" stAng="-3377235" swAng="9548239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5904000" y="186696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5351400" y="1782720"/>
            <a:ext cx="90720" cy="903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5421240" y="1736640"/>
            <a:ext cx="4608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391000" y="1706400"/>
            <a:ext cx="0" cy="716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V="1" rot="12370200">
            <a:off x="5460480" y="1731960"/>
            <a:ext cx="235800" cy="2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35" y="1467"/>
                </a:moveTo>
                <a:arcTo wR="10800" hR="10800" stAng="-3587298" swAng="9758302"/>
                <a:lnTo>
                  <a:pt x="10800" y="10800"/>
                </a:lnTo>
                <a:close/>
              </a:path>
              <a:path fill="none" w="21600" h="21600">
                <a:moveTo>
                  <a:pt x="16235" y="1467"/>
                </a:moveTo>
                <a:arcTo wR="10800" hR="10800" stAng="-3587298" swAng="9758302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flipH="1">
            <a:off x="5829120" y="1876320"/>
            <a:ext cx="3636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8102520" y="1776240"/>
            <a:ext cx="90720" cy="9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 flipV="1" rot="678000">
            <a:off x="8213760" y="1720080"/>
            <a:ext cx="23508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6" y="215"/>
                </a:moveTo>
                <a:arcTo wR="10800" hR="10800" stAng="-4712280" swAng="9611596"/>
                <a:lnTo>
                  <a:pt x="10800" y="10800"/>
                </a:lnTo>
                <a:close/>
              </a:path>
              <a:path fill="none" w="21600" h="21600">
                <a:moveTo>
                  <a:pt x="12946" y="215"/>
                </a:moveTo>
                <a:arcTo wR="10800" hR="10800" stAng="-4712280" swAng="9611596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V="1" rot="992400">
            <a:off x="7846200" y="1710720"/>
            <a:ext cx="235800" cy="21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94" y="1816"/>
                </a:moveTo>
                <a:arcTo wR="10800" hR="10800" stAng="-3377235" swAng="9548239"/>
                <a:lnTo>
                  <a:pt x="10800" y="10800"/>
                </a:lnTo>
                <a:close/>
              </a:path>
              <a:path fill="none" w="21600" h="21600">
                <a:moveTo>
                  <a:pt x="16794" y="1816"/>
                </a:moveTo>
                <a:arcTo wR="10800" hR="10800" stAng="-3377235" swAng="9548239"/>
              </a:path>
            </a:pathLst>
          </a:custGeom>
          <a:noFill/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8163000" y="185436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8088120" y="1863720"/>
            <a:ext cx="3636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7456320" y="1787400"/>
            <a:ext cx="90720" cy="9072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 flipH="1" flipV="1" rot="21288000">
            <a:off x="7568640" y="1720080"/>
            <a:ext cx="234360" cy="21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46" y="215"/>
                </a:moveTo>
                <a:arcTo wR="10800" hR="10800" stAng="-4712280" swAng="9611596"/>
                <a:lnTo>
                  <a:pt x="10800" y="10800"/>
                </a:lnTo>
                <a:close/>
              </a:path>
              <a:path fill="none" w="21600" h="21600">
                <a:moveTo>
                  <a:pt x="12946" y="215"/>
                </a:moveTo>
                <a:arcTo wR="10800" hR="10800" stAng="-4712280" swAng="9611596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V="1" rot="862200">
            <a:off x="7199280" y="1721520"/>
            <a:ext cx="236160" cy="22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62" y="1260"/>
                </a:moveTo>
                <a:arcTo wR="10800" hR="10800" stAng="-3722867" swAng="9144281"/>
                <a:lnTo>
                  <a:pt x="10800" y="10800"/>
                </a:lnTo>
                <a:close/>
              </a:path>
              <a:path fill="none" w="21600" h="21600">
                <a:moveTo>
                  <a:pt x="15862" y="1260"/>
                </a:moveTo>
                <a:arcTo wR="10800" hR="10800" stAng="-3722867" swAng="9144281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7437600" y="1730520"/>
            <a:ext cx="36360" cy="7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 flipH="1">
            <a:off x="7522920" y="1733400"/>
            <a:ext cx="36360" cy="619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7512120" y="2347920"/>
            <a:ext cx="1052280" cy="955800"/>
          </a:xfrm>
          <a:custGeom>
            <a:avLst/>
            <a:gdLst/>
            <a:ahLst/>
            <a:rect l="l" t="t" r="r" b="b"/>
            <a:pathLst>
              <a:path w="663" h="602">
                <a:moveTo>
                  <a:pt x="3" y="376"/>
                </a:moveTo>
                <a:cubicBezTo>
                  <a:pt x="2" y="313"/>
                  <a:pt x="0" y="178"/>
                  <a:pt x="1" y="0"/>
                </a:cubicBezTo>
                <a:cubicBezTo>
                  <a:pt x="30" y="115"/>
                  <a:pt x="37" y="125"/>
                  <a:pt x="60" y="187"/>
                </a:cubicBezTo>
                <a:cubicBezTo>
                  <a:pt x="83" y="249"/>
                  <a:pt x="107" y="316"/>
                  <a:pt x="138" y="370"/>
                </a:cubicBezTo>
                <a:cubicBezTo>
                  <a:pt x="169" y="424"/>
                  <a:pt x="211" y="475"/>
                  <a:pt x="249" y="511"/>
                </a:cubicBezTo>
                <a:cubicBezTo>
                  <a:pt x="287" y="547"/>
                  <a:pt x="330" y="576"/>
                  <a:pt x="366" y="589"/>
                </a:cubicBezTo>
                <a:cubicBezTo>
                  <a:pt x="402" y="602"/>
                  <a:pt x="433" y="600"/>
                  <a:pt x="468" y="586"/>
                </a:cubicBezTo>
                <a:cubicBezTo>
                  <a:pt x="503" y="572"/>
                  <a:pt x="541" y="543"/>
                  <a:pt x="573" y="508"/>
                </a:cubicBezTo>
                <a:cubicBezTo>
                  <a:pt x="605" y="473"/>
                  <a:pt x="644" y="403"/>
                  <a:pt x="663" y="376"/>
                </a:cubicBez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8143920" y="3274920"/>
            <a:ext cx="42840" cy="42840"/>
          </a:xfrm>
          <a:prstGeom prst="ellipse">
            <a:avLst/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7489800" y="2316240"/>
            <a:ext cx="42840" cy="42840"/>
          </a:xfrm>
          <a:prstGeom prst="ellipse">
            <a:avLst/>
          </a:prstGeom>
          <a:solidFill>
            <a:srgbClr val="cc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64000" y="2944800"/>
            <a:ext cx="320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6369120" y="28702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7524720" y="28735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6745320" y="2127240"/>
                <a:ext cx="3920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5754600" y="3305160"/>
                <a:ext cx="41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96" name=""/>
          <p:cNvSpPr/>
          <p:nvPr/>
        </p:nvSpPr>
        <p:spPr>
          <a:xfrm>
            <a:off x="5645160" y="3249720"/>
            <a:ext cx="133200" cy="183960"/>
          </a:xfrm>
          <a:custGeom>
            <a:avLst/>
            <a:gdLst/>
            <a:ahLst/>
            <a:rect l="l" t="t" r="r" b="b"/>
            <a:pathLst>
              <a:path w="84" h="116">
                <a:moveTo>
                  <a:pt x="84" y="116"/>
                </a:moveTo>
                <a:cubicBezTo>
                  <a:pt x="77" y="111"/>
                  <a:pt x="54" y="103"/>
                  <a:pt x="40" y="84"/>
                </a:cubicBezTo>
                <a:cubicBezTo>
                  <a:pt x="26" y="65"/>
                  <a:pt x="8" y="18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5994360" y="3166920"/>
            <a:ext cx="196920" cy="20340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0" y="128"/>
                </a:moveTo>
                <a:cubicBezTo>
                  <a:pt x="9" y="119"/>
                  <a:pt x="39" y="93"/>
                  <a:pt x="60" y="72"/>
                </a:cubicBezTo>
                <a:cubicBezTo>
                  <a:pt x="81" y="51"/>
                  <a:pt x="111" y="15"/>
                  <a:pt x="124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6365880" y="2208240"/>
            <a:ext cx="390600" cy="162000"/>
          </a:xfrm>
          <a:custGeom>
            <a:avLst/>
            <a:gdLst/>
            <a:ahLst/>
            <a:rect l="l" t="t" r="r" b="b"/>
            <a:pathLst>
              <a:path w="246" h="102">
                <a:moveTo>
                  <a:pt x="246" y="44"/>
                </a:moveTo>
                <a:cubicBezTo>
                  <a:pt x="228" y="37"/>
                  <a:pt x="169" y="8"/>
                  <a:pt x="138" y="4"/>
                </a:cubicBezTo>
                <a:cubicBezTo>
                  <a:pt x="107" y="0"/>
                  <a:pt x="81" y="4"/>
                  <a:pt x="58" y="20"/>
                </a:cubicBezTo>
                <a:cubicBezTo>
                  <a:pt x="35" y="36"/>
                  <a:pt x="12" y="85"/>
                  <a:pt x="0" y="10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7118280" y="2270160"/>
            <a:ext cx="279360" cy="58680"/>
          </a:xfrm>
          <a:custGeom>
            <a:avLst/>
            <a:gdLst/>
            <a:ahLst/>
            <a:rect l="l" t="t" r="r" b="b"/>
            <a:pathLst>
              <a:path w="176" h="37">
                <a:moveTo>
                  <a:pt x="0" y="25"/>
                </a:moveTo>
                <a:cubicBezTo>
                  <a:pt x="11" y="22"/>
                  <a:pt x="49" y="8"/>
                  <a:pt x="68" y="5"/>
                </a:cubicBezTo>
                <a:cubicBezTo>
                  <a:pt x="87" y="2"/>
                  <a:pt x="98" y="0"/>
                  <a:pt x="116" y="5"/>
                </a:cubicBezTo>
                <a:cubicBezTo>
                  <a:pt x="134" y="10"/>
                  <a:pt x="164" y="30"/>
                  <a:pt x="176" y="37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 flipV="1">
            <a:off x="6803280" y="2427120"/>
            <a:ext cx="71640" cy="29376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0" y="128"/>
                </a:moveTo>
                <a:cubicBezTo>
                  <a:pt x="9" y="119"/>
                  <a:pt x="39" y="93"/>
                  <a:pt x="60" y="72"/>
                </a:cubicBezTo>
                <a:cubicBezTo>
                  <a:pt x="81" y="51"/>
                  <a:pt x="111" y="15"/>
                  <a:pt x="124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4427640" y="2473200"/>
            <a:ext cx="1008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 Narrow"/>
              </a:rPr>
              <a:t>Эпюра пред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Arial Narrow"/>
              </a:rPr>
              <a:t>моментов сечений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4978440" y="2254320"/>
            <a:ext cx="558720" cy="245880"/>
          </a:xfrm>
          <a:custGeom>
            <a:avLst/>
            <a:gdLst/>
            <a:ahLst/>
            <a:rect l="l" t="t" r="r" b="b"/>
            <a:pathLst>
              <a:path w="352" h="131">
                <a:moveTo>
                  <a:pt x="0" y="131"/>
                </a:moveTo>
                <a:cubicBezTo>
                  <a:pt x="14" y="118"/>
                  <a:pt x="53" y="76"/>
                  <a:pt x="84" y="55"/>
                </a:cubicBezTo>
                <a:cubicBezTo>
                  <a:pt x="115" y="34"/>
                  <a:pt x="150" y="14"/>
                  <a:pt x="184" y="7"/>
                </a:cubicBezTo>
                <a:cubicBezTo>
                  <a:pt x="218" y="0"/>
                  <a:pt x="260" y="2"/>
                  <a:pt x="288" y="11"/>
                </a:cubicBezTo>
                <a:cubicBezTo>
                  <a:pt x="316" y="20"/>
                  <a:pt x="339" y="49"/>
                  <a:pt x="352" y="59"/>
                </a:cubicBezTo>
              </a:path>
            </a:pathLst>
          </a:custGeom>
          <a:noFill/>
          <a:ln w="1260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4991040" y="3082320"/>
            <a:ext cx="558720" cy="298440"/>
          </a:xfrm>
          <a:custGeom>
            <a:avLst/>
            <a:gdLst/>
            <a:ahLst/>
            <a:rect l="l" t="t" r="r" b="b"/>
            <a:pathLst>
              <a:path w="352" h="131">
                <a:moveTo>
                  <a:pt x="0" y="131"/>
                </a:moveTo>
                <a:cubicBezTo>
                  <a:pt x="14" y="118"/>
                  <a:pt x="53" y="76"/>
                  <a:pt x="84" y="55"/>
                </a:cubicBezTo>
                <a:cubicBezTo>
                  <a:pt x="115" y="34"/>
                  <a:pt x="150" y="14"/>
                  <a:pt x="184" y="7"/>
                </a:cubicBezTo>
                <a:cubicBezTo>
                  <a:pt x="218" y="0"/>
                  <a:pt x="260" y="2"/>
                  <a:pt x="288" y="11"/>
                </a:cubicBezTo>
                <a:cubicBezTo>
                  <a:pt x="316" y="20"/>
                  <a:pt x="339" y="49"/>
                  <a:pt x="352" y="59"/>
                </a:cubicBezTo>
              </a:path>
            </a:pathLst>
          </a:custGeom>
          <a:noFill/>
          <a:ln w="1260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211640" y="3908520"/>
            <a:ext cx="4751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дбор сечений балки по предельному равнове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4575240" y="4727520"/>
            <a:ext cx="20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4494240" y="4584600"/>
            <a:ext cx="71280" cy="287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4565520" y="45846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5499000" y="4965840"/>
            <a:ext cx="216000" cy="71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5499000" y="4965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5600880" y="4762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5568840" y="4923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5562720" y="47466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6591240" y="4967280"/>
            <a:ext cx="216000" cy="71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591240" y="4967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6661080" y="49244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4719600" y="45324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897440" y="45338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5251320" y="45338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5616720" y="45291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5433840" y="45291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4560840" y="4530600"/>
            <a:ext cx="21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5079960" y="4530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796000" y="45338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973840" y="45356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327720" y="45356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692760" y="4530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510240" y="453060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657840" y="4691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6146640" y="4356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500720" y="4284720"/>
            <a:ext cx="129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942160" y="4148280"/>
            <a:ext cx="106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4572000" y="5137200"/>
            <a:ext cx="2127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4565520" y="48499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6156360" y="48499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605560" y="49942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H="1">
            <a:off x="4537080" y="5103720"/>
            <a:ext cx="5400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5580000" y="5103720"/>
            <a:ext cx="5400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6129360" y="5103720"/>
            <a:ext cx="5400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 flipH="1">
            <a:off x="6665760" y="5105520"/>
            <a:ext cx="54000" cy="61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4957920" y="4917960"/>
            <a:ext cx="384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5689440" y="4917960"/>
            <a:ext cx="4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6234120" y="4917960"/>
            <a:ext cx="4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6972480" y="4317840"/>
            <a:ext cx="199224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П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4581360" y="5234040"/>
            <a:ext cx="2087640" cy="3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666ff"/>
                </a:solidFill>
                <a:latin typeface="Arial Narrow"/>
              </a:rPr>
              <a:t>Любая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статически возмож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эпюра мо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4519440" y="4719600"/>
            <a:ext cx="285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5322960" y="4719600"/>
            <a:ext cx="285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4572000" y="5732640"/>
            <a:ext cx="2124000" cy="607680"/>
          </a:xfrm>
          <a:custGeom>
            <a:avLst/>
            <a:gdLst/>
            <a:ahLst/>
            <a:rect l="l" t="t" r="r" b="b"/>
            <a:pathLst>
              <a:path w="1338" h="383">
                <a:moveTo>
                  <a:pt x="0" y="166"/>
                </a:moveTo>
                <a:cubicBezTo>
                  <a:pt x="0" y="138"/>
                  <a:pt x="0" y="99"/>
                  <a:pt x="0" y="0"/>
                </a:cubicBezTo>
                <a:cubicBezTo>
                  <a:pt x="27" y="42"/>
                  <a:pt x="60" y="85"/>
                  <a:pt x="87" y="117"/>
                </a:cubicBezTo>
                <a:cubicBezTo>
                  <a:pt x="114" y="149"/>
                  <a:pt x="138" y="170"/>
                  <a:pt x="165" y="192"/>
                </a:cubicBezTo>
                <a:cubicBezTo>
                  <a:pt x="192" y="214"/>
                  <a:pt x="224" y="234"/>
                  <a:pt x="252" y="246"/>
                </a:cubicBezTo>
                <a:cubicBezTo>
                  <a:pt x="280" y="258"/>
                  <a:pt x="308" y="266"/>
                  <a:pt x="336" y="267"/>
                </a:cubicBezTo>
                <a:cubicBezTo>
                  <a:pt x="364" y="268"/>
                  <a:pt x="394" y="265"/>
                  <a:pt x="423" y="255"/>
                </a:cubicBezTo>
                <a:cubicBezTo>
                  <a:pt x="452" y="245"/>
                  <a:pt x="478" y="230"/>
                  <a:pt x="507" y="207"/>
                </a:cubicBezTo>
                <a:cubicBezTo>
                  <a:pt x="536" y="184"/>
                  <a:pt x="571" y="148"/>
                  <a:pt x="597" y="120"/>
                </a:cubicBezTo>
                <a:cubicBezTo>
                  <a:pt x="623" y="92"/>
                  <a:pt x="624" y="93"/>
                  <a:pt x="663" y="39"/>
                </a:cubicBezTo>
                <a:cubicBezTo>
                  <a:pt x="693" y="93"/>
                  <a:pt x="711" y="122"/>
                  <a:pt x="738" y="162"/>
                </a:cubicBezTo>
                <a:cubicBezTo>
                  <a:pt x="764" y="201"/>
                  <a:pt x="793" y="241"/>
                  <a:pt x="820" y="271"/>
                </a:cubicBezTo>
                <a:cubicBezTo>
                  <a:pt x="847" y="301"/>
                  <a:pt x="871" y="324"/>
                  <a:pt x="900" y="343"/>
                </a:cubicBezTo>
                <a:cubicBezTo>
                  <a:pt x="929" y="362"/>
                  <a:pt x="960" y="380"/>
                  <a:pt x="996" y="383"/>
                </a:cubicBezTo>
                <a:cubicBezTo>
                  <a:pt x="1053" y="380"/>
                  <a:pt x="1077" y="376"/>
                  <a:pt x="1116" y="359"/>
                </a:cubicBezTo>
                <a:cubicBezTo>
                  <a:pt x="1155" y="342"/>
                  <a:pt x="1195" y="311"/>
                  <a:pt x="1232" y="279"/>
                </a:cubicBezTo>
                <a:cubicBezTo>
                  <a:pt x="1269" y="247"/>
                  <a:pt x="1316" y="189"/>
                  <a:pt x="1338" y="165"/>
                </a:cubicBez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4572000" y="5996160"/>
            <a:ext cx="21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4572000" y="5722920"/>
            <a:ext cx="2133720" cy="266760"/>
          </a:xfrm>
          <a:custGeom>
            <a:avLst/>
            <a:gdLst/>
            <a:ahLst/>
            <a:rect l="l" t="t" r="r" b="b"/>
            <a:pathLst>
              <a:path w="1344" h="168">
                <a:moveTo>
                  <a:pt x="0" y="0"/>
                </a:moveTo>
                <a:lnTo>
                  <a:pt x="657" y="39"/>
                </a:lnTo>
                <a:lnTo>
                  <a:pt x="1344" y="168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5081760" y="5751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6156360" y="5894280"/>
            <a:ext cx="0" cy="44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4403880" y="548784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5483160" y="557388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4324320" y="4130640"/>
            <a:ext cx="0" cy="180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4383000" y="6338880"/>
            <a:ext cx="1411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 к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6334200" y="5540400"/>
            <a:ext cx="1152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4788000" y="5897520"/>
            <a:ext cx="28872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4565520" y="5784840"/>
            <a:ext cx="2132280" cy="558720"/>
          </a:xfrm>
          <a:custGeom>
            <a:avLst/>
            <a:gdLst/>
            <a:ahLst/>
            <a:rect l="l" t="t" r="r" b="b"/>
            <a:pathLst>
              <a:path w="1343" h="352">
                <a:moveTo>
                  <a:pt x="5" y="132"/>
                </a:moveTo>
                <a:cubicBezTo>
                  <a:pt x="4" y="110"/>
                  <a:pt x="4" y="68"/>
                  <a:pt x="0" y="0"/>
                </a:cubicBezTo>
                <a:cubicBezTo>
                  <a:pt x="27" y="42"/>
                  <a:pt x="64" y="82"/>
                  <a:pt x="92" y="112"/>
                </a:cubicBezTo>
                <a:cubicBezTo>
                  <a:pt x="120" y="143"/>
                  <a:pt x="141" y="164"/>
                  <a:pt x="168" y="184"/>
                </a:cubicBezTo>
                <a:cubicBezTo>
                  <a:pt x="195" y="204"/>
                  <a:pt x="225" y="221"/>
                  <a:pt x="252" y="232"/>
                </a:cubicBezTo>
                <a:cubicBezTo>
                  <a:pt x="279" y="243"/>
                  <a:pt x="304" y="248"/>
                  <a:pt x="332" y="248"/>
                </a:cubicBezTo>
                <a:cubicBezTo>
                  <a:pt x="360" y="248"/>
                  <a:pt x="390" y="244"/>
                  <a:pt x="420" y="232"/>
                </a:cubicBezTo>
                <a:cubicBezTo>
                  <a:pt x="450" y="220"/>
                  <a:pt x="482" y="197"/>
                  <a:pt x="512" y="173"/>
                </a:cubicBezTo>
                <a:cubicBezTo>
                  <a:pt x="542" y="149"/>
                  <a:pt x="576" y="114"/>
                  <a:pt x="602" y="86"/>
                </a:cubicBezTo>
                <a:cubicBezTo>
                  <a:pt x="628" y="58"/>
                  <a:pt x="629" y="59"/>
                  <a:pt x="668" y="5"/>
                </a:cubicBezTo>
                <a:cubicBezTo>
                  <a:pt x="698" y="59"/>
                  <a:pt x="716" y="88"/>
                  <a:pt x="743" y="128"/>
                </a:cubicBezTo>
                <a:cubicBezTo>
                  <a:pt x="769" y="167"/>
                  <a:pt x="798" y="206"/>
                  <a:pt x="825" y="237"/>
                </a:cubicBezTo>
                <a:cubicBezTo>
                  <a:pt x="852" y="268"/>
                  <a:pt x="879" y="293"/>
                  <a:pt x="908" y="312"/>
                </a:cubicBezTo>
                <a:cubicBezTo>
                  <a:pt x="937" y="331"/>
                  <a:pt x="966" y="346"/>
                  <a:pt x="1001" y="349"/>
                </a:cubicBezTo>
                <a:cubicBezTo>
                  <a:pt x="1040" y="352"/>
                  <a:pt x="1076" y="350"/>
                  <a:pt x="1116" y="332"/>
                </a:cubicBezTo>
                <a:cubicBezTo>
                  <a:pt x="1156" y="314"/>
                  <a:pt x="1202" y="273"/>
                  <a:pt x="1240" y="240"/>
                </a:cubicBezTo>
                <a:cubicBezTo>
                  <a:pt x="1278" y="207"/>
                  <a:pt x="1322" y="154"/>
                  <a:pt x="1343" y="131"/>
                </a:cubicBez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4573440" y="5994360"/>
            <a:ext cx="21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4572000" y="5783400"/>
            <a:ext cx="2135160" cy="204480"/>
          </a:xfrm>
          <a:custGeom>
            <a:avLst/>
            <a:gdLst/>
            <a:ahLst/>
            <a:rect l="l" t="t" r="r" b="b"/>
            <a:pathLst>
              <a:path w="1345" h="129">
                <a:moveTo>
                  <a:pt x="0" y="1"/>
                </a:moveTo>
                <a:lnTo>
                  <a:pt x="658" y="0"/>
                </a:lnTo>
                <a:lnTo>
                  <a:pt x="1345" y="129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083200" y="578808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6157800" y="5892840"/>
            <a:ext cx="0" cy="442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4437000" y="5559480"/>
            <a:ext cx="1152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2,5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>
            <a:off x="5433840" y="555948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H="1">
            <a:off x="4789080" y="5934240"/>
            <a:ext cx="28908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087880" y="6188040"/>
            <a:ext cx="182520" cy="9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191200" y="6181560"/>
            <a:ext cx="623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6218280" y="6338880"/>
            <a:ext cx="6951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,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997600" y="5667480"/>
            <a:ext cx="390600" cy="457200"/>
          </a:xfrm>
          <a:custGeom>
            <a:avLst/>
            <a:gdLst/>
            <a:ahLst/>
            <a:rect l="l" t="t" r="r" b="b"/>
            <a:pathLst>
              <a:path w="246" h="288">
                <a:moveTo>
                  <a:pt x="98" y="288"/>
                </a:moveTo>
                <a:cubicBezTo>
                  <a:pt x="87" y="279"/>
                  <a:pt x="49" y="259"/>
                  <a:pt x="34" y="232"/>
                </a:cubicBezTo>
                <a:cubicBezTo>
                  <a:pt x="19" y="205"/>
                  <a:pt x="0" y="162"/>
                  <a:pt x="10" y="128"/>
                </a:cubicBezTo>
                <a:cubicBezTo>
                  <a:pt x="20" y="94"/>
                  <a:pt x="55" y="49"/>
                  <a:pt x="94" y="28"/>
                </a:cubicBezTo>
                <a:cubicBezTo>
                  <a:pt x="133" y="7"/>
                  <a:pt x="214" y="6"/>
                  <a:pt x="24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200640" y="60040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6205680" y="6346800"/>
            <a:ext cx="9180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4568760" y="5632560"/>
            <a:ext cx="2111400" cy="152280"/>
          </a:xfrm>
          <a:custGeom>
            <a:avLst/>
            <a:gdLst/>
            <a:ahLst/>
            <a:rect l="l" t="t" r="r" b="b"/>
            <a:pathLst>
              <a:path w="1330" h="96">
                <a:moveTo>
                  <a:pt x="0" y="94"/>
                </a:moveTo>
                <a:lnTo>
                  <a:pt x="814" y="96"/>
                </a:lnTo>
                <a:lnTo>
                  <a:pt x="814" y="0"/>
                </a:lnTo>
                <a:lnTo>
                  <a:pt x="133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4562640" y="6191280"/>
            <a:ext cx="2124000" cy="152280"/>
          </a:xfrm>
          <a:custGeom>
            <a:avLst/>
            <a:gdLst/>
            <a:ahLst/>
            <a:rect l="l" t="t" r="r" b="b"/>
            <a:pathLst>
              <a:path w="1338" h="96">
                <a:moveTo>
                  <a:pt x="0" y="2"/>
                </a:moveTo>
                <a:lnTo>
                  <a:pt x="818" y="0"/>
                </a:lnTo>
                <a:lnTo>
                  <a:pt x="822" y="96"/>
                </a:lnTo>
                <a:lnTo>
                  <a:pt x="1338" y="96"/>
                </a:ln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6694560" y="475776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4491000" y="6005520"/>
            <a:ext cx="42840" cy="179280"/>
          </a:xfrm>
          <a:custGeom>
            <a:avLst/>
            <a:gdLst>
              <a:gd name="textAreaLeft" fmla="*/ 27360 w 42840"/>
              <a:gd name="textAreaRight" fmla="*/ 43200 w 42840"/>
              <a:gd name="textAreaTop" fmla="*/ 4680 h 179280"/>
              <a:gd name="textAreaBottom" fmla="*/ 174600 h 1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4016520" y="592596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6726960" y="5987880"/>
            <a:ext cx="71640" cy="36036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6732720" y="606420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4491000" y="5805360"/>
            <a:ext cx="42840" cy="179640"/>
          </a:xfrm>
          <a:custGeom>
            <a:avLst/>
            <a:gdLst>
              <a:gd name="textAreaLeft" fmla="*/ 27360 w 42840"/>
              <a:gd name="textAreaRight" fmla="*/ 43200 w 42840"/>
              <a:gd name="textAreaTop" fmla="*/ 4680 h 179640"/>
              <a:gd name="textAreaBottom" fmla="*/ 174960 h 1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4327560" y="5876640"/>
            <a:ext cx="162000" cy="14436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H="1">
            <a:off x="6726960" y="5632560"/>
            <a:ext cx="71640" cy="360360"/>
          </a:xfrm>
          <a:custGeom>
            <a:avLst/>
            <a:gdLst>
              <a:gd name="textAreaLeft" fmla="*/ 45720 w 71640"/>
              <a:gd name="textAreaRight" fmla="*/ 72000 w 71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732720" y="5708520"/>
            <a:ext cx="484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990033"/>
                </a:solidFill>
                <a:latin typeface="Times New Roman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332240" y="6026040"/>
            <a:ext cx="144360" cy="7164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7236000" y="4581360"/>
            <a:ext cx="1584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Narrow"/>
              </a:rPr>
              <a:t>Сечение п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1" i="1" lang="ru-RU" sz="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7236000" y="5614920"/>
            <a:ext cx="15840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 Narrow"/>
              </a:rPr>
              <a:t>Сечение п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7821720" y="5291280"/>
            <a:ext cx="215640" cy="210960"/>
          </a:xfrm>
          <a:custGeom>
            <a:avLst/>
            <a:gdLst>
              <a:gd name="textAreaLeft" fmla="*/ 0 w 215640"/>
              <a:gd name="textAreaRight" fmla="*/ 216000 w 21564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7812000" y="6323040"/>
            <a:ext cx="216000" cy="210960"/>
          </a:xfrm>
          <a:custGeom>
            <a:avLst/>
            <a:gdLst>
              <a:gd name="textAreaLeft" fmla="*/ 0 w 216000"/>
              <a:gd name="textAreaRight" fmla="*/ 216360 w 216000"/>
              <a:gd name="textAreaTop" fmla="*/ 360 h 210960"/>
              <a:gd name="textAreaBottom" fmla="*/ 211680 h 21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8101080" y="53499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8101080" y="55180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8172360" y="535464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8191440" y="5329080"/>
            <a:ext cx="71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7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8105760" y="63738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8105760" y="65419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8177040" y="63784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8196120" y="6353280"/>
            <a:ext cx="7192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363600" y="4019400"/>
            <a:ext cx="563400" cy="457200"/>
          </a:xfrm>
          <a:custGeom>
            <a:avLst/>
            <a:gdLst/>
            <a:ahLst/>
            <a:rect l="l" t="t" r="r" b="b"/>
            <a:pathLst>
              <a:path w="355" h="288">
                <a:moveTo>
                  <a:pt x="355" y="0"/>
                </a:moveTo>
                <a:lnTo>
                  <a:pt x="0" y="152"/>
                </a:lnTo>
                <a:lnTo>
                  <a:pt x="0" y="288"/>
                </a:lnTo>
                <a:lnTo>
                  <a:pt x="91" y="288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363600" y="4481640"/>
            <a:ext cx="144360" cy="104292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lnTo>
                  <a:pt x="0" y="136"/>
                </a:lnTo>
                <a:lnTo>
                  <a:pt x="91" y="136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7" dur="indefinite" restart="never" nodeType="tmRoot">
          <p:childTnLst>
            <p:seq>
              <p:cTn id="8758" dur="indefinite" nodeType="mainSeq">
                <p:childTnLst>
                  <p:par>
                    <p:cTn id="8759" fill="hold">
                      <p:stCondLst>
                        <p:cond delay="0"/>
                      </p:stCondLst>
                      <p:childTnLst>
                        <p:par>
                          <p:cTn id="8760" fill="hold">
                            <p:stCondLst>
                              <p:cond delay="0"/>
                            </p:stCondLst>
                            <p:childTnLst>
                              <p:par>
                                <p:cTn id="87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3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4" dur="1000" fill="hold"/>
                                        <p:tgtEl>
                                          <p:spTgt spid="2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5" dur="10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8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9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0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3" dur="1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4" dur="1000" fill="hold"/>
                                        <p:tgtEl>
                                          <p:spTgt spid="2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5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8" dur="1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9" dur="10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0" dur="10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3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4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5" dur="10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8" dur="1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9" dur="1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0" dur="1000"/>
                                        <p:tgtEl>
                                          <p:spTgt spid="2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3" dur="10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4" dur="10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5" dur="10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8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9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0" dur="10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3" dur="1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4" dur="1000" fill="hold"/>
                                        <p:tgtEl>
                                          <p:spTgt spid="2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5" dur="10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8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9" dur="1000" fill="hold"/>
                                        <p:tgtEl>
                                          <p:spTgt spid="2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0" dur="10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3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4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5" dur="10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8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9" dur="1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0" dur="10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3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4" dur="1000" fill="hold"/>
                                        <p:tgtEl>
                                          <p:spTgt spid="2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5" dur="10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8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9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0" dur="10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3" dur="1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4" dur="1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5" dur="1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8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9" dur="10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0" dur="10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3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4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5" dur="10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8" dur="1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9" dur="10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0" dur="10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3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4" dur="1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5" dur="10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8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9" dur="10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0" dur="10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3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4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5" dur="10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8" dur="1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9" dur="1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0" dur="10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3" dur="1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4" dur="1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5" dur="10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8" dur="10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9" dur="10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0" dur="10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3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4" dur="10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5" dur="10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8" dur="1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9" dur="1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0" dur="1000"/>
                                        <p:tgtEl>
                                          <p:spTgt spid="2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3" dur="1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4" dur="1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5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8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9" dur="1000" fill="hold"/>
                                        <p:tgtEl>
                                          <p:spTgt spid="2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0" dur="10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3" dur="1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4" dur="1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5" dur="10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8" dur="1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9" dur="1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0" dur="1000"/>
                                        <p:tgtEl>
                                          <p:spTgt spid="2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3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4" dur="10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5" dur="10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8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9" dur="1000" fill="hold"/>
                                        <p:tgtEl>
                                          <p:spTgt spid="2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0" dur="1000"/>
                                        <p:tgtEl>
                                          <p:spTgt spid="2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3" dur="10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4" dur="1000" fill="hold"/>
                                        <p:tgtEl>
                                          <p:spTgt spid="2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5" dur="10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8" dur="10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9" dur="10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0" dur="10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3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4" dur="10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5" dur="10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8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9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0" dur="1000"/>
                                        <p:tgtEl>
                                          <p:spTgt spid="2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3" dur="10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4" dur="10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5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8" dur="10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9" dur="1000" fill="hold"/>
                                        <p:tgtEl>
                                          <p:spTgt spid="2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0" dur="1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3" dur="10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4" dur="1000" fill="hold"/>
                                        <p:tgtEl>
                                          <p:spTgt spid="2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5" dur="10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8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9" dur="1000" fill="hold"/>
                                        <p:tgtEl>
                                          <p:spTgt spid="2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0" dur="10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3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4" dur="1000" fill="hold"/>
                                        <p:tgtEl>
                                          <p:spTgt spid="2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5" dur="10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8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9" dur="1000" fill="hold"/>
                                        <p:tgtEl>
                                          <p:spTgt spid="2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0" dur="1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3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4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5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8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0" dur="10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3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4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5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8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9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0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3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4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5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8" dur="10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9" dur="10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0" dur="10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3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4" dur="10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5" dur="1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8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9" dur="1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0" dur="10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3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4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5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8" dur="10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9" dur="10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0" dur="10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3" dur="10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4" dur="1000" fill="hold"/>
                                        <p:tgtEl>
                                          <p:spTgt spid="2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5" dur="10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8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9" dur="1000" fill="hold"/>
                                        <p:tgtEl>
                                          <p:spTgt spid="2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0" dur="10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3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4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5" dur="1000"/>
                                        <p:tgtEl>
                                          <p:spTgt spid="2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8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9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0" dur="10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3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4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5" dur="10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8" dur="10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9" dur="10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0" dur="10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3" dur="10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4" dur="1000" fill="hold"/>
                                        <p:tgtEl>
                                          <p:spTgt spid="2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5" dur="1000"/>
                                        <p:tgtEl>
                                          <p:spTgt spid="2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8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9" dur="1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0" dur="1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3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4" dur="10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5" dur="1000"/>
                                        <p:tgtEl>
                                          <p:spTgt spid="2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8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9" dur="10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0" dur="10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3" dur="1000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4" dur="1000" fill="hold"/>
                                        <p:tgtEl>
                                          <p:spTgt spid="2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5" dur="10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8" dur="10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9" dur="1000" fill="hold"/>
                                        <p:tgtEl>
                                          <p:spTgt spid="2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0" dur="1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3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4" dur="1000" fill="hold"/>
                                        <p:tgtEl>
                                          <p:spTgt spid="2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5" dur="1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8" dur="10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9" dur="1000" fill="hold"/>
                                        <p:tgtEl>
                                          <p:spTgt spid="2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0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3" dur="10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4" dur="1000" fill="hold"/>
                                        <p:tgtEl>
                                          <p:spTgt spid="2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5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8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9" dur="1000" fill="hold"/>
                                        <p:tgtEl>
                                          <p:spTgt spid="2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0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3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5" dur="1000"/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8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9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0" dur="10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1" fill="hold">
                      <p:stCondLst>
                        <p:cond delay="indefinite"/>
                      </p:stCondLst>
                      <p:childTnLst>
                        <p:par>
                          <p:cTn id="9112" fill="hold">
                            <p:stCondLst>
                              <p:cond delay="0"/>
                            </p:stCondLst>
                            <p:childTnLst>
                              <p:par>
                                <p:cTn id="9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15" dur="8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6" dur="8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7" dur="80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8" fill="hold">
                            <p:stCondLst>
                              <p:cond delay="1080"/>
                            </p:stCondLst>
                            <p:childTnLst>
                              <p:par>
                                <p:cTn id="9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1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2" dur="1000" fill="hold"/>
                                        <p:tgtEl>
                                          <p:spTgt spid="2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3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6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7" dur="1000" fill="hold"/>
                                        <p:tgtEl>
                                          <p:spTgt spid="2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28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1" dur="10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2" dur="1000" fill="hold"/>
                                        <p:tgtEl>
                                          <p:spTgt spid="2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3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6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7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8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1" dur="1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2" dur="10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3" dur="10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4" fill="hold">
                            <p:stCondLst>
                              <p:cond delay="2080"/>
                            </p:stCondLst>
                            <p:childTnLst>
                              <p:par>
                                <p:cTn id="9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7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8" dur="1000" fill="hold"/>
                                        <p:tgtEl>
                                          <p:spTgt spid="2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9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2" dur="10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3" dur="1000" fill="hold"/>
                                        <p:tgtEl>
                                          <p:spTgt spid="2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4" dur="10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7" dur="1000" fill="hold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8" dur="1000" fill="hold"/>
                                        <p:tgtEl>
                                          <p:spTgt spid="2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9" dur="1000"/>
                                        <p:tgtEl>
                                          <p:spTgt spid="2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2" dur="10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3" dur="1000" fill="hold"/>
                                        <p:tgtEl>
                                          <p:spTgt spid="2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4" dur="1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5" fill="hold">
                      <p:stCondLst>
                        <p:cond delay="indefinite"/>
                      </p:stCondLst>
                      <p:childTnLst>
                        <p:par>
                          <p:cTn id="9166" fill="hold">
                            <p:stCondLst>
                              <p:cond delay="0"/>
                            </p:stCondLst>
                            <p:childTnLst>
                              <p:par>
                                <p:cTn id="9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9" dur="2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2" dur="2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5" dur="20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8" dur="20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1" dur="20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4" dur="2000"/>
                                        <p:tgtEl>
                                          <p:spTgt spid="2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7" dur="2000"/>
                                        <p:tgtEl>
                                          <p:spTgt spid="2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0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3" dur="20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6" dur="20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9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0" fill="hold">
                      <p:stCondLst>
                        <p:cond delay="indefinite"/>
                      </p:stCondLst>
                      <p:childTnLst>
                        <p:par>
                          <p:cTn id="9201" fill="hold">
                            <p:stCondLst>
                              <p:cond delay="0"/>
                            </p:stCondLst>
                            <p:childTnLst>
                              <p:par>
                                <p:cTn id="92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04" dur="10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8" dur="80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9" dur="80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0" dur="80"/>
                                        <p:tgtEl>
                                          <p:spTgt spid="2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1" fill="hold">
                      <p:stCondLst>
                        <p:cond delay="indefinite"/>
                      </p:stCondLst>
                      <p:childTnLst>
                        <p:par>
                          <p:cTn id="9212" fill="hold">
                            <p:stCondLst>
                              <p:cond delay="0"/>
                            </p:stCondLst>
                            <p:childTnLst>
                              <p:par>
                                <p:cTn id="921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15" dur="10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9" dur="8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0" dur="8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1" dur="80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2" fill="hold">
                      <p:stCondLst>
                        <p:cond delay="indefinite"/>
                      </p:stCondLst>
                      <p:childTnLst>
                        <p:par>
                          <p:cTn id="9223" fill="hold">
                            <p:stCondLst>
                              <p:cond delay="0"/>
                            </p:stCondLst>
                            <p:childTnLst>
                              <p:par>
                                <p:cTn id="9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6" dur="80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7" dur="80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8" dur="80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9" fill="hold">
                            <p:stCondLst>
                              <p:cond delay="960"/>
                            </p:stCondLst>
                            <p:childTnLst>
                              <p:par>
                                <p:cTn id="9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2" dur="1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3" dur="1000" fill="hold"/>
                                        <p:tgtEl>
                                          <p:spTgt spid="2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4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7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8" dur="1000" fill="hold"/>
                                        <p:tgtEl>
                                          <p:spTgt spid="2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9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2" dur="10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3" dur="1000" fill="hold"/>
                                        <p:tgtEl>
                                          <p:spTgt spid="2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4" dur="1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7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8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9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2" dur="10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3" dur="10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4" dur="10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7" dur="10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8" dur="1000" fill="hold"/>
                                        <p:tgtEl>
                                          <p:spTgt spid="2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9" dur="10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2" dur="1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3" dur="10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4" dur="10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7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8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9" dur="1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2" dur="10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3" dur="1000" fill="hold"/>
                                        <p:tgtEl>
                                          <p:spTgt spid="2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4" dur="1000"/>
                                        <p:tgtEl>
                                          <p:spTgt spid="2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7" dur="10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8" dur="1000" fill="hold"/>
                                        <p:tgtEl>
                                          <p:spTgt spid="2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9" dur="10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2" dur="10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3" dur="1000" fill="hold"/>
                                        <p:tgtEl>
                                          <p:spTgt spid="2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4" dur="1000"/>
                                        <p:tgtEl>
                                          <p:spTgt spid="2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7" dur="10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8" dur="1000" fill="hold"/>
                                        <p:tgtEl>
                                          <p:spTgt spid="2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9" dur="10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2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3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4" dur="1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7" dur="1000" fill="hold"/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8" dur="1000" fill="hold"/>
                                        <p:tgtEl>
                                          <p:spTgt spid="2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9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2" dur="10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3" dur="10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4" dur="10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7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8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9" dur="1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2" dur="1000" fill="hold"/>
                                        <p:tgtEl>
                                          <p:spTgt spid="2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3" dur="1000" fill="hold"/>
                                        <p:tgtEl>
                                          <p:spTgt spid="2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4" dur="10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7" dur="10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8" dur="1000" fill="hold"/>
                                        <p:tgtEl>
                                          <p:spTgt spid="2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9" dur="10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2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3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4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7" dur="1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8" dur="1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9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2" dur="10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3" dur="1000" fill="hold"/>
                                        <p:tgtEl>
                                          <p:spTgt spid="2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7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8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9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2" dur="1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3" dur="1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4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7" dur="10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8" dur="1000" fill="hold"/>
                                        <p:tgtEl>
                                          <p:spTgt spid="2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9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2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3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4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7" dur="1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8" dur="1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9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2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3" dur="1000" fill="hold"/>
                                        <p:tgtEl>
                                          <p:spTgt spid="2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4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7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8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9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2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3" dur="1000" fill="hold"/>
                                        <p:tgtEl>
                                          <p:spTgt spid="2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4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7" dur="1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8" dur="1000" fill="hold"/>
                                        <p:tgtEl>
                                          <p:spTgt spid="2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9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2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3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4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7" dur="1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8" dur="10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9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2" dur="10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3" dur="1000" fill="hold"/>
                                        <p:tgtEl>
                                          <p:spTgt spid="2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4" dur="1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7" dur="10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8" dur="1000" fill="hold"/>
                                        <p:tgtEl>
                                          <p:spTgt spid="2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9" dur="10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2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3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4" dur="10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7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8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9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0" fill="hold">
                      <p:stCondLst>
                        <p:cond delay="indefinite"/>
                      </p:stCondLst>
                      <p:childTnLst>
                        <p:par>
                          <p:cTn id="9411" fill="hold">
                            <p:stCondLst>
                              <p:cond delay="0"/>
                            </p:stCondLst>
                            <p:childTnLst>
                              <p:par>
                                <p:cTn id="9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4" dur="1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5" dur="10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6" dur="1000"/>
                                        <p:tgtEl>
                                          <p:spTgt spid="2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0" dur="200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23" dur="20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6" dur="10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7" dur="10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8" dur="10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1" dur="10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2" dur="10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3" dur="1000" fill="hold"/>
                                        <p:tgtEl>
                                          <p:spTgt spid="2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7" dur="80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8" dur="80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9" dur="80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2" dur="1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5" dur="1000"/>
                                        <p:tgtEl>
                                          <p:spTgt spid="2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6" fill="hold">
                      <p:stCondLst>
                        <p:cond delay="indefinite"/>
                      </p:stCondLst>
                      <p:childTnLst>
                        <p:par>
                          <p:cTn id="9447" fill="hold">
                            <p:stCondLst>
                              <p:cond delay="0"/>
                            </p:stCondLst>
                            <p:childTnLst>
                              <p:par>
                                <p:cTn id="9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0" dur="10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3" dur="10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6" dur="10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9" dur="10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3" dur="10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6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9" dur="10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0" fill="hold">
                      <p:stCondLst>
                        <p:cond delay="indefinite"/>
                      </p:stCondLst>
                      <p:childTnLst>
                        <p:par>
                          <p:cTn id="9471" fill="hold">
                            <p:stCondLst>
                              <p:cond delay="0"/>
                            </p:stCondLst>
                            <p:childTnLst>
                              <p:par>
                                <p:cTn id="9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4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7" dur="2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0" dur="2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3" dur="10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4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5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8" dur="10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9" dur="1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0" dur="1000" fill="hold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3" dur="1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6" dur="10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7" fill="hold">
                      <p:stCondLst>
                        <p:cond delay="indefinite"/>
                      </p:stCondLst>
                      <p:childTnLst>
                        <p:par>
                          <p:cTn id="9498" fill="hold">
                            <p:stCondLst>
                              <p:cond delay="0"/>
                            </p:stCondLst>
                            <p:childTnLst>
                              <p:par>
                                <p:cTn id="9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1" dur="10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4" dur="10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7" dur="1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0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3" dur="10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4" fill="hold">
                      <p:stCondLst>
                        <p:cond delay="indefinite"/>
                      </p:stCondLst>
                      <p:childTnLst>
                        <p:par>
                          <p:cTn id="9515" fill="hold">
                            <p:stCondLst>
                              <p:cond delay="0"/>
                            </p:stCondLst>
                            <p:childTnLst>
                              <p:par>
                                <p:cTn id="9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8" dur="1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1" dur="1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4" dur="10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7" dur="1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0" dur="10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3" dur="1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4" fill="hold">
                      <p:stCondLst>
                        <p:cond delay="indefinite"/>
                      </p:stCondLst>
                      <p:childTnLst>
                        <p:par>
                          <p:cTn id="9535" fill="hold">
                            <p:stCondLst>
                              <p:cond delay="0"/>
                            </p:stCondLst>
                            <p:childTnLst>
                              <p:par>
                                <p:cTn id="95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37" dur="10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2" dur="1000"/>
                                        <p:tgtEl>
                                          <p:spTgt spid="2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5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8" dur="1000"/>
                                        <p:tgtEl>
                                          <p:spTgt spid="2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1" dur="10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4" dur="1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7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8" fill="hold">
                      <p:stCondLst>
                        <p:cond delay="indefinite"/>
                      </p:stCondLst>
                      <p:childTnLst>
                        <p:par>
                          <p:cTn id="9559" fill="hold">
                            <p:stCondLst>
                              <p:cond delay="0"/>
                            </p:stCondLst>
                            <p:childTnLst>
                              <p:par>
                                <p:cTn id="9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2" dur="10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5" dur="10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8" dur="1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1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4" dur="1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7" dur="10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8" fill="hold">
                      <p:stCondLst>
                        <p:cond delay="indefinite"/>
                      </p:stCondLst>
                      <p:childTnLst>
                        <p:par>
                          <p:cTn id="9579" fill="hold">
                            <p:stCondLst>
                              <p:cond delay="0"/>
                            </p:stCondLst>
                            <p:childTnLst>
                              <p:par>
                                <p:cTn id="95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2" dur="10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3" dur="1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4" dur="1000" fill="hold"/>
                                        <p:tgtEl>
                                          <p:spTgt spid="2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7" dur="10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8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9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2" dur="1000" fill="hold"/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3" dur="1000" fill="hold"/>
                                        <p:tgtEl>
                                          <p:spTgt spid="2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4" dur="10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8" dur="80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9" dur="80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0" dur="80"/>
                                        <p:tgtEl>
                                          <p:spTgt spid="2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1" fill="hold">
                            <p:stCondLst>
                              <p:cond delay="2960"/>
                            </p:stCondLst>
                            <p:childTnLst>
                              <p:par>
                                <p:cTn id="9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4" dur="10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5" fill="hold">
                            <p:stCondLst>
                              <p:cond delay="3960"/>
                            </p:stCondLst>
                            <p:childTnLst>
                              <p:par>
                                <p:cTn id="96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8" dur="1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9" fill="hold">
                            <p:stCondLst>
                              <p:cond delay="4960"/>
                            </p:stCondLst>
                            <p:childTnLst>
                              <p:par>
                                <p:cTn id="96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2" dur="10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3" fill="hold">
                      <p:stCondLst>
                        <p:cond delay="indefinite"/>
                      </p:stCondLst>
                      <p:childTnLst>
                        <p:par>
                          <p:cTn id="9614" fill="hold">
                            <p:stCondLst>
                              <p:cond delay="0"/>
                            </p:stCondLst>
                            <p:childTnLst>
                              <p:par>
                                <p:cTn id="9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17" dur="80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8" dur="80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9" dur="80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2" dur="10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3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4" dur="1000" fill="hold"/>
                                        <p:tgtEl>
                                          <p:spTgt spid="2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5" fill="hold">
                            <p:stCondLst>
                              <p:cond delay="1680"/>
                            </p:stCondLst>
                            <p:childTnLst>
                              <p:par>
                                <p:cTn id="9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8" dur="20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1" dur="20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4" dur="2000"/>
                                        <p:tgtEl>
                                          <p:spTgt spid="2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7" dur="20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0" dur="2000"/>
                                        <p:tgtEl>
                                          <p:spTgt spid="2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3" dur="2000"/>
                                        <p:tgtEl>
                                          <p:spTgt spid="2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6" dur="20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9" dur="20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2" dur="20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5" dur="20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8" dur="20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1" dur="2000"/>
                                        <p:tgtEl>
                                          <p:spTgt spid="2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4" dur="2000"/>
                                        <p:tgtEl>
                                          <p:spTgt spid="2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7" dur="20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0" dur="20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3" dur="20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6" dur="20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9" dur="20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2" dur="2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5" dur="20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8" dur="2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1" dur="20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4" dur="20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7" dur="2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0" dur="20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3" dur="20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6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9" dur="20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2" dur="2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5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8" dur="1000" fill="hold"/>
                                        <p:tgtEl>
                                          <p:spTgt spid="2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9" dur="1000" fill="hold"/>
                                        <p:tgtEl>
                                          <p:spTgt spid="2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0" dur="10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3" dur="2000"/>
                                        <p:tgtEl>
                                          <p:spTgt spid="2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6" dur="20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29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2" dur="20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5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8" dur="20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1" dur="20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4" dur="20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7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0" dur="20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1" fill="hold">
                            <p:stCondLst>
                              <p:cond delay="3680"/>
                            </p:stCondLst>
                            <p:childTnLst>
                              <p:par>
                                <p:cTn id="9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4" dur="80"/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55" dur="80"/>
                                        <p:tgtEl>
                                          <p:spTgt spid="2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6" dur="80"/>
                                        <p:tgtEl>
                                          <p:spTgt spid="2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7" fill="hold">
                      <p:stCondLst>
                        <p:cond delay="indefinite"/>
                      </p:stCondLst>
                      <p:childTnLst>
                        <p:par>
                          <p:cTn id="9758" fill="hold">
                            <p:stCondLst>
                              <p:cond delay="0"/>
                            </p:stCondLst>
                            <p:childTnLst>
                              <p:par>
                                <p:cTn id="97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1" dur="80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2" dur="80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3" dur="80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4" fill="hold">
                      <p:stCondLst>
                        <p:cond delay="indefinite"/>
                      </p:stCondLst>
                      <p:childTnLst>
                        <p:par>
                          <p:cTn id="9765" fill="hold">
                            <p:stCondLst>
                              <p:cond delay="0"/>
                            </p:stCondLst>
                            <p:childTnLst>
                              <p:par>
                                <p:cTn id="97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8" dur="20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71" dur="20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5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8" dur="20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1" dur="20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5" dur="1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6" dur="10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7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0" dur="1000" fill="hold"/>
                                        <p:tgtEl>
                                          <p:spTgt spid="2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1" dur="1000" fill="hold"/>
                                        <p:tgtEl>
                                          <p:spTgt spid="2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2" dur="10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7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6" dur="10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7" dur="1000" fill="hold"/>
                                        <p:tgtEl>
                                          <p:spTgt spid="2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8" dur="10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1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2" dur="1000" fill="hold"/>
                                        <p:tgtEl>
                                          <p:spTgt spid="2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3" dur="10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4" fill="hold">
                            <p:stCondLst>
                              <p:cond delay="6000"/>
                            </p:stCondLst>
                            <p:childTnLst>
                              <p:par>
                                <p:cTn id="98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7" dur="10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0" dur="10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1" fill="hold">
                      <p:stCondLst>
                        <p:cond delay="indefinite"/>
                      </p:stCondLst>
                      <p:childTnLst>
                        <p:par>
                          <p:cTn id="9812" fill="hold">
                            <p:stCondLst>
                              <p:cond delay="0"/>
                            </p:stCondLst>
                            <p:childTnLst>
                              <p:par>
                                <p:cTn id="98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14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17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0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3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6" dur="500"/>
                                        <p:tgtEl>
                                          <p:spTgt spid="2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9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2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5" dur="5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9" dur="10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2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5" dur="10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8" dur="10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1" dur="10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4" dur="10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7" dur="10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0" dur="10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3" dur="10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6" dur="10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9" dur="1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2" dur="1000"/>
                                        <p:tgtEl>
                                          <p:spTgt spid="2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5" dur="10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6" fill="hold">
                      <p:stCondLst>
                        <p:cond delay="indefinite"/>
                      </p:stCondLst>
                      <p:childTnLst>
                        <p:par>
                          <p:cTn id="9877" fill="hold">
                            <p:stCondLst>
                              <p:cond delay="0"/>
                            </p:stCondLst>
                            <p:childTnLst>
                              <p:par>
                                <p:cTn id="98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0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1" dur="1000" fill="hold"/>
                                        <p:tgtEl>
                                          <p:spTgt spid="2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2" dur="1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5" dur="10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6" dur="10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7" dur="10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9" dur="1000"/>
                                        <p:tgtEl>
                                          <p:spTgt spid="2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92" dur="10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4" fill="hold">
                      <p:stCondLst>
                        <p:cond delay="indefinite"/>
                      </p:stCondLst>
                      <p:childTnLst>
                        <p:par>
                          <p:cTn id="9895" fill="hold">
                            <p:stCondLst>
                              <p:cond delay="0"/>
                            </p:stCondLst>
                            <p:childTnLst>
                              <p:par>
                                <p:cTn id="98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8" dur="10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9" dur="10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0" dur="1000"/>
                                        <p:tgtEl>
                                          <p:spTgt spid="2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3" dur="1000" fill="hold"/>
                                        <p:tgtEl>
                                          <p:spTgt spid="2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4" dur="1000" fill="hold"/>
                                        <p:tgtEl>
                                          <p:spTgt spid="2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5" dur="10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8" dur="10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1" dur="1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5" dur="10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9" dur="1000" fill="hold"/>
                                        <p:tgtEl>
                                          <p:spTgt spid="2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0" dur="1000" fill="hold"/>
                                        <p:tgtEl>
                                          <p:spTgt spid="2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1" dur="10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9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5" dur="10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9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9" dur="10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0" dur="10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1" dur="10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4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5" fill="hold">
                      <p:stCondLst>
                        <p:cond delay="indefinite"/>
                      </p:stCondLst>
                      <p:childTnLst>
                        <p:par>
                          <p:cTn id="9936" fill="hold">
                            <p:stCondLst>
                              <p:cond delay="0"/>
                            </p:stCondLst>
                            <p:childTnLst>
                              <p:par>
                                <p:cTn id="99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9" dur="80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0" dur="80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1" dur="80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2" fill="hold">
                      <p:stCondLst>
                        <p:cond delay="indefinite"/>
                      </p:stCondLst>
                      <p:childTnLst>
                        <p:par>
                          <p:cTn id="9943" fill="hold">
                            <p:stCondLst>
                              <p:cond delay="0"/>
                            </p:stCondLst>
                            <p:childTnLst>
                              <p:par>
                                <p:cTn id="9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6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7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8" dur="1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1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2" dur="1000" fill="hold"/>
                                        <p:tgtEl>
                                          <p:spTgt spid="2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3" dur="1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6" dur="10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7" dur="10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8" dur="10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1" dur="10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2" dur="10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3" dur="10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6" dur="1000" fill="hold"/>
                                        <p:tgtEl>
                                          <p:spTgt spid="2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7" dur="1000" fill="hold"/>
                                        <p:tgtEl>
                                          <p:spTgt spid="2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8" dur="1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9" fill="hold">
                      <p:stCondLst>
                        <p:cond delay="indefinite"/>
                      </p:stCondLst>
                      <p:childTnLst>
                        <p:par>
                          <p:cTn id="9970" fill="hold">
                            <p:stCondLst>
                              <p:cond delay="0"/>
                            </p:stCondLst>
                            <p:childTnLst>
                              <p:par>
                                <p:cTn id="99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3" dur="80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4" dur="80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5" dur="80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6" fill="hold">
                      <p:stCondLst>
                        <p:cond delay="indefinite"/>
                      </p:stCondLst>
                      <p:childTnLst>
                        <p:par>
                          <p:cTn id="9977" fill="hold">
                            <p:stCondLst>
                              <p:cond delay="0"/>
                            </p:stCondLst>
                            <p:childTnLst>
                              <p:par>
                                <p:cTn id="99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0" dur="1000" fill="hold"/>
                                        <p:tgtEl>
                                          <p:spTgt spid="2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1" dur="1000" fill="hold"/>
                                        <p:tgtEl>
                                          <p:spTgt spid="2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2" dur="10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5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6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7" dur="10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0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1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2" dur="10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5" dur="10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6" dur="10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7" dur="10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0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1" dur="1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2" dur="10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2589120" y="855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едельное равновесие 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900000" y="1700280"/>
            <a:ext cx="792360" cy="718920"/>
          </a:xfrm>
          <a:custGeom>
            <a:avLst/>
            <a:gdLst/>
            <a:ahLst/>
            <a:rect l="l" t="t" r="r" b="b"/>
            <a:pathLst>
              <a:path w="499" h="453">
                <a:moveTo>
                  <a:pt x="0" y="453"/>
                </a:moveTo>
                <a:lnTo>
                  <a:pt x="0" y="0"/>
                </a:lnTo>
                <a:lnTo>
                  <a:pt x="499" y="0"/>
                </a:lnTo>
                <a:lnTo>
                  <a:pt x="499" y="4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795240" y="241920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795240" y="2419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1581120" y="241920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1581120" y="2419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865080" y="2379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657440" y="237960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1300320" y="143028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665280" y="2050920"/>
            <a:ext cx="21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900000" y="137160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39640" y="1698480"/>
            <a:ext cx="354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39640" y="241920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39640" y="20527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900000" y="13399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1692360" y="133992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585720" y="16923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1300320" y="133992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 flipH="1">
            <a:off x="1271520" y="13460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H="1">
            <a:off x="1666800" y="13460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874800" y="133992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565200" y="167148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558720" y="202392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60520" y="239076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906480" y="116064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1290600" y="116064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225360" y="176832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25360" y="209700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531720" y="1811160"/>
            <a:ext cx="459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246320" y="1398600"/>
            <a:ext cx="458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92240" y="981000"/>
            <a:ext cx="792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дин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900000" y="24634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1692360" y="24508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flipH="1">
            <a:off x="973080" y="24192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1730520" y="2419200"/>
            <a:ext cx="1792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855720" y="2181240"/>
            <a:ext cx="718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1685880" y="2181240"/>
            <a:ext cx="32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Х</a:t>
            </a:r>
            <a:r>
              <a:rPr b="1" i="1" lang="en-US" sz="1600" spc="-1" strike="noStrike">
                <a:solidFill>
                  <a:srgbClr val="970778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646280" y="2475000"/>
            <a:ext cx="458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828720" y="2482920"/>
            <a:ext cx="333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668160" y="2197080"/>
            <a:ext cx="32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1463760" y="2197080"/>
            <a:ext cx="32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385920" y="2616120"/>
            <a:ext cx="1008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из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247760" y="2635200"/>
            <a:ext cx="10080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из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849240" y="2031840"/>
            <a:ext cx="8733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из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711360" y="1517760"/>
            <a:ext cx="179280" cy="161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1211400" y="1720800"/>
            <a:ext cx="179280" cy="16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711440" y="1517760"/>
            <a:ext cx="179280" cy="161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917640" y="1890720"/>
            <a:ext cx="179280" cy="16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887400" y="189540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174680" y="172872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77880" y="153036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657440" y="152388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324000" y="2960640"/>
            <a:ext cx="18716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тически возмож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я уси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2652840" y="12304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Решение ст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1906560" y="1333440"/>
            <a:ext cx="720720" cy="296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2268360" y="1733400"/>
            <a:ext cx="863640" cy="31608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3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варианта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268360" y="2556000"/>
            <a:ext cx="863640" cy="131256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возможн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поле уси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эпюра изгибающих момент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соответству-ющих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5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2268360" y="2075040"/>
            <a:ext cx="863640" cy="4572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характерис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тики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2268360" y="3902040"/>
            <a:ext cx="863640" cy="1022400"/>
          </a:xfrm>
          <a:prstGeom prst="rect">
            <a:avLst/>
          </a:prstGeom>
          <a:solidFill>
            <a:srgbClr val="fcf2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Услов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допустимо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сти стати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чески возможного поля уси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2268360" y="4950000"/>
            <a:ext cx="863640" cy="581760"/>
          </a:xfrm>
          <a:prstGeom prst="rect">
            <a:avLst/>
          </a:prstGeom>
          <a:solidFill>
            <a:srgbClr val="f6d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парамет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3151080" y="1733400"/>
            <a:ext cx="917640" cy="31608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4087800" y="1735200"/>
            <a:ext cx="90972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5018040" y="1735200"/>
            <a:ext cx="90324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5940360" y="1735200"/>
            <a:ext cx="94320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6904080" y="1735200"/>
            <a:ext cx="94284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7866000" y="1735200"/>
            <a:ext cx="94320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3151080" y="2070000"/>
            <a:ext cx="917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4087800" y="2075040"/>
            <a:ext cx="911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5016600" y="2076480"/>
            <a:ext cx="906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5940360" y="2076480"/>
            <a:ext cx="9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7866000" y="2076480"/>
            <a:ext cx="94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902280" y="2076480"/>
            <a:ext cx="946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3151080" y="2552760"/>
            <a:ext cx="91764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4087800" y="2552760"/>
            <a:ext cx="91116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5018040" y="2552760"/>
            <a:ext cx="90648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5940360" y="2552760"/>
            <a:ext cx="94320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6902280" y="2554200"/>
            <a:ext cx="94644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7866000" y="2554200"/>
            <a:ext cx="946080" cy="13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3151080" y="3895560"/>
            <a:ext cx="91764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4087800" y="3895560"/>
            <a:ext cx="91116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5018040" y="3895560"/>
            <a:ext cx="90648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5940360" y="3895560"/>
            <a:ext cx="94320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6899400" y="3895560"/>
            <a:ext cx="94608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7866000" y="3895560"/>
            <a:ext cx="946080" cy="10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3151080" y="4950000"/>
            <a:ext cx="91764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4087800" y="4950000"/>
            <a:ext cx="91116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018040" y="4950000"/>
            <a:ext cx="90648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940360" y="4950000"/>
            <a:ext cx="94320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6900840" y="4950000"/>
            <a:ext cx="94608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866000" y="4950000"/>
            <a:ext cx="94608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365640" y="2978280"/>
            <a:ext cx="468000" cy="468360"/>
          </a:xfrm>
          <a:custGeom>
            <a:avLst/>
            <a:gdLst/>
            <a:ahLst/>
            <a:rect l="l" t="t" r="r" b="b"/>
            <a:pathLst>
              <a:path w="318" h="272">
                <a:moveTo>
                  <a:pt x="0" y="272"/>
                </a:moveTo>
                <a:lnTo>
                  <a:pt x="0" y="0"/>
                </a:lnTo>
                <a:lnTo>
                  <a:pt x="318" y="0"/>
                </a:lnTo>
                <a:lnTo>
                  <a:pt x="318" y="2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8489880" y="2978280"/>
            <a:ext cx="287280" cy="46836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lnTo>
                  <a:pt x="136" y="0"/>
                </a:lnTo>
                <a:lnTo>
                  <a:pt x="0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7566120" y="2978280"/>
            <a:ext cx="252360" cy="46836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lnTo>
                  <a:pt x="136" y="0"/>
                </a:lnTo>
                <a:lnTo>
                  <a:pt x="0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6585120" y="2978280"/>
            <a:ext cx="215640" cy="46836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lnTo>
                  <a:pt x="136" y="0"/>
                </a:lnTo>
                <a:lnTo>
                  <a:pt x="0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5668920" y="2978280"/>
            <a:ext cx="179280" cy="46836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lnTo>
                  <a:pt x="136" y="0"/>
                </a:lnTo>
                <a:lnTo>
                  <a:pt x="0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4738680" y="2978280"/>
            <a:ext cx="144360" cy="468360"/>
          </a:xfrm>
          <a:custGeom>
            <a:avLst/>
            <a:gdLst/>
            <a:ahLst/>
            <a:rect l="l" t="t" r="r" b="b"/>
            <a:pathLst>
              <a:path w="136" h="318">
                <a:moveTo>
                  <a:pt x="0" y="0"/>
                </a:moveTo>
                <a:lnTo>
                  <a:pt x="136" y="0"/>
                </a:lnTo>
                <a:lnTo>
                  <a:pt x="0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3368520" y="2978280"/>
            <a:ext cx="216000" cy="468360"/>
          </a:xfrm>
          <a:custGeom>
            <a:avLst/>
            <a:gdLst/>
            <a:ahLst/>
            <a:rect l="l" t="t" r="r" b="b"/>
            <a:pathLst>
              <a:path w="136" h="272">
                <a:moveTo>
                  <a:pt x="0" y="272"/>
                </a:moveTo>
                <a:lnTo>
                  <a:pt x="136" y="136"/>
                </a:lnTo>
                <a:lnTo>
                  <a:pt x="136" y="0"/>
                </a:lnTo>
                <a:lnTo>
                  <a:pt x="0" y="0"/>
                </a:lnTo>
                <a:lnTo>
                  <a:pt x="0" y="27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3363840" y="2978280"/>
            <a:ext cx="468360" cy="299880"/>
          </a:xfrm>
          <a:custGeom>
            <a:avLst/>
            <a:gdLst/>
            <a:ahLst/>
            <a:rect l="l" t="t" r="r" b="b"/>
            <a:pathLst>
              <a:path w="295" h="189">
                <a:moveTo>
                  <a:pt x="0" y="0"/>
                </a:moveTo>
                <a:lnTo>
                  <a:pt x="295" y="0"/>
                </a:lnTo>
                <a:lnTo>
                  <a:pt x="147" y="189"/>
                </a:lnTo>
                <a:lnTo>
                  <a:pt x="0" y="13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>
              <a:alphaModFix amt="5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270320" y="2978280"/>
            <a:ext cx="185760" cy="468360"/>
          </a:xfrm>
          <a:custGeom>
            <a:avLst/>
            <a:gdLst/>
            <a:ahLst/>
            <a:rect l="l" t="t" r="r" b="b"/>
            <a:pathLst>
              <a:path w="117" h="295">
                <a:moveTo>
                  <a:pt x="0" y="295"/>
                </a:moveTo>
                <a:lnTo>
                  <a:pt x="117" y="151"/>
                </a:lnTo>
                <a:lnTo>
                  <a:pt x="85" y="1"/>
                </a:lnTo>
                <a:lnTo>
                  <a:pt x="0" y="0"/>
                </a:lnTo>
                <a:lnTo>
                  <a:pt x="0" y="295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5205240" y="2978280"/>
            <a:ext cx="204840" cy="468360"/>
          </a:xfrm>
          <a:custGeom>
            <a:avLst/>
            <a:gdLst/>
            <a:ahLst/>
            <a:rect l="l" t="t" r="r" b="b"/>
            <a:pathLst>
              <a:path w="129" h="295">
                <a:moveTo>
                  <a:pt x="0" y="295"/>
                </a:moveTo>
                <a:lnTo>
                  <a:pt x="129" y="144"/>
                </a:lnTo>
                <a:lnTo>
                  <a:pt x="78" y="0"/>
                </a:lnTo>
                <a:lnTo>
                  <a:pt x="0" y="0"/>
                </a:lnTo>
                <a:lnTo>
                  <a:pt x="0" y="295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6122880" y="2978280"/>
            <a:ext cx="187560" cy="468360"/>
          </a:xfrm>
          <a:custGeom>
            <a:avLst/>
            <a:gdLst/>
            <a:ahLst/>
            <a:rect l="l" t="t" r="r" b="b"/>
            <a:pathLst>
              <a:path w="118" h="295">
                <a:moveTo>
                  <a:pt x="0" y="295"/>
                </a:moveTo>
                <a:lnTo>
                  <a:pt x="118" y="147"/>
                </a:lnTo>
                <a:lnTo>
                  <a:pt x="61" y="0"/>
                </a:lnTo>
                <a:lnTo>
                  <a:pt x="0" y="0"/>
                </a:lnTo>
                <a:lnTo>
                  <a:pt x="0" y="295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7102440" y="2978280"/>
            <a:ext cx="162000" cy="468360"/>
          </a:xfrm>
          <a:custGeom>
            <a:avLst/>
            <a:gdLst/>
            <a:ahLst/>
            <a:rect l="l" t="t" r="r" b="b"/>
            <a:pathLst>
              <a:path w="102" h="295">
                <a:moveTo>
                  <a:pt x="0" y="295"/>
                </a:moveTo>
                <a:lnTo>
                  <a:pt x="102" y="150"/>
                </a:lnTo>
                <a:lnTo>
                  <a:pt x="33" y="0"/>
                </a:lnTo>
                <a:lnTo>
                  <a:pt x="0" y="0"/>
                </a:lnTo>
                <a:lnTo>
                  <a:pt x="0" y="295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8013600" y="2978280"/>
            <a:ext cx="135000" cy="468360"/>
          </a:xfrm>
          <a:custGeom>
            <a:avLst/>
            <a:gdLst/>
            <a:ahLst/>
            <a:rect l="l" t="t" r="r" b="b"/>
            <a:pathLst>
              <a:path w="85" h="295">
                <a:moveTo>
                  <a:pt x="0" y="295"/>
                </a:moveTo>
                <a:lnTo>
                  <a:pt x="85" y="147"/>
                </a:lnTo>
                <a:lnTo>
                  <a:pt x="0" y="0"/>
                </a:lnTo>
                <a:lnTo>
                  <a:pt x="0" y="295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8020080" y="2690640"/>
            <a:ext cx="468360" cy="4320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181"/>
                </a:moveTo>
                <a:lnTo>
                  <a:pt x="272" y="181"/>
                </a:lnTo>
                <a:lnTo>
                  <a:pt x="272" y="0"/>
                </a:lnTo>
                <a:lnTo>
                  <a:pt x="136" y="272"/>
                </a:lnTo>
                <a:lnTo>
                  <a:pt x="0" y="181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7102440" y="2716200"/>
            <a:ext cx="463680" cy="40644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0" y="165"/>
                </a:moveTo>
                <a:lnTo>
                  <a:pt x="292" y="165"/>
                </a:lnTo>
                <a:lnTo>
                  <a:pt x="291" y="0"/>
                </a:lnTo>
                <a:lnTo>
                  <a:pt x="145" y="256"/>
                </a:lnTo>
                <a:lnTo>
                  <a:pt x="0" y="198"/>
                </a:lnTo>
                <a:lnTo>
                  <a:pt x="0" y="165"/>
                </a:lnTo>
                <a:close/>
              </a:path>
            </a:pathLst>
          </a:custGeom>
          <a:blipFill rotWithShape="0">
            <a:blip r:embed="rId16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6121440" y="2744640"/>
            <a:ext cx="463680" cy="424080"/>
          </a:xfrm>
          <a:custGeom>
            <a:avLst/>
            <a:gdLst/>
            <a:ahLst/>
            <a:rect l="l" t="t" r="r" b="b"/>
            <a:pathLst>
              <a:path w="292" h="267">
                <a:moveTo>
                  <a:pt x="0" y="146"/>
                </a:moveTo>
                <a:lnTo>
                  <a:pt x="292" y="146"/>
                </a:lnTo>
                <a:lnTo>
                  <a:pt x="291" y="0"/>
                </a:lnTo>
                <a:lnTo>
                  <a:pt x="147" y="267"/>
                </a:lnTo>
                <a:lnTo>
                  <a:pt x="0" y="195"/>
                </a:lnTo>
                <a:lnTo>
                  <a:pt x="0" y="146"/>
                </a:lnTo>
                <a:close/>
              </a:path>
            </a:pathLst>
          </a:custGeom>
          <a:blipFill rotWithShape="0">
            <a:blip r:embed="rId17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5203800" y="2792520"/>
            <a:ext cx="463680" cy="442800"/>
          </a:xfrm>
          <a:custGeom>
            <a:avLst/>
            <a:gdLst/>
            <a:ahLst/>
            <a:rect l="l" t="t" r="r" b="b"/>
            <a:pathLst>
              <a:path w="292" h="279">
                <a:moveTo>
                  <a:pt x="0" y="118"/>
                </a:moveTo>
                <a:lnTo>
                  <a:pt x="292" y="118"/>
                </a:lnTo>
                <a:lnTo>
                  <a:pt x="291" y="0"/>
                </a:lnTo>
                <a:lnTo>
                  <a:pt x="150" y="279"/>
                </a:lnTo>
                <a:lnTo>
                  <a:pt x="0" y="204"/>
                </a:lnTo>
                <a:lnTo>
                  <a:pt x="0" y="118"/>
                </a:lnTo>
                <a:close/>
              </a:path>
            </a:pathLst>
          </a:custGeom>
          <a:blipFill rotWithShape="0">
            <a:blip r:embed="rId18">
              <a:alphaModFix amt="52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4270320" y="2833560"/>
            <a:ext cx="463680" cy="400320"/>
          </a:xfrm>
          <a:custGeom>
            <a:avLst/>
            <a:gdLst/>
            <a:ahLst/>
            <a:rect l="l" t="t" r="r" b="b"/>
            <a:pathLst>
              <a:path w="292" h="252">
                <a:moveTo>
                  <a:pt x="0" y="91"/>
                </a:moveTo>
                <a:lnTo>
                  <a:pt x="292" y="91"/>
                </a:lnTo>
                <a:lnTo>
                  <a:pt x="292" y="0"/>
                </a:lnTo>
                <a:lnTo>
                  <a:pt x="150" y="252"/>
                </a:lnTo>
                <a:lnTo>
                  <a:pt x="0" y="177"/>
                </a:lnTo>
                <a:lnTo>
                  <a:pt x="0" y="91"/>
                </a:lnTo>
                <a:close/>
              </a:path>
            </a:pathLst>
          </a:custGeom>
          <a:blipFill rotWithShape="0">
            <a:blip r:embed="rId19">
              <a:alphaModFix amt="51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456000" y="2824200"/>
            <a:ext cx="2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198960" y="3090960"/>
            <a:ext cx="21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443400" y="3254400"/>
            <a:ext cx="409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361040" y="329076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451400" y="3213000"/>
            <a:ext cx="71280" cy="1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435560" y="3162240"/>
            <a:ext cx="215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003560" y="302256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222800" y="282420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664160" y="280512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8180280" y="306216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8055000" y="318600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8361360" y="2538360"/>
            <a:ext cx="260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8632800" y="2822400"/>
            <a:ext cx="260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6902280" y="282744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7256520" y="305604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6426360" y="258300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6589800" y="281952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7165800" y="3211560"/>
            <a:ext cx="432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404120" y="255888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7566120" y="281628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202440" y="319392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6289560" y="308448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5856120" y="297324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037200" y="282096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5487840" y="263700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651640" y="282420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5375160" y="314964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127480" y="2824200"/>
            <a:ext cx="397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4935600" y="3027240"/>
            <a:ext cx="39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5253120" y="3325680"/>
            <a:ext cx="495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5400720" y="3203640"/>
            <a:ext cx="7128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3454560" y="21114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4589640" y="3557520"/>
            <a:ext cx="286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ординаты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умножать  на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l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4356000" y="209088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5281560" y="2085840"/>
                <a:ext cx="370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7184880" y="2085840"/>
                <a:ext cx="366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234120" y="2090880"/>
                <a:ext cx="371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8210520" y="2184480"/>
                <a:ext cx="21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6" name=""/>
          <p:cNvSpPr/>
          <p:nvPr/>
        </p:nvSpPr>
        <p:spPr>
          <a:xfrm>
            <a:off x="3708360" y="3429000"/>
            <a:ext cx="947880" cy="241200"/>
          </a:xfrm>
          <a:custGeom>
            <a:avLst/>
            <a:gdLst/>
            <a:ahLst/>
            <a:rect l="l" t="t" r="r" b="b"/>
            <a:pathLst>
              <a:path w="499" h="272">
                <a:moveTo>
                  <a:pt x="499" y="272"/>
                </a:moveTo>
                <a:cubicBezTo>
                  <a:pt x="438" y="261"/>
                  <a:pt x="378" y="250"/>
                  <a:pt x="318" y="227"/>
                </a:cubicBezTo>
                <a:cubicBezTo>
                  <a:pt x="258" y="204"/>
                  <a:pt x="189" y="174"/>
                  <a:pt x="136" y="136"/>
                </a:cubicBezTo>
                <a:cubicBezTo>
                  <a:pt x="83" y="98"/>
                  <a:pt x="41" y="49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3164040" y="3917880"/>
                <a:ext cx="8953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4105440" y="3922560"/>
                <a:ext cx="880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5035680" y="3909960"/>
                <a:ext cx="8506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6937200" y="3902040"/>
                <a:ext cx="89064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5946840" y="3887640"/>
                <a:ext cx="94284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7894800" y="3916440"/>
                <a:ext cx="87624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3151080" y="4997520"/>
                <a:ext cx="935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4186080" y="4997520"/>
                <a:ext cx="709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5" name=""/>
              <p:cNvSpPr txBox="1"/>
              <p:nvPr/>
            </p:nvSpPr>
            <p:spPr>
              <a:xfrm>
                <a:off x="5025960" y="4998960"/>
                <a:ext cx="908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6" name=""/>
              <p:cNvSpPr txBox="1"/>
              <p:nvPr/>
            </p:nvSpPr>
            <p:spPr>
              <a:xfrm>
                <a:off x="5945040" y="4998960"/>
                <a:ext cx="908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7" name=""/>
              <p:cNvSpPr txBox="1"/>
              <p:nvPr/>
            </p:nvSpPr>
            <p:spPr>
              <a:xfrm>
                <a:off x="6919920" y="4998960"/>
                <a:ext cx="9064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7958160" y="4998960"/>
                <a:ext cx="7081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662360" y="3446640"/>
            <a:ext cx="104760" cy="147600"/>
          </a:xfrm>
          <a:custGeom>
            <a:avLst/>
            <a:gdLst/>
            <a:ahLst/>
            <a:rect l="l" t="t" r="r" b="b"/>
            <a:pathLst>
              <a:path w="66" h="93">
                <a:moveTo>
                  <a:pt x="66" y="93"/>
                </a:moveTo>
                <a:cubicBezTo>
                  <a:pt x="62" y="88"/>
                  <a:pt x="50" y="78"/>
                  <a:pt x="39" y="63"/>
                </a:cubicBezTo>
                <a:cubicBezTo>
                  <a:pt x="28" y="48"/>
                  <a:pt x="8" y="13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508720" y="3498840"/>
            <a:ext cx="30240" cy="133200"/>
          </a:xfrm>
          <a:custGeom>
            <a:avLst/>
            <a:gdLst/>
            <a:ahLst/>
            <a:rect l="l" t="t" r="r" b="b"/>
            <a:pathLst>
              <a:path w="19" h="84">
                <a:moveTo>
                  <a:pt x="19" y="84"/>
                </a:moveTo>
                <a:cubicBezTo>
                  <a:pt x="16" y="70"/>
                  <a:pt x="4" y="17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6291360" y="3432240"/>
            <a:ext cx="81000" cy="190440"/>
          </a:xfrm>
          <a:custGeom>
            <a:avLst/>
            <a:gdLst/>
            <a:ahLst/>
            <a:rect l="l" t="t" r="r" b="b"/>
            <a:pathLst>
              <a:path w="51" h="120">
                <a:moveTo>
                  <a:pt x="0" y="120"/>
                </a:moveTo>
                <a:cubicBezTo>
                  <a:pt x="4" y="112"/>
                  <a:pt x="19" y="92"/>
                  <a:pt x="27" y="72"/>
                </a:cubicBezTo>
                <a:cubicBezTo>
                  <a:pt x="35" y="52"/>
                  <a:pt x="46" y="15"/>
                  <a:pt x="5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7035840" y="3436920"/>
            <a:ext cx="223920" cy="190440"/>
          </a:xfrm>
          <a:custGeom>
            <a:avLst/>
            <a:gdLst/>
            <a:ahLst/>
            <a:rect l="l" t="t" r="r" b="b"/>
            <a:pathLst>
              <a:path w="51" h="120">
                <a:moveTo>
                  <a:pt x="0" y="120"/>
                </a:moveTo>
                <a:cubicBezTo>
                  <a:pt x="4" y="112"/>
                  <a:pt x="19" y="92"/>
                  <a:pt x="27" y="72"/>
                </a:cubicBezTo>
                <a:cubicBezTo>
                  <a:pt x="35" y="52"/>
                  <a:pt x="46" y="15"/>
                  <a:pt x="51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7408800" y="3436920"/>
            <a:ext cx="795240" cy="238320"/>
          </a:xfrm>
          <a:custGeom>
            <a:avLst/>
            <a:gdLst/>
            <a:ahLst/>
            <a:rect l="l" t="t" r="r" b="b"/>
            <a:pathLst>
              <a:path w="444" h="150">
                <a:moveTo>
                  <a:pt x="0" y="150"/>
                </a:moveTo>
                <a:cubicBezTo>
                  <a:pt x="18" y="148"/>
                  <a:pt x="75" y="141"/>
                  <a:pt x="111" y="135"/>
                </a:cubicBezTo>
                <a:cubicBezTo>
                  <a:pt x="147" y="129"/>
                  <a:pt x="179" y="123"/>
                  <a:pt x="219" y="111"/>
                </a:cubicBezTo>
                <a:cubicBezTo>
                  <a:pt x="259" y="99"/>
                  <a:pt x="314" y="81"/>
                  <a:pt x="351" y="63"/>
                </a:cubicBezTo>
                <a:cubicBezTo>
                  <a:pt x="388" y="45"/>
                  <a:pt x="425" y="13"/>
                  <a:pt x="44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1969920" y="2282760"/>
            <a:ext cx="368640" cy="12600"/>
          </a:xfrm>
          <a:custGeom>
            <a:avLst/>
            <a:gdLst/>
            <a:ahLst/>
            <a:rect l="l" t="t" r="r" b="b"/>
            <a:pathLst>
              <a:path w="232" h="8">
                <a:moveTo>
                  <a:pt x="232" y="8"/>
                </a:moveTo>
                <a:cubicBezTo>
                  <a:pt x="211" y="7"/>
                  <a:pt x="147" y="0"/>
                  <a:pt x="108" y="0"/>
                </a:cubicBezTo>
                <a:cubicBezTo>
                  <a:pt x="69" y="0"/>
                  <a:pt x="22" y="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73120" y="4000680"/>
            <a:ext cx="1825560" cy="19461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07880" y="3728880"/>
            <a:ext cx="119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*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360360" y="5915160"/>
            <a:ext cx="289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2330280" y="5837400"/>
            <a:ext cx="6573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557280" y="59198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73120" y="421632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2013120" y="4216320"/>
            <a:ext cx="0" cy="1728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573120" y="536904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73120" y="479268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1292400" y="4216320"/>
            <a:ext cx="0" cy="1728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1652760" y="4216320"/>
            <a:ext cx="0" cy="1728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1474920" y="4216320"/>
            <a:ext cx="0" cy="1728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835280" y="4216320"/>
            <a:ext cx="0" cy="1728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8" name=""/>
              <p:cNvSpPr txBox="1"/>
              <p:nvPr/>
            </p:nvSpPr>
            <p:spPr>
              <a:xfrm>
                <a:off x="395280" y="5202360"/>
                <a:ext cx="152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395280" y="4048200"/>
                <a:ext cx="152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220760" y="5940360"/>
                <a:ext cx="1522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403280" y="5938920"/>
                <a:ext cx="152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1581120" y="5945040"/>
                <a:ext cx="15228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3" name=""/>
              <p:cNvSpPr txBox="1"/>
              <p:nvPr/>
            </p:nvSpPr>
            <p:spPr>
              <a:xfrm>
                <a:off x="1763640" y="5943600"/>
                <a:ext cx="152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4" name=""/>
              <p:cNvSpPr txBox="1"/>
              <p:nvPr/>
            </p:nvSpPr>
            <p:spPr>
              <a:xfrm>
                <a:off x="1969920" y="5986440"/>
                <a:ext cx="1144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5" name=""/>
              <p:cNvSpPr txBox="1"/>
              <p:nvPr/>
            </p:nvSpPr>
            <p:spPr>
              <a:xfrm>
                <a:off x="430200" y="4700520"/>
                <a:ext cx="1144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6" name=""/>
          <p:cNvSpPr/>
          <p:nvPr/>
        </p:nvSpPr>
        <p:spPr>
          <a:xfrm>
            <a:off x="571680" y="4395960"/>
            <a:ext cx="1081080" cy="780840"/>
          </a:xfrm>
          <a:custGeom>
            <a:avLst/>
            <a:gdLst/>
            <a:ahLst/>
            <a:rect l="l" t="t" r="r" b="b"/>
            <a:pathLst>
              <a:path w="681" h="492">
                <a:moveTo>
                  <a:pt x="0" y="492"/>
                </a:moveTo>
                <a:cubicBezTo>
                  <a:pt x="28" y="480"/>
                  <a:pt x="117" y="446"/>
                  <a:pt x="171" y="420"/>
                </a:cubicBezTo>
                <a:cubicBezTo>
                  <a:pt x="225" y="394"/>
                  <a:pt x="280" y="365"/>
                  <a:pt x="327" y="336"/>
                </a:cubicBezTo>
                <a:cubicBezTo>
                  <a:pt x="374" y="307"/>
                  <a:pt x="413" y="281"/>
                  <a:pt x="453" y="249"/>
                </a:cubicBezTo>
                <a:cubicBezTo>
                  <a:pt x="493" y="217"/>
                  <a:pt x="538" y="176"/>
                  <a:pt x="567" y="147"/>
                </a:cubicBezTo>
                <a:cubicBezTo>
                  <a:pt x="596" y="118"/>
                  <a:pt x="611" y="97"/>
                  <a:pt x="630" y="72"/>
                </a:cubicBezTo>
                <a:cubicBezTo>
                  <a:pt x="649" y="47"/>
                  <a:pt x="671" y="15"/>
                  <a:pt x="68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652760" y="4400640"/>
            <a:ext cx="360360" cy="396720"/>
          </a:xfrm>
          <a:custGeom>
            <a:avLst/>
            <a:gdLst/>
            <a:ahLst/>
            <a:rect l="l" t="t" r="r" b="b"/>
            <a:pathLst>
              <a:path w="227" h="250">
                <a:moveTo>
                  <a:pt x="0" y="0"/>
                </a:moveTo>
                <a:cubicBezTo>
                  <a:pt x="20" y="24"/>
                  <a:pt x="79" y="102"/>
                  <a:pt x="117" y="144"/>
                </a:cubicBezTo>
                <a:cubicBezTo>
                  <a:pt x="155" y="186"/>
                  <a:pt x="204" y="228"/>
                  <a:pt x="227" y="25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3511440" y="555480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статической теореме ТП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9" name=""/>
              <p:cNvSpPr txBox="1"/>
              <p:nvPr/>
            </p:nvSpPr>
            <p:spPr>
              <a:xfrm>
                <a:off x="3006720" y="5899320"/>
                <a:ext cx="41590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X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0" name=""/>
          <p:cNvSpPr/>
          <p:nvPr/>
        </p:nvSpPr>
        <p:spPr>
          <a:xfrm>
            <a:off x="7192800" y="5972040"/>
            <a:ext cx="289080" cy="432000"/>
          </a:xfrm>
          <a:prstGeom prst="rightArrow">
            <a:avLst>
              <a:gd name="adj1" fmla="val 54407"/>
              <a:gd name="adj2" fmla="val 4780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1" name=""/>
              <p:cNvSpPr txBox="1"/>
              <p:nvPr/>
            </p:nvSpPr>
            <p:spPr>
              <a:xfrm>
                <a:off x="7524720" y="5894280"/>
                <a:ext cx="12240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3" dur="indefinite" restart="never" nodeType="tmRoot">
          <p:childTnLst>
            <p:seq>
              <p:cTn id="10004" dur="indefinite" nodeType="mainSeq">
                <p:childTnLst>
                  <p:par>
                    <p:cTn id="10005" fill="hold">
                      <p:stCondLst>
                        <p:cond delay="0"/>
                      </p:stCondLst>
                      <p:childTnLst>
                        <p:par>
                          <p:cTn id="10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9" dur="5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0" fill="hold">
                      <p:stCondLst>
                        <p:cond delay="indefinite"/>
                      </p:stCondLst>
                      <p:childTnLst>
                        <p:par>
                          <p:cTn id="10011" fill="hold">
                            <p:stCondLst>
                              <p:cond delay="0"/>
                            </p:stCondLst>
                            <p:childTnLst>
                              <p:par>
                                <p:cTn id="100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4" dur="10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17" dur="10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0" dur="10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3" dur="10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6" dur="1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9" dur="10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32" dur="10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6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9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3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4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5" dur="10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8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9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0" dur="1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4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5" dur="1000" fill="hold"/>
                                        <p:tgtEl>
                                          <p:spTgt spid="2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6" dur="10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9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0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1" dur="10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5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6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7" dur="10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0" dur="1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1" dur="1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2" dur="10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5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6" dur="1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7" dur="1000"/>
                                        <p:tgtEl>
                                          <p:spTgt spid="2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0" dur="1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1" dur="1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2" dur="1000"/>
                                        <p:tgtEl>
                                          <p:spTgt spid="2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5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6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7" dur="10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0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1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2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5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6" dur="1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7" dur="10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0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1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2" dur="10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5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6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7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1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2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3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6" dur="1000" fill="hold"/>
                                        <p:tgtEl>
                                          <p:spTgt spid="2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7" dur="1000" fill="hold"/>
                                        <p:tgtEl>
                                          <p:spTgt spid="2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8" dur="10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1" dur="1000" fill="hold"/>
                                        <p:tgtEl>
                                          <p:spTgt spid="2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2" dur="1000" fill="hold"/>
                                        <p:tgtEl>
                                          <p:spTgt spid="2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3" dur="10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6" dur="10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7" dur="10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8" dur="10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1" dur="10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2" dur="1000" fill="hold"/>
                                        <p:tgtEl>
                                          <p:spTgt spid="2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3" dur="10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6" dur="1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7" dur="10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8" dur="10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1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2" dur="1000" fill="hold"/>
                                        <p:tgtEl>
                                          <p:spTgt spid="2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3" dur="10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6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7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8" dur="10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1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2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3" dur="1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7" dur="80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8" dur="80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9" dur="80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0" fill="hold">
                      <p:stCondLst>
                        <p:cond delay="indefinite"/>
                      </p:stCondLst>
                      <p:childTnLst>
                        <p:par>
                          <p:cTn id="10161" fill="hold">
                            <p:stCondLst>
                              <p:cond delay="0"/>
                            </p:stCondLst>
                            <p:childTnLst>
                              <p:par>
                                <p:cTn id="10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4" dur="10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5" dur="1000" fill="hold"/>
                                        <p:tgtEl>
                                          <p:spTgt spid="2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6" dur="10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0" dur="20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1" fill="hold">
                      <p:stCondLst>
                        <p:cond delay="indefinite"/>
                      </p:stCondLst>
                      <p:childTnLst>
                        <p:par>
                          <p:cTn id="10172" fill="hold">
                            <p:stCondLst>
                              <p:cond delay="0"/>
                            </p:stCondLst>
                            <p:childTnLst>
                              <p:par>
                                <p:cTn id="10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5" dur="10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78" dur="10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2" dur="10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6" dur="10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89" dur="1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3" dur="1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4" fill="hold">
                      <p:stCondLst>
                        <p:cond delay="indefinite"/>
                      </p:stCondLst>
                      <p:childTnLst>
                        <p:par>
                          <p:cTn id="10195" fill="hold">
                            <p:stCondLst>
                              <p:cond delay="0"/>
                            </p:stCondLst>
                            <p:childTnLst>
                              <p:par>
                                <p:cTn id="10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8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9" dur="1000" fill="hold"/>
                                        <p:tgtEl>
                                          <p:spTgt spid="2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0" dur="10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3" dur="10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4" dur="1000" fill="hold"/>
                                        <p:tgtEl>
                                          <p:spTgt spid="2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5" dur="10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9" dur="80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0" dur="80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1" dur="80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2" fill="hold">
                            <p:stCondLst>
                              <p:cond delay="2880"/>
                            </p:stCondLst>
                            <p:childTnLst>
                              <p:par>
                                <p:cTn id="10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5" dur="10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6" dur="10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7" dur="10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0" dur="1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1" dur="10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2" dur="10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3" fill="hold">
                            <p:stCondLst>
                              <p:cond delay="3880"/>
                            </p:stCondLst>
                            <p:childTnLst>
                              <p:par>
                                <p:cTn id="10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6" dur="10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7" dur="1000" fill="hold"/>
                                        <p:tgtEl>
                                          <p:spTgt spid="2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8" dur="10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9" fill="hold">
                      <p:stCondLst>
                        <p:cond delay="indefinite"/>
                      </p:stCondLst>
                      <p:childTnLst>
                        <p:par>
                          <p:cTn id="10230" fill="hold">
                            <p:stCondLst>
                              <p:cond delay="0"/>
                            </p:stCondLst>
                            <p:childTnLst>
                              <p:par>
                                <p:cTn id="10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3" dur="10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7" dur="10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1" dur="10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2" dur="1000" fill="hold"/>
                                        <p:tgtEl>
                                          <p:spTgt spid="2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3" dur="1000"/>
                                        <p:tgtEl>
                                          <p:spTgt spid="2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7" dur="10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1" dur="10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5" dur="10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6" fill="hold">
                      <p:stCondLst>
                        <p:cond delay="indefinite"/>
                      </p:stCondLst>
                      <p:childTnLst>
                        <p:par>
                          <p:cTn id="10257" fill="hold">
                            <p:stCondLst>
                              <p:cond delay="0"/>
                            </p:stCondLst>
                            <p:childTnLst>
                              <p:par>
                                <p:cTn id="10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0" dur="10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4" dur="10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5" dur="10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6" dur="1000"/>
                                        <p:tgtEl>
                                          <p:spTgt spid="2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9" dur="10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0" dur="1000" fill="hold"/>
                                        <p:tgtEl>
                                          <p:spTgt spid="2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1" dur="10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2" fill="hold">
                      <p:stCondLst>
                        <p:cond delay="indefinite"/>
                      </p:stCondLst>
                      <p:childTnLst>
                        <p:par>
                          <p:cTn id="10273" fill="hold">
                            <p:stCondLst>
                              <p:cond delay="0"/>
                            </p:stCondLst>
                            <p:childTnLst>
                              <p:par>
                                <p:cTn id="10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6" dur="10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9" dur="10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2" dur="10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5" dur="1000"/>
                                        <p:tgtEl>
                                          <p:spTgt spid="2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8" dur="1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1" dur="10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4" dur="10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5" fill="hold">
                      <p:stCondLst>
                        <p:cond delay="indefinite"/>
                      </p:stCondLst>
                      <p:childTnLst>
                        <p:par>
                          <p:cTn id="10296" fill="hold">
                            <p:stCondLst>
                              <p:cond delay="0"/>
                            </p:stCondLst>
                            <p:childTnLst>
                              <p:par>
                                <p:cTn id="10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99" dur="10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2" dur="80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03" dur="80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04" dur="80"/>
                                        <p:tgtEl>
                                          <p:spTgt spid="2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5" fill="hold">
                      <p:stCondLst>
                        <p:cond delay="indefinite"/>
                      </p:stCondLst>
                      <p:childTnLst>
                        <p:par>
                          <p:cTn id="10306" fill="hold">
                            <p:stCondLst>
                              <p:cond delay="0"/>
                            </p:stCondLst>
                            <p:childTnLst>
                              <p:par>
                                <p:cTn id="10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9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2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6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9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3" dur="5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6" dur="5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0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3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4" fill="hold">
                      <p:stCondLst>
                        <p:cond delay="indefinite"/>
                      </p:stCondLst>
                      <p:childTnLst>
                        <p:par>
                          <p:cTn id="10335" fill="hold">
                            <p:stCondLst>
                              <p:cond delay="0"/>
                            </p:stCondLst>
                            <p:childTnLst>
                              <p:par>
                                <p:cTn id="10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8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9" dur="1000" fill="hold"/>
                                        <p:tgtEl>
                                          <p:spTgt spid="2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0" dur="10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3" dur="10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4" dur="1000" fill="hold"/>
                                        <p:tgtEl>
                                          <p:spTgt spid="2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5" dur="1000"/>
                                        <p:tgtEl>
                                          <p:spTgt spid="2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6" fill="hold">
                      <p:stCondLst>
                        <p:cond delay="indefinite"/>
                      </p:stCondLst>
                      <p:childTnLst>
                        <p:par>
                          <p:cTn id="10347" fill="hold">
                            <p:stCondLst>
                              <p:cond delay="0"/>
                            </p:stCondLst>
                            <p:childTnLst>
                              <p:par>
                                <p:cTn id="10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0" dur="1000" fill="hold"/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1" dur="1000" fill="hold"/>
                                        <p:tgtEl>
                                          <p:spTgt spid="2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2" dur="1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5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6" dur="1000" fill="hold"/>
                                        <p:tgtEl>
                                          <p:spTgt spid="2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7" dur="10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8" fill="hold">
                      <p:stCondLst>
                        <p:cond delay="indefinite"/>
                      </p:stCondLst>
                      <p:childTnLst>
                        <p:par>
                          <p:cTn id="10359" fill="hold">
                            <p:stCondLst>
                              <p:cond delay="0"/>
                            </p:stCondLst>
                            <p:childTnLst>
                              <p:par>
                                <p:cTn id="10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2" dur="10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3" dur="10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4" dur="10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5" fill="hold">
                      <p:stCondLst>
                        <p:cond delay="indefinite"/>
                      </p:stCondLst>
                      <p:childTnLst>
                        <p:par>
                          <p:cTn id="10366" fill="hold">
                            <p:stCondLst>
                              <p:cond delay="0"/>
                            </p:stCondLst>
                            <p:childTnLst>
                              <p:par>
                                <p:cTn id="10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9" dur="10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2" dur="10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3" fill="hold">
                      <p:stCondLst>
                        <p:cond delay="indefinite"/>
                      </p:stCondLst>
                      <p:childTnLst>
                        <p:par>
                          <p:cTn id="10374" fill="hold">
                            <p:stCondLst>
                              <p:cond delay="0"/>
                            </p:stCondLst>
                            <p:childTnLst>
                              <p:par>
                                <p:cTn id="10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77" dur="10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80" dur="10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83" dur="10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86" dur="10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89" dur="10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2" dur="10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5" dur="10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8" dur="10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1" dur="10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4" dur="10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8" dur="10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9" fill="hold">
                      <p:stCondLst>
                        <p:cond delay="indefinite"/>
                      </p:stCondLst>
                      <p:childTnLst>
                        <p:par>
                          <p:cTn id="10410" fill="hold">
                            <p:stCondLst>
                              <p:cond delay="0"/>
                            </p:stCondLst>
                            <p:childTnLst>
                              <p:par>
                                <p:cTn id="10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3" dur="10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4" dur="10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5" dur="10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8" dur="10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9" dur="1000" fill="hold"/>
                                        <p:tgtEl>
                                          <p:spTgt spid="2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0" dur="1000"/>
                                        <p:tgtEl>
                                          <p:spTgt spid="2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1" fill="hold">
                      <p:stCondLst>
                        <p:cond delay="indefinite"/>
                      </p:stCondLst>
                      <p:childTnLst>
                        <p:par>
                          <p:cTn id="10422" fill="hold">
                            <p:stCondLst>
                              <p:cond delay="0"/>
                            </p:stCondLst>
                            <p:childTnLst>
                              <p:par>
                                <p:cTn id="10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5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6" dur="1000" fill="hold"/>
                                        <p:tgtEl>
                                          <p:spTgt spid="2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7" dur="1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0" dur="1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1" dur="1000" fill="hold"/>
                                        <p:tgtEl>
                                          <p:spTgt spid="2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2" dur="10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3" fill="hold">
                      <p:stCondLst>
                        <p:cond delay="indefinite"/>
                      </p:stCondLst>
                      <p:childTnLst>
                        <p:par>
                          <p:cTn id="10434" fill="hold">
                            <p:stCondLst>
                              <p:cond delay="0"/>
                            </p:stCondLst>
                            <p:childTnLst>
                              <p:par>
                                <p:cTn id="10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7" dur="10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8" dur="10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9" dur="10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3" dur="10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6" dur="1000"/>
                                        <p:tgtEl>
                                          <p:spTgt spid="2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50" dur="10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53" dur="10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56" dur="10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59" dur="1000"/>
                                        <p:tgtEl>
                                          <p:spTgt spid="2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62" dur="1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65" dur="1000"/>
                                        <p:tgtEl>
                                          <p:spTgt spid="2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68" dur="1000"/>
                                        <p:tgtEl>
                                          <p:spTgt spid="2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1" dur="10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4" dur="10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77" dur="10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80" dur="10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84" dur="10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8" dur="10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9" dur="10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0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3" dur="1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4" dur="1000" fill="hold"/>
                                        <p:tgtEl>
                                          <p:spTgt spid="2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5" dur="1000"/>
                                        <p:tgtEl>
                                          <p:spTgt spid="2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9" dur="10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0" dur="1000" fill="hold"/>
                                        <p:tgtEl>
                                          <p:spTgt spid="2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1" dur="10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4" dur="10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5" dur="10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6" dur="10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7" fill="hold">
                      <p:stCondLst>
                        <p:cond delay="indefinite"/>
                      </p:stCondLst>
                      <p:childTnLst>
                        <p:par>
                          <p:cTn id="10508" fill="hold">
                            <p:stCondLst>
                              <p:cond delay="0"/>
                            </p:stCondLst>
                            <p:childTnLst>
                              <p:par>
                                <p:cTn id="10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1" dur="10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2" dur="10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3" dur="10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17" dur="10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0" dur="1000"/>
                                        <p:tgtEl>
                                          <p:spTgt spid="2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4" dur="10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27" dur="10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0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3" dur="1000"/>
                                        <p:tgtEl>
                                          <p:spTgt spid="2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6" dur="1000"/>
                                        <p:tgtEl>
                                          <p:spTgt spid="2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39" dur="1000"/>
                                        <p:tgtEl>
                                          <p:spTgt spid="2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2" dur="1000"/>
                                        <p:tgtEl>
                                          <p:spTgt spid="2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5" dur="1000"/>
                                        <p:tgtEl>
                                          <p:spTgt spid="2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8" dur="10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51" dur="10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55" dur="10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6" fill="hold">
                      <p:stCondLst>
                        <p:cond delay="indefinite"/>
                      </p:stCondLst>
                      <p:childTnLst>
                        <p:par>
                          <p:cTn id="10557" fill="hold">
                            <p:stCondLst>
                              <p:cond delay="0"/>
                            </p:stCondLst>
                            <p:childTnLst>
                              <p:par>
                                <p:cTn id="105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0" dur="10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1" dur="10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2" dur="10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5" dur="1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6" dur="1000" fill="hold"/>
                                        <p:tgtEl>
                                          <p:spTgt spid="2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7" dur="1000"/>
                                        <p:tgtEl>
                                          <p:spTgt spid="2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1" dur="1000" fill="hold"/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2" dur="1000" fill="hold"/>
                                        <p:tgtEl>
                                          <p:spTgt spid="2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3" dur="1000"/>
                                        <p:tgtEl>
                                          <p:spTgt spid="2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6" dur="10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7" dur="10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8" dur="10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9" fill="hold">
                      <p:stCondLst>
                        <p:cond delay="indefinite"/>
                      </p:stCondLst>
                      <p:childTnLst>
                        <p:par>
                          <p:cTn id="10580" fill="hold">
                            <p:stCondLst>
                              <p:cond delay="0"/>
                            </p:stCondLst>
                            <p:childTnLst>
                              <p:par>
                                <p:cTn id="10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3" dur="1000" fill="hold"/>
                                        <p:tgtEl>
                                          <p:spTgt spid="2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4" dur="1000" fill="hold"/>
                                        <p:tgtEl>
                                          <p:spTgt spid="2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85" dur="10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9" dur="1000"/>
                                        <p:tgtEl>
                                          <p:spTgt spid="2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2" dur="10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96" dur="10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99" dur="10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02" dur="10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05" dur="10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08" dur="1000"/>
                                        <p:tgtEl>
                                          <p:spTgt spid="2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11" dur="10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14" dur="1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17" dur="1000"/>
                                        <p:tgtEl>
                                          <p:spTgt spid="2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0" dur="10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24" dur="10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8" dur="1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9" dur="10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0" dur="10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3" dur="10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4" dur="1000" fill="hold"/>
                                        <p:tgtEl>
                                          <p:spTgt spid="2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5" dur="10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9" dur="10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0" dur="1000" fill="hold"/>
                                        <p:tgtEl>
                                          <p:spTgt spid="2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1" dur="10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4" dur="10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5" dur="1000" fill="hold"/>
                                        <p:tgtEl>
                                          <p:spTgt spid="2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6" dur="10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7" fill="hold">
                      <p:stCondLst>
                        <p:cond delay="indefinite"/>
                      </p:stCondLst>
                      <p:childTnLst>
                        <p:par>
                          <p:cTn id="10648" fill="hold">
                            <p:stCondLst>
                              <p:cond delay="0"/>
                            </p:stCondLst>
                            <p:childTnLst>
                              <p:par>
                                <p:cTn id="10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1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2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3" dur="10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7" dur="1000"/>
                                        <p:tgtEl>
                                          <p:spTgt spid="2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0" dur="10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64" dur="10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67" dur="1000"/>
                                        <p:tgtEl>
                                          <p:spTgt spid="2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0" dur="10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3" dur="10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6" dur="1000"/>
                                        <p:tgtEl>
                                          <p:spTgt spid="2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79" dur="10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2" dur="10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5" dur="1000"/>
                                        <p:tgtEl>
                                          <p:spTgt spid="2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9" dur="10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3" dur="10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4" dur="1000" fill="hold"/>
                                        <p:tgtEl>
                                          <p:spTgt spid="2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5" dur="10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8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9" dur="10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0" dur="10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4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5" dur="1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6" dur="10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9" dur="1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0" dur="10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1" dur="10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2" fill="hold">
                      <p:stCondLst>
                        <p:cond delay="indefinite"/>
                      </p:stCondLst>
                      <p:childTnLst>
                        <p:par>
                          <p:cTn id="10713" fill="hold">
                            <p:stCondLst>
                              <p:cond delay="0"/>
                            </p:stCondLst>
                            <p:childTnLst>
                              <p:par>
                                <p:cTn id="107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6" dur="10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7" dur="10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8" dur="10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1" dur="1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2" dur="1000" fill="hold"/>
                                        <p:tgtEl>
                                          <p:spTgt spid="2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3" dur="10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6" dur="10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7" dur="1000" fill="hold"/>
                                        <p:tgtEl>
                                          <p:spTgt spid="2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8" dur="10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1" dur="1000" fill="hold"/>
                                        <p:tgtEl>
                                          <p:spTgt spid="2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2" dur="1000" fill="hold"/>
                                        <p:tgtEl>
                                          <p:spTgt spid="2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3" dur="10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6" dur="1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7" dur="10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8" dur="10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2" dur="1000" fill="hold"/>
                                        <p:tgtEl>
                                          <p:spTgt spid="2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3" dur="1000" fill="hold"/>
                                        <p:tgtEl>
                                          <p:spTgt spid="2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4" dur="1000"/>
                                        <p:tgtEl>
                                          <p:spTgt spid="2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7" dur="1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8" dur="1000" fill="hold"/>
                                        <p:tgtEl>
                                          <p:spTgt spid="2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9" dur="10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2" dur="10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3" dur="10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4" dur="1000"/>
                                        <p:tgtEl>
                                          <p:spTgt spid="2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7" dur="10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8" dur="10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9" dur="10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2" dur="10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3" dur="10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4" dur="10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7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8" dur="1000" fill="hold"/>
                                        <p:tgtEl>
                                          <p:spTgt spid="2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9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2" dur="10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3" dur="10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4" dur="10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7" dur="10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8" dur="10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9" dur="10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3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7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1" dur="5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5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9" dur="500"/>
                                        <p:tgtEl>
                                          <p:spTgt spid="2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3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7" dur="500"/>
                                        <p:tgtEl>
                                          <p:spTgt spid="2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1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2" fill="hold">
                      <p:stCondLst>
                        <p:cond delay="indefinite"/>
                      </p:stCondLst>
                      <p:childTnLst>
                        <p:par>
                          <p:cTn id="10813" fill="hold">
                            <p:stCondLst>
                              <p:cond delay="0"/>
                            </p:stCondLst>
                            <p:childTnLst>
                              <p:par>
                                <p:cTn id="10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16" dur="2000"/>
                                        <p:tgtEl>
                                          <p:spTgt spid="2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20" dur="1000"/>
                                        <p:tgtEl>
                                          <p:spTgt spid="2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1" fill="hold">
                      <p:stCondLst>
                        <p:cond delay="indefinite"/>
                      </p:stCondLst>
                      <p:childTnLst>
                        <p:par>
                          <p:cTn id="10822" fill="hold">
                            <p:stCondLst>
                              <p:cond delay="0"/>
                            </p:stCondLst>
                            <p:childTnLst>
                              <p:par>
                                <p:cTn id="108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25" dur="80"/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6" dur="80"/>
                                        <p:tgtEl>
                                          <p:spTgt spid="2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7" dur="80"/>
                                        <p:tgtEl>
                                          <p:spTgt spid="2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1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2" dur="1000" fill="hold"/>
                                        <p:tgtEl>
                                          <p:spTgt spid="2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3" dur="10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7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8" dur="10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9" dur="1000"/>
                                        <p:tgtEl>
                                          <p:spTgt spid="2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3" dur="2000"/>
                                        <p:tgtEl>
                                          <p:spTgt spid="2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589120" y="8557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едельное равновесие 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900000" y="1440000"/>
            <a:ext cx="792360" cy="718920"/>
          </a:xfrm>
          <a:custGeom>
            <a:avLst/>
            <a:gdLst/>
            <a:ahLst/>
            <a:rect l="l" t="t" r="r" b="b"/>
            <a:pathLst>
              <a:path w="499" h="453">
                <a:moveTo>
                  <a:pt x="0" y="453"/>
                </a:moveTo>
                <a:lnTo>
                  <a:pt x="0" y="0"/>
                </a:lnTo>
                <a:lnTo>
                  <a:pt x="499" y="0"/>
                </a:lnTo>
                <a:lnTo>
                  <a:pt x="499" y="4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795240" y="215892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795240" y="2158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581120" y="215892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581120" y="2158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865080" y="2119320"/>
            <a:ext cx="7164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657440" y="2119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300320" y="117000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665280" y="1790640"/>
            <a:ext cx="212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900000" y="111132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39640" y="1438200"/>
            <a:ext cx="354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539640" y="21589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39640" y="179244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900000" y="10796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692360" y="10796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585720" y="14320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300320" y="1079640"/>
            <a:ext cx="0" cy="14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H="1">
            <a:off x="1271520" y="108576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1666800" y="108576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H="1">
            <a:off x="874800" y="10796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65200" y="141120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58720" y="17636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60520" y="213048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906480" y="90000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1290600" y="90000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225360" y="150804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225360" y="1836720"/>
            <a:ext cx="504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531720" y="1550880"/>
            <a:ext cx="459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1246320" y="1138320"/>
            <a:ext cx="458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668160" y="1936800"/>
            <a:ext cx="32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654200" y="1936800"/>
            <a:ext cx="32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711360" y="1257480"/>
            <a:ext cx="179280" cy="161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1211400" y="1460520"/>
            <a:ext cx="179280" cy="16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1711440" y="1257480"/>
            <a:ext cx="179280" cy="161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917640" y="1630440"/>
            <a:ext cx="179280" cy="16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887400" y="163512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1174680" y="146844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677880" y="127008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1657440" y="1263600"/>
            <a:ext cx="2872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1954080" y="1488960"/>
            <a:ext cx="57135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личество возможных вариантов механизмов разрушени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– число пластических шарниров в механизм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– число сечений, в которых могут образовываться шарниры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1967040" y="11383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Решение кинем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946080" y="1819440"/>
            <a:ext cx="720720" cy="296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285840" y="2357280"/>
            <a:ext cx="863640" cy="31608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3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варианта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285840" y="3179880"/>
            <a:ext cx="863640" cy="1461960"/>
          </a:xfrm>
          <a:prstGeom prst="rect">
            <a:avLst/>
          </a:prstGeom>
          <a:solidFill>
            <a:srgbClr val="ff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Схема </a:t>
            </a: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предельного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механизма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соответству-ющего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-м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кинематиче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ски допусти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мому пол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285840" y="2698920"/>
            <a:ext cx="863640" cy="4572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Комбин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сечений 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пласт.шар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85840" y="4667400"/>
            <a:ext cx="863640" cy="690480"/>
          </a:xfrm>
          <a:prstGeom prst="rect">
            <a:avLst/>
          </a:prstGeom>
          <a:solidFill>
            <a:srgbClr val="fcf2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Урав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возмож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рабо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85840" y="5383080"/>
            <a:ext cx="863640" cy="581760"/>
          </a:xfrm>
          <a:prstGeom prst="rect">
            <a:avLst/>
          </a:prstGeom>
          <a:solidFill>
            <a:srgbClr val="f6d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парамет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нагруз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168560" y="2357280"/>
            <a:ext cx="1258560" cy="31608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452680" y="2359080"/>
            <a:ext cx="125892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736800" y="2359080"/>
            <a:ext cx="125892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5019840" y="2359080"/>
            <a:ext cx="125856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6303960" y="2359080"/>
            <a:ext cx="125892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7586640" y="2359080"/>
            <a:ext cx="1258920" cy="315720"/>
          </a:xfrm>
          <a:prstGeom prst="rect">
            <a:avLst/>
          </a:prstGeom>
          <a:solidFill>
            <a:srgbClr val="fff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1168560" y="2700360"/>
            <a:ext cx="1258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2452680" y="269892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3735360" y="270036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>
            <a:off x="5019840" y="2700360"/>
            <a:ext cx="1258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7586640" y="270036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6302520" y="2700360"/>
            <a:ext cx="1258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1168560" y="3176640"/>
            <a:ext cx="1258560" cy="14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2455920" y="3176640"/>
            <a:ext cx="1258920" cy="14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736800" y="3181320"/>
            <a:ext cx="1258920" cy="14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019840" y="3181320"/>
            <a:ext cx="1258560" cy="14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6302520" y="3182760"/>
            <a:ext cx="1258920" cy="14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7583400" y="3182760"/>
            <a:ext cx="1258920" cy="14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1168560" y="4667400"/>
            <a:ext cx="125856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2452680" y="4667400"/>
            <a:ext cx="125892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736800" y="4667400"/>
            <a:ext cx="125892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5019840" y="4667400"/>
            <a:ext cx="125856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6299280" y="4667400"/>
            <a:ext cx="125892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7586640" y="4667400"/>
            <a:ext cx="1258920" cy="69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168560" y="5383080"/>
            <a:ext cx="125856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2452680" y="5383080"/>
            <a:ext cx="125892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3736800" y="5383080"/>
            <a:ext cx="125892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019840" y="5383080"/>
            <a:ext cx="125856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6300720" y="5383080"/>
            <a:ext cx="125892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7586640" y="5383080"/>
            <a:ext cx="125892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7066080" y="1379520"/>
                <a:ext cx="18381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01840" y="5446800"/>
                <a:ext cx="79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670120" y="5446800"/>
                <a:ext cx="79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913200" y="5446800"/>
                <a:ext cx="893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5246640" y="5446800"/>
                <a:ext cx="795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7" name=""/>
              <p:cNvSpPr txBox="1"/>
              <p:nvPr/>
            </p:nvSpPr>
            <p:spPr>
              <a:xfrm>
                <a:off x="7756560" y="5446800"/>
                <a:ext cx="8920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8" name=""/>
              <p:cNvSpPr txBox="1"/>
              <p:nvPr/>
            </p:nvSpPr>
            <p:spPr>
              <a:xfrm>
                <a:off x="6516720" y="5446800"/>
                <a:ext cx="79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9" name=""/>
              <p:cNvSpPr txBox="1"/>
              <p:nvPr/>
            </p:nvSpPr>
            <p:spPr>
              <a:xfrm>
                <a:off x="369720" y="6093000"/>
                <a:ext cx="2737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/>
                    </m:limLow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0" name=""/>
          <p:cNvSpPr/>
          <p:nvPr/>
        </p:nvSpPr>
        <p:spPr>
          <a:xfrm>
            <a:off x="3144960" y="6165720"/>
            <a:ext cx="274680" cy="387360"/>
          </a:xfrm>
          <a:prstGeom prst="rightArrow">
            <a:avLst>
              <a:gd name="adj1" fmla="val 54407"/>
              <a:gd name="adj2" fmla="val 4780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1" name=""/>
              <p:cNvSpPr txBox="1"/>
              <p:nvPr/>
            </p:nvSpPr>
            <p:spPr>
              <a:xfrm>
                <a:off x="3498840" y="6043680"/>
                <a:ext cx="11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2" name=""/>
          <p:cNvSpPr/>
          <p:nvPr/>
        </p:nvSpPr>
        <p:spPr>
          <a:xfrm>
            <a:off x="2987640" y="2038320"/>
            <a:ext cx="3529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 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;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!/(2!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!)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>
            <a:off x="4584600" y="2149560"/>
            <a:ext cx="289080" cy="144360"/>
          </a:xfrm>
          <a:prstGeom prst="rightArrow">
            <a:avLst>
              <a:gd name="adj1" fmla="val 54407"/>
              <a:gd name="adj2" fmla="val 9572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155592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154476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180504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79856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282744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281628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307656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306396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412272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411156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437184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4344840" y="2859120"/>
            <a:ext cx="28764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541980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540864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566892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566100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667548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666432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692460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689760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796464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795348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8213760" y="2806560"/>
            <a:ext cx="244440" cy="233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8186760" y="2859120"/>
            <a:ext cx="287280" cy="2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1476360" y="386856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2771640" y="3868560"/>
            <a:ext cx="64800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3995640" y="386856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5364000" y="3868560"/>
            <a:ext cx="64800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6588000" y="3868560"/>
            <a:ext cx="64800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7885080" y="386856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lnTo>
                  <a:pt x="0" y="0"/>
                </a:ln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5364000" y="3292560"/>
            <a:ext cx="648000" cy="1152360"/>
          </a:xfrm>
          <a:custGeom>
            <a:avLst/>
            <a:gdLst/>
            <a:ahLst/>
            <a:rect l="l" t="t" r="r" b="b"/>
            <a:pathLst>
              <a:path w="408" h="726">
                <a:moveTo>
                  <a:pt x="408" y="726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2771640" y="3292560"/>
            <a:ext cx="648000" cy="1152360"/>
          </a:xfrm>
          <a:custGeom>
            <a:avLst/>
            <a:gdLst/>
            <a:ahLst/>
            <a:rect l="l" t="t" r="r" b="b"/>
            <a:pathLst>
              <a:path w="408" h="726">
                <a:moveTo>
                  <a:pt x="408" y="726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H="1">
            <a:off x="7882920" y="3292560"/>
            <a:ext cx="649080" cy="1152360"/>
          </a:xfrm>
          <a:custGeom>
            <a:avLst/>
            <a:gdLst/>
            <a:ahLst/>
            <a:rect l="l" t="t" r="r" b="b"/>
            <a:pathLst>
              <a:path w="408" h="726">
                <a:moveTo>
                  <a:pt x="408" y="726"/>
                </a:moveTo>
                <a:lnTo>
                  <a:pt x="0" y="0"/>
                </a:lnTo>
                <a:lnTo>
                  <a:pt x="0" y="363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rot="20587800">
            <a:off x="5574960" y="3908160"/>
            <a:ext cx="358920" cy="576000"/>
          </a:xfrm>
          <a:custGeom>
            <a:avLst/>
            <a:gdLst/>
            <a:ahLst/>
            <a:rect l="l" t="t" r="r" b="b"/>
            <a:pathLst>
              <a:path w="226" h="363">
                <a:moveTo>
                  <a:pt x="0" y="0"/>
                </a:moveTo>
                <a:lnTo>
                  <a:pt x="226" y="0"/>
                </a:lnTo>
                <a:lnTo>
                  <a:pt x="226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rot="992400">
            <a:off x="3149280" y="3823920"/>
            <a:ext cx="358560" cy="576360"/>
          </a:xfrm>
          <a:custGeom>
            <a:avLst/>
            <a:gdLst/>
            <a:ahLst/>
            <a:rect l="l" t="t" r="r" b="b"/>
            <a:pathLst>
              <a:path w="226" h="363">
                <a:moveTo>
                  <a:pt x="0" y="0"/>
                </a:moveTo>
                <a:lnTo>
                  <a:pt x="226" y="0"/>
                </a:lnTo>
                <a:lnTo>
                  <a:pt x="226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 flipH="1" rot="993000">
            <a:off x="7956360" y="3912840"/>
            <a:ext cx="366480" cy="576360"/>
          </a:xfrm>
          <a:custGeom>
            <a:avLst/>
            <a:gdLst/>
            <a:ahLst/>
            <a:rect l="l" t="t" r="r" b="b"/>
            <a:pathLst>
              <a:path w="226" h="363">
                <a:moveTo>
                  <a:pt x="0" y="0"/>
                </a:moveTo>
                <a:lnTo>
                  <a:pt x="226" y="0"/>
                </a:lnTo>
                <a:lnTo>
                  <a:pt x="226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8388360" y="3875040"/>
            <a:ext cx="304920" cy="569880"/>
          </a:xfrm>
          <a:custGeom>
            <a:avLst/>
            <a:gdLst/>
            <a:ahLst/>
            <a:rect l="l" t="t" r="r" b="b"/>
            <a:pathLst>
              <a:path w="192" h="359">
                <a:moveTo>
                  <a:pt x="91" y="359"/>
                </a:moveTo>
                <a:lnTo>
                  <a:pt x="192" y="0"/>
                </a:lnTo>
                <a:lnTo>
                  <a:pt x="0" y="6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6588000" y="3868560"/>
            <a:ext cx="792360" cy="576360"/>
          </a:xfrm>
          <a:custGeom>
            <a:avLst/>
            <a:gdLst/>
            <a:ahLst/>
            <a:rect l="l" t="t" r="r" b="b"/>
            <a:pathLst>
              <a:path w="499" h="363">
                <a:moveTo>
                  <a:pt x="0" y="363"/>
                </a:moveTo>
                <a:lnTo>
                  <a:pt x="91" y="0"/>
                </a:lnTo>
                <a:lnTo>
                  <a:pt x="499" y="0"/>
                </a:lnTo>
                <a:lnTo>
                  <a:pt x="408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187960" y="3868560"/>
            <a:ext cx="336600" cy="570240"/>
          </a:xfrm>
          <a:custGeom>
            <a:avLst/>
            <a:gdLst/>
            <a:ahLst/>
            <a:rect l="l" t="t" r="r" b="b"/>
            <a:pathLst>
              <a:path w="212" h="359">
                <a:moveTo>
                  <a:pt x="113" y="359"/>
                </a:moveTo>
                <a:lnTo>
                  <a:pt x="0" y="0"/>
                </a:lnTo>
                <a:lnTo>
                  <a:pt x="212" y="6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3995640" y="3868560"/>
            <a:ext cx="792360" cy="576360"/>
          </a:xfrm>
          <a:custGeom>
            <a:avLst/>
            <a:gdLst/>
            <a:ahLst/>
            <a:rect l="l" t="t" r="r" b="b"/>
            <a:pathLst>
              <a:path w="499" h="363">
                <a:moveTo>
                  <a:pt x="0" y="363"/>
                </a:moveTo>
                <a:lnTo>
                  <a:pt x="91" y="182"/>
                </a:lnTo>
                <a:lnTo>
                  <a:pt x="91" y="0"/>
                </a:lnTo>
                <a:lnTo>
                  <a:pt x="499" y="0"/>
                </a:lnTo>
                <a:lnTo>
                  <a:pt x="408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771640" y="3789360"/>
            <a:ext cx="466920" cy="655560"/>
          </a:xfrm>
          <a:custGeom>
            <a:avLst/>
            <a:gdLst/>
            <a:ahLst/>
            <a:rect l="l" t="t" r="r" b="b"/>
            <a:pathLst>
              <a:path w="294" h="413">
                <a:moveTo>
                  <a:pt x="294" y="0"/>
                </a:moveTo>
                <a:lnTo>
                  <a:pt x="102" y="51"/>
                </a:lnTo>
                <a:lnTo>
                  <a:pt x="146" y="234"/>
                </a:lnTo>
                <a:lnTo>
                  <a:pt x="0" y="41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1476360" y="3868560"/>
            <a:ext cx="142920" cy="576360"/>
          </a:xfrm>
          <a:custGeom>
            <a:avLst/>
            <a:gdLst/>
            <a:ahLst/>
            <a:rect l="l" t="t" r="r" b="b"/>
            <a:pathLst>
              <a:path w="90" h="363">
                <a:moveTo>
                  <a:pt x="0" y="0"/>
                </a:moveTo>
                <a:lnTo>
                  <a:pt x="90" y="182"/>
                </a:lnTo>
                <a:lnTo>
                  <a:pt x="0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1476360" y="386856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0"/>
                </a:moveTo>
                <a:lnTo>
                  <a:pt x="408" y="0"/>
                </a:lnTo>
                <a:lnTo>
                  <a:pt x="408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1371600" y="4444920"/>
            <a:ext cx="21600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1371600" y="444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1447920" y="4405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2011320" y="4444920"/>
            <a:ext cx="216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2011320" y="444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2087640" y="4405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2662200" y="4446720"/>
            <a:ext cx="21600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2662200" y="4446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2738520" y="4406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3301920" y="444672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301920" y="4446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3378240" y="4406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3892680" y="4446720"/>
            <a:ext cx="21564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3892680" y="4446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3968640" y="440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4532400" y="4446720"/>
            <a:ext cx="21564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/>
          <p:cNvSpPr/>
          <p:nvPr/>
        </p:nvSpPr>
        <p:spPr>
          <a:xfrm>
            <a:off x="4532400" y="4446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/>
          <p:cNvSpPr/>
          <p:nvPr/>
        </p:nvSpPr>
        <p:spPr>
          <a:xfrm>
            <a:off x="4608360" y="440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5254560" y="4444920"/>
            <a:ext cx="216000" cy="7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5254560" y="444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5330880" y="4405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5894280" y="4444920"/>
            <a:ext cx="21600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5894280" y="4444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5970600" y="44053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6485040" y="444672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6485040" y="4446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6561000" y="440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7124760" y="444672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7124760" y="4446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7201080" y="440676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7773840" y="4446720"/>
            <a:ext cx="21600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773840" y="4446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7850160" y="440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8413920" y="4446720"/>
            <a:ext cx="21564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8413920" y="4446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>
            <a:off x="8489880" y="440676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1440000" y="3835440"/>
            <a:ext cx="7128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1581120" y="4121280"/>
            <a:ext cx="7164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2967120" y="4132440"/>
            <a:ext cx="7128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3201840" y="3754440"/>
            <a:ext cx="7164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4100400" y="4122720"/>
            <a:ext cx="7164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4756320" y="3835440"/>
            <a:ext cx="7128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154480" y="3843360"/>
            <a:ext cx="7164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468760" y="3929040"/>
            <a:ext cx="71640" cy="7164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6699240" y="3835440"/>
            <a:ext cx="7128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7346880" y="3828960"/>
            <a:ext cx="71640" cy="7164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8348760" y="3935520"/>
            <a:ext cx="7128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8653320" y="3843360"/>
            <a:ext cx="71640" cy="71280"/>
          </a:xfrm>
          <a:prstGeom prst="ellipse">
            <a:avLst/>
          </a:prstGeom>
          <a:solidFill>
            <a:srgbClr val="f6d2f3"/>
          </a:soli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8513640" y="3278160"/>
            <a:ext cx="36720" cy="36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5345280" y="3273480"/>
            <a:ext cx="3636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2752560" y="3273480"/>
            <a:ext cx="36720" cy="36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 flipH="1" flipV="1">
            <a:off x="5549760" y="388296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 flipV="1">
            <a:off x="5316840" y="3882960"/>
            <a:ext cx="1407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 flipH="1" flipV="1">
            <a:off x="8431200" y="388764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 flipV="1">
            <a:off x="8198280" y="388764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 flipH="1" flipV="1">
            <a:off x="3284640" y="3728880"/>
            <a:ext cx="1425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head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 flipV="1">
            <a:off x="3051720" y="372888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head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 flipH="1" flipV="1" rot="16200000">
            <a:off x="2893320" y="3983760"/>
            <a:ext cx="1425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 rot="17905800">
            <a:off x="2853720" y="418536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H="1" flipV="1" rot="16200000">
            <a:off x="4057920" y="397116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 flipV="1" rot="17905800">
            <a:off x="4015080" y="4193280"/>
            <a:ext cx="1407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 flipH="1" flipV="1" rot="15190200">
            <a:off x="1496160" y="397764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 flipV="1" rot="17905800">
            <a:off x="1492560" y="4190040"/>
            <a:ext cx="1407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 flipH="1" flipV="1" rot="1063800">
            <a:off x="6782760" y="380520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 flipV="1" rot="17262000">
            <a:off x="6624720" y="3907800"/>
            <a:ext cx="14076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 flipH="1" flipV="1" rot="12468600">
            <a:off x="7190280" y="3782520"/>
            <a:ext cx="143280" cy="1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flipV="1" rot="15627000">
            <a:off x="8616600" y="392616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 flipV="1" rot="12072000">
            <a:off x="8498880" y="3808440"/>
            <a:ext cx="14328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V="1" rot="15627000">
            <a:off x="7295760" y="391032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 flipV="1" rot="12468600">
            <a:off x="4601520" y="3788280"/>
            <a:ext cx="143280" cy="1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 flipH="1" flipV="1" rot="6153000">
            <a:off x="5126760" y="3929400"/>
            <a:ext cx="14292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1969509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1969509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 flipV="1" rot="15627000">
            <a:off x="4706640" y="3916440"/>
            <a:ext cx="140400" cy="14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746" y="441"/>
                </a:moveTo>
                <a:arcTo wR="10800" hR="10800" stAng="-6385724" swAng="12753614"/>
                <a:lnTo>
                  <a:pt x="10800" y="10800"/>
                </a:lnTo>
                <a:close/>
              </a:path>
              <a:path fill="none" w="21600" h="21600">
                <a:moveTo>
                  <a:pt x="7746" y="441"/>
                </a:moveTo>
                <a:arcTo wR="10800" hR="10800" stAng="-6385724" swAng="12753614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 flipV="1" rot="10431000">
            <a:off x="5238360" y="3803400"/>
            <a:ext cx="140760" cy="143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16" y="209"/>
                </a:moveTo>
                <a:arcTo wR="10800" hR="10800" stAng="-4721933" swAng="11089822"/>
                <a:lnTo>
                  <a:pt x="10800" y="10800"/>
                </a:lnTo>
                <a:close/>
              </a:path>
              <a:path fill="none" w="21600" h="21600">
                <a:moveTo>
                  <a:pt x="12916" y="209"/>
                </a:moveTo>
                <a:arcTo wR="10800" hR="10800" stAng="-4721933" swAng="11089822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H="1" flipV="1" rot="5776200">
            <a:off x="1433880" y="3915720"/>
            <a:ext cx="143640" cy="1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18" y="16"/>
                </a:moveTo>
                <a:arcTo wR="10800" hR="10800" stAng="-5585304" swAng="11169088"/>
                <a:lnTo>
                  <a:pt x="10800" y="10800"/>
                </a:lnTo>
                <a:close/>
              </a:path>
              <a:path fill="none" w="21600" h="21600">
                <a:moveTo>
                  <a:pt x="10218" y="16"/>
                </a:moveTo>
                <a:arcTo wR="10800" hR="10800" stAng="-5585304" swAng="11169088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 rot="9352800">
            <a:off x="1519920" y="3772800"/>
            <a:ext cx="140760" cy="14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16" y="209"/>
                </a:moveTo>
                <a:arcTo wR="10800" hR="10800" stAng="-4721933" swAng="11089822"/>
                <a:lnTo>
                  <a:pt x="10800" y="10800"/>
                </a:lnTo>
                <a:close/>
              </a:path>
              <a:path fill="none" w="21600" h="21600">
                <a:moveTo>
                  <a:pt x="12916" y="209"/>
                </a:moveTo>
                <a:arcTo wR="10800" hR="10800" stAng="-4721933" swAng="11089822"/>
              </a:path>
            </a:pathLst>
          </a:custGeom>
          <a:noFill/>
          <a:ln w="19080">
            <a:solidFill>
              <a:srgbClr val="a50021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1397160" y="415764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2759040" y="4164120"/>
            <a:ext cx="19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3913200" y="415764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5083200" y="415764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6467400" y="4157640"/>
            <a:ext cx="1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7767720" y="4157640"/>
            <a:ext cx="17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8385120" y="367524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7054920" y="360036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5505480" y="366876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4471920" y="360036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3238560" y="349740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1819440" y="3600360"/>
            <a:ext cx="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877080" y="340848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8028000" y="35337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5479920" y="350820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4297320" y="341460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063960" y="330984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2436840" y="403380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666960" y="395748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4948200" y="415764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6253200" y="39513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7547040" y="39513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8194680" y="400356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8510760" y="362412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232760" y="360828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6678720" y="392256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311800" y="399744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4948200" y="3597120"/>
            <a:ext cx="432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>
            <a:off x="4665600" y="3633840"/>
            <a:ext cx="432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4089240" y="4068720"/>
            <a:ext cx="432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2944800" y="407520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3092400" y="3868560"/>
            <a:ext cx="432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1571760" y="4064040"/>
            <a:ext cx="4316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1109520" y="3652920"/>
            <a:ext cx="432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50021"/>
                </a:solidFill>
                <a:latin typeface="Times New Roman"/>
              </a:rPr>
              <a:t>M</a:t>
            </a:r>
            <a:r>
              <a:rPr b="1" lang="en-US" sz="14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1100160" y="402732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1641600" y="34113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2771640" y="3292560"/>
            <a:ext cx="152640" cy="573120"/>
          </a:xfrm>
          <a:custGeom>
            <a:avLst/>
            <a:gdLst/>
            <a:ahLst/>
            <a:rect l="l" t="t" r="r" b="b"/>
            <a:pathLst>
              <a:path w="96" h="361">
                <a:moveTo>
                  <a:pt x="0" y="0"/>
                </a:moveTo>
                <a:lnTo>
                  <a:pt x="96" y="361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476360" y="4300560"/>
            <a:ext cx="5400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2771640" y="4313160"/>
            <a:ext cx="71640" cy="2556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3419640" y="4262400"/>
            <a:ext cx="5364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4643280" y="4264200"/>
            <a:ext cx="5400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3995640" y="4297320"/>
            <a:ext cx="71640" cy="2556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6589800" y="4235400"/>
            <a:ext cx="5400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7236000" y="4251240"/>
            <a:ext cx="53640" cy="1296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7886880" y="4235400"/>
            <a:ext cx="5364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8534520" y="4264200"/>
            <a:ext cx="54000" cy="12600"/>
          </a:xfrm>
          <a:custGeom>
            <a:avLst/>
            <a:gdLst/>
            <a:ahLst/>
            <a:rect l="l" t="t" r="r" b="b"/>
            <a:pathLst>
              <a:path w="34" h="8">
                <a:moveTo>
                  <a:pt x="0" y="0"/>
                </a:moveTo>
                <a:cubicBezTo>
                  <a:pt x="3" y="0"/>
                  <a:pt x="12" y="1"/>
                  <a:pt x="18" y="2"/>
                </a:cubicBezTo>
                <a:cubicBezTo>
                  <a:pt x="24" y="3"/>
                  <a:pt x="31" y="7"/>
                  <a:pt x="34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5950080" y="4251240"/>
            <a:ext cx="61920" cy="12960"/>
          </a:xfrm>
          <a:custGeom>
            <a:avLst/>
            <a:gdLst/>
            <a:ahLst/>
            <a:rect l="l" t="t" r="r" b="b"/>
            <a:pathLst>
              <a:path w="45" h="8">
                <a:moveTo>
                  <a:pt x="0" y="8"/>
                </a:moveTo>
                <a:cubicBezTo>
                  <a:pt x="4" y="7"/>
                  <a:pt x="16" y="3"/>
                  <a:pt x="23" y="2"/>
                </a:cubicBezTo>
                <a:cubicBezTo>
                  <a:pt x="30" y="1"/>
                  <a:pt x="41" y="0"/>
                  <a:pt x="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5302080" y="4235400"/>
            <a:ext cx="61920" cy="12600"/>
          </a:xfrm>
          <a:custGeom>
            <a:avLst/>
            <a:gdLst/>
            <a:ahLst/>
            <a:rect l="l" t="t" r="r" b="b"/>
            <a:pathLst>
              <a:path w="45" h="8">
                <a:moveTo>
                  <a:pt x="0" y="8"/>
                </a:moveTo>
                <a:cubicBezTo>
                  <a:pt x="4" y="7"/>
                  <a:pt x="16" y="3"/>
                  <a:pt x="23" y="2"/>
                </a:cubicBezTo>
                <a:cubicBezTo>
                  <a:pt x="30" y="1"/>
                  <a:pt x="41" y="0"/>
                  <a:pt x="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1479600" y="401472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cubicBezTo>
                  <a:pt x="2" y="4"/>
                  <a:pt x="11" y="5"/>
                  <a:pt x="16" y="4"/>
                </a:cubicBezTo>
                <a:cubicBezTo>
                  <a:pt x="21" y="3"/>
                  <a:pt x="29" y="1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>
            <a:off x="1287360" y="423864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206360" y="387180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2782800" y="428616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>
            <a:off x="1389240" y="3986280"/>
            <a:ext cx="107640" cy="2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2773440" y="3486240"/>
            <a:ext cx="50760" cy="7920"/>
          </a:xfrm>
          <a:custGeom>
            <a:avLst/>
            <a:gdLst/>
            <a:ahLst/>
            <a:rect l="l" t="t" r="r" b="b"/>
            <a:pathLst>
              <a:path w="32" h="5">
                <a:moveTo>
                  <a:pt x="0" y="4"/>
                </a:moveTo>
                <a:cubicBezTo>
                  <a:pt x="2" y="4"/>
                  <a:pt x="11" y="5"/>
                  <a:pt x="16" y="4"/>
                </a:cubicBezTo>
                <a:cubicBezTo>
                  <a:pt x="21" y="3"/>
                  <a:pt x="29" y="1"/>
                  <a:pt x="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2459160" y="3413160"/>
            <a:ext cx="4316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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3400560" y="4229280"/>
            <a:ext cx="4316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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4619520" y="4229280"/>
            <a:ext cx="4320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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3805200" y="422928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5297400" y="417672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5942160" y="4183200"/>
            <a:ext cx="2664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396120" y="419256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7213680" y="420228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7693200" y="4202280"/>
            <a:ext cx="26640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8521560" y="4205160"/>
            <a:ext cx="26676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298440" y="5084640"/>
                <a:ext cx="8636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1260360" y="4753080"/>
                <a:ext cx="10288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2459160" y="4718160"/>
                <a:ext cx="1242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3924360" y="4737240"/>
                <a:ext cx="8380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7586640" y="4735440"/>
                <a:ext cx="12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4997520" y="4741920"/>
                <a:ext cx="1303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437160" y="4743360"/>
                <a:ext cx="968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θ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3" name=""/>
          <p:cNvSpPr/>
          <p:nvPr/>
        </p:nvSpPr>
        <p:spPr>
          <a:xfrm>
            <a:off x="166680" y="5911920"/>
            <a:ext cx="338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кинематической теореме ТП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4618080" y="5948280"/>
            <a:ext cx="3178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двойственной теореме ТП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4921200" y="6194520"/>
                <a:ext cx="22035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6" name=""/>
          <p:cNvSpPr/>
          <p:nvPr/>
        </p:nvSpPr>
        <p:spPr>
          <a:xfrm>
            <a:off x="7176960" y="6257880"/>
            <a:ext cx="444600" cy="255600"/>
          </a:xfrm>
          <a:prstGeom prst="rightArrow">
            <a:avLst>
              <a:gd name="adj1" fmla="val 54037"/>
              <a:gd name="adj2" fmla="val 63368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7716960" y="6054840"/>
                <a:ext cx="114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4" dur="indefinite" restart="never" nodeType="tmRoot">
          <p:childTnLst>
            <p:seq>
              <p:cTn id="10845" dur="indefinite" nodeType="mainSeq">
                <p:childTnLst>
                  <p:par>
                    <p:cTn id="10846" fill="hold">
                      <p:stCondLst>
                        <p:cond delay="0"/>
                      </p:stCondLst>
                      <p:childTnLst>
                        <p:par>
                          <p:cTn id="10847" fill="hold">
                            <p:stCondLst>
                              <p:cond delay="0"/>
                            </p:stCondLst>
                            <p:childTnLst>
                              <p:par>
                                <p:cTn id="108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50" dur="10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53" dur="10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56" dur="1000"/>
                                        <p:tgtEl>
                                          <p:spTgt spid="2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59" dur="1000"/>
                                        <p:tgtEl>
                                          <p:spTgt spid="2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62" dur="10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65" dur="10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68" dur="1000"/>
                                        <p:tgtEl>
                                          <p:spTgt spid="2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1" dur="1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4" dur="1000"/>
                                        <p:tgtEl>
                                          <p:spTgt spid="2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7" dur="10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0" dur="1000"/>
                                        <p:tgtEl>
                                          <p:spTgt spid="2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3" dur="10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6" dur="1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9" dur="1000"/>
                                        <p:tgtEl>
                                          <p:spTgt spid="2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92" dur="1000"/>
                                        <p:tgtEl>
                                          <p:spTgt spid="2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95" dur="10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98" dur="10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1" dur="10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4" dur="10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7" dur="10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0" dur="10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3" dur="10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6" dur="10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9" dur="10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2" dur="10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5" dur="1000"/>
                                        <p:tgtEl>
                                          <p:spTgt spid="2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28" dur="1000"/>
                                        <p:tgtEl>
                                          <p:spTgt spid="2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31" dur="1000"/>
                                        <p:tgtEl>
                                          <p:spTgt spid="2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34" dur="10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37" dur="1000"/>
                                        <p:tgtEl>
                                          <p:spTgt spid="2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0" dur="1000"/>
                                        <p:tgtEl>
                                          <p:spTgt spid="2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3" dur="1000"/>
                                        <p:tgtEl>
                                          <p:spTgt spid="2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6" dur="1000"/>
                                        <p:tgtEl>
                                          <p:spTgt spid="2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9" dur="1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52" dur="10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55" dur="1000"/>
                                        <p:tgtEl>
                                          <p:spTgt spid="2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58" dur="10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1" dur="10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4" dur="10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7" dur="10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0" dur="80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1" dur="80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2" dur="80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3" fill="hold">
                      <p:stCondLst>
                        <p:cond delay="indefinite"/>
                      </p:stCondLst>
                      <p:childTnLst>
                        <p:par>
                          <p:cTn id="10974" fill="hold">
                            <p:stCondLst>
                              <p:cond delay="0"/>
                            </p:stCondLst>
                            <p:childTnLst>
                              <p:par>
                                <p:cTn id="10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7" dur="8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78" dur="8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9" dur="8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2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3" dur="2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84" dur="2000"/>
                                        <p:tgtEl>
                                          <p:spTgt spid="2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8" dur="8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9" dur="8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0" dur="8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1" fill="hold">
                            <p:stCondLst>
                              <p:cond delay="4040"/>
                            </p:stCondLst>
                            <p:childTnLst>
                              <p:par>
                                <p:cTn id="109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4" dur="8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5" dur="8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6" dur="8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7" fill="hold">
                      <p:stCondLst>
                        <p:cond delay="indefinite"/>
                      </p:stCondLst>
                      <p:childTnLst>
                        <p:par>
                          <p:cTn id="109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1" dur="80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2" dur="80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3" dur="80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6" dur="1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7" dur="1000" fill="hold"/>
                                        <p:tgtEl>
                                          <p:spTgt spid="2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8" dur="1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9" fill="hold">
                      <p:stCondLst>
                        <p:cond delay="indefinite"/>
                      </p:stCondLst>
                      <p:childTnLst>
                        <p:par>
                          <p:cTn id="11010" fill="hold">
                            <p:stCondLst>
                              <p:cond delay="0"/>
                            </p:stCondLst>
                            <p:childTnLst>
                              <p:par>
                                <p:cTn id="1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3" dur="10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4" dur="10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5" dur="10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9" dur="10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3" dur="80"/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24" dur="80"/>
                                        <p:tgtEl>
                                          <p:spTgt spid="2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5" dur="80"/>
                                        <p:tgtEl>
                                          <p:spTgt spid="2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6" fill="hold">
                            <p:stCondLst>
                              <p:cond delay="5560"/>
                            </p:stCondLst>
                            <p:childTnLst>
                              <p:par>
                                <p:cTn id="110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9" dur="80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0" dur="80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1" dur="80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4" dur="10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5" dur="10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6" dur="1000"/>
                                        <p:tgtEl>
                                          <p:spTgt spid="2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7" fill="hold">
                            <p:stCondLst>
                              <p:cond delay="6560"/>
                            </p:stCondLst>
                            <p:childTnLst>
                              <p:par>
                                <p:cTn id="110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0" dur="80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1" dur="80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2" dur="80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3" fill="hold">
                      <p:stCondLst>
                        <p:cond delay="indefinite"/>
                      </p:stCondLst>
                      <p:childTnLst>
                        <p:par>
                          <p:cTn id="11044" fill="hold">
                            <p:stCondLst>
                              <p:cond delay="0"/>
                            </p:stCondLst>
                            <p:childTnLst>
                              <p:par>
                                <p:cTn id="110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7" dur="10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8" dur="10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9" dur="10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0" fill="hold">
                      <p:stCondLst>
                        <p:cond delay="indefinite"/>
                      </p:stCondLst>
                      <p:childTnLst>
                        <p:par>
                          <p:cTn id="11051" fill="hold">
                            <p:stCondLst>
                              <p:cond delay="0"/>
                            </p:stCondLst>
                            <p:childTnLst>
                              <p:par>
                                <p:cTn id="110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4" dur="1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5" dur="10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6" dur="10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9" dur="10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0" dur="10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1" dur="10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4" dur="1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5" dur="1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6" dur="10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9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0" dur="10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1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4" dur="10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5" dur="1000" fill="hold"/>
                                        <p:tgtEl>
                                          <p:spTgt spid="2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6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7" fill="hold">
                      <p:stCondLst>
                        <p:cond delay="indefinite"/>
                      </p:stCondLst>
                      <p:childTnLst>
                        <p:par>
                          <p:cTn id="11078" fill="hold">
                            <p:stCondLst>
                              <p:cond delay="0"/>
                            </p:stCondLst>
                            <p:childTnLst>
                              <p:par>
                                <p:cTn id="110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1" dur="1000"/>
                                        <p:tgtEl>
                                          <p:spTgt spid="2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4" dur="10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7" dur="10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90" dur="10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93" dur="10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96" dur="1000"/>
                                        <p:tgtEl>
                                          <p:spTgt spid="2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99" dur="10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2" dur="10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5" dur="1000"/>
                                        <p:tgtEl>
                                          <p:spTgt spid="2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08" dur="10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1" dur="10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4" dur="10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17" dur="10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0" dur="10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3" dur="10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6" dur="10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29" dur="1000"/>
                                        <p:tgtEl>
                                          <p:spTgt spid="2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2" dur="1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5" dur="10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8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1" dur="10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4" dur="10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7" dur="10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0" dur="1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3" dur="1000"/>
                                        <p:tgtEl>
                                          <p:spTgt spid="2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6" dur="1000"/>
                                        <p:tgtEl>
                                          <p:spTgt spid="2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59" dur="10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0" fill="hold">
                      <p:stCondLst>
                        <p:cond delay="indefinite"/>
                      </p:stCondLst>
                      <p:childTnLst>
                        <p:par>
                          <p:cTn id="1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4" dur="10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5" dur="10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6" dur="1000"/>
                                        <p:tgtEl>
                                          <p:spTgt spid="2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9" dur="10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0" dur="1000" fill="hold"/>
                                        <p:tgtEl>
                                          <p:spTgt spid="2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1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2" fill="hold">
                      <p:stCondLst>
                        <p:cond delay="indefinite"/>
                      </p:stCondLst>
                      <p:childTnLst>
                        <p:par>
                          <p:cTn id="1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6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7" dur="10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8" dur="10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1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2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3" dur="10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4" fill="hold">
                      <p:stCondLst>
                        <p:cond delay="indefinite"/>
                      </p:stCondLst>
                      <p:childTnLst>
                        <p:par>
                          <p:cTn id="1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8" dur="10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9" dur="10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0" dur="1000"/>
                                        <p:tgtEl>
                                          <p:spTgt spid="2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94" dur="10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97" dur="10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0" dur="10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3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06" dur="10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7" fill="hold">
                      <p:stCondLst>
                        <p:cond delay="indefinite"/>
                      </p:stCondLst>
                      <p:childTnLst>
                        <p:par>
                          <p:cTn id="11208" fill="hold">
                            <p:stCondLst>
                              <p:cond delay="0"/>
                            </p:stCondLst>
                            <p:childTnLst>
                              <p:par>
                                <p:cTn id="1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1" dur="1000"/>
                                        <p:tgtEl>
                                          <p:spTgt spid="2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4" dur="1000"/>
                                        <p:tgtEl>
                                          <p:spTgt spid="2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7" dur="10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0" dur="10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3" dur="10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6" dur="10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29" dur="10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32" dur="10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35" dur="10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38" dur="10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1" dur="10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4" dur="10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7" dur="10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0" dur="10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3" dur="10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59" dur="10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2" dur="10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5" dur="10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8" dur="10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1" dur="1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4" dur="10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7" dur="10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0" dur="10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3" dur="10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6" dur="10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9" dur="1000"/>
                                        <p:tgtEl>
                                          <p:spTgt spid="2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2" dur="10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5" dur="1000"/>
                                        <p:tgtEl>
                                          <p:spTgt spid="2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98" dur="10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01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2" fill="hold">
                      <p:stCondLst>
                        <p:cond delay="indefinite"/>
                      </p:stCondLst>
                      <p:childTnLst>
                        <p:par>
                          <p:cTn id="11303" fill="hold">
                            <p:stCondLst>
                              <p:cond delay="0"/>
                            </p:stCondLst>
                            <p:childTnLst>
                              <p:par>
                                <p:cTn id="11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6" dur="10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7" dur="10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8" dur="1000"/>
                                        <p:tgtEl>
                                          <p:spTgt spid="2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1" dur="10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2" dur="1000" fill="hold"/>
                                        <p:tgtEl>
                                          <p:spTgt spid="2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3" dur="1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4" fill="hold">
                      <p:stCondLst>
                        <p:cond delay="indefinite"/>
                      </p:stCondLst>
                      <p:childTnLst>
                        <p:par>
                          <p:cTn id="11315" fill="hold">
                            <p:stCondLst>
                              <p:cond delay="0"/>
                            </p:stCondLst>
                            <p:childTnLst>
                              <p:par>
                                <p:cTn id="11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8" dur="10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9" dur="10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0" dur="10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3" dur="10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4" dur="10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5" dur="1000"/>
                                        <p:tgtEl>
                                          <p:spTgt spid="2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6" fill="hold">
                      <p:stCondLst>
                        <p:cond delay="indefinite"/>
                      </p:stCondLst>
                      <p:childTnLst>
                        <p:par>
                          <p:cTn id="11327" fill="hold">
                            <p:stCondLst>
                              <p:cond delay="0"/>
                            </p:stCondLst>
                            <p:childTnLst>
                              <p:par>
                                <p:cTn id="11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0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1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2" dur="10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36" dur="10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39" dur="1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42" dur="1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45" dur="10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4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9" fill="hold">
                      <p:stCondLst>
                        <p:cond delay="indefinite"/>
                      </p:stCondLst>
                      <p:childTnLst>
                        <p:par>
                          <p:cTn id="11350" fill="hold">
                            <p:stCondLst>
                              <p:cond delay="0"/>
                            </p:stCondLst>
                            <p:childTnLst>
                              <p:par>
                                <p:cTn id="11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3" dur="1000"/>
                                        <p:tgtEl>
                                          <p:spTgt spid="2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6" dur="10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9" dur="10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62" dur="10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65" dur="10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68" dur="10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1" dur="10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4" dur="10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7" dur="1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80" dur="10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83" dur="10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86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89" dur="10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92" dur="10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95" dur="1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98" dur="1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1" dur="1000"/>
                                        <p:tgtEl>
                                          <p:spTgt spid="2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4" dur="10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7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0" dur="1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3" dur="1000"/>
                                        <p:tgtEl>
                                          <p:spTgt spid="2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6" dur="1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19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2" dur="1000"/>
                                        <p:tgtEl>
                                          <p:spTgt spid="2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6" fill="hold">
                      <p:stCondLst>
                        <p:cond delay="indefinite"/>
                      </p:stCondLst>
                      <p:childTnLst>
                        <p:par>
                          <p:cTn id="11427" fill="hold">
                            <p:stCondLst>
                              <p:cond delay="0"/>
                            </p:stCondLst>
                            <p:childTnLst>
                              <p:par>
                                <p:cTn id="11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0" dur="1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1" dur="10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2" dur="10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5" dur="10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6" dur="10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7" dur="10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1" dur="10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2" dur="10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3" dur="1000"/>
                                        <p:tgtEl>
                                          <p:spTgt spid="2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6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7" dur="10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8" dur="10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9" fill="hold">
                      <p:stCondLst>
                        <p:cond delay="indefinite"/>
                      </p:stCondLst>
                      <p:childTnLst>
                        <p:par>
                          <p:cTn id="11450" fill="hold">
                            <p:stCondLst>
                              <p:cond delay="0"/>
                            </p:stCondLst>
                            <p:childTnLst>
                              <p:par>
                                <p:cTn id="11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3" dur="10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4" dur="1000" fill="hold"/>
                                        <p:tgtEl>
                                          <p:spTgt spid="2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5" dur="10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9" dur="10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2" dur="10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5" dur="10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68" dur="10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5" dur="10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8" dur="1000"/>
                                        <p:tgtEl>
                                          <p:spTgt spid="2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81" dur="1000"/>
                                        <p:tgtEl>
                                          <p:spTgt spid="2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84" dur="1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87" dur="1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90" dur="10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93" dur="10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96" dur="10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99" dur="1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2" dur="10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5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08" dur="10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11" dur="10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14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17" dur="10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0" dur="10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3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6" dur="10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9" dur="10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2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5" dur="10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8" dur="10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4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44" dur="1000"/>
                                        <p:tgtEl>
                                          <p:spTgt spid="2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47" dur="10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0" dur="10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3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6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7" fill="hold">
                      <p:stCondLst>
                        <p:cond delay="indefinite"/>
                      </p:stCondLst>
                      <p:childTnLst>
                        <p:par>
                          <p:cTn id="11558" fill="hold">
                            <p:stCondLst>
                              <p:cond delay="0"/>
                            </p:stCondLst>
                            <p:childTnLst>
                              <p:par>
                                <p:cTn id="11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1" dur="1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2" dur="10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3" dur="1000"/>
                                        <p:tgtEl>
                                          <p:spTgt spid="2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6" dur="10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7" dur="10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8" dur="1000"/>
                                        <p:tgtEl>
                                          <p:spTgt spid="2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2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3" dur="10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4" dur="10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7" dur="10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8" dur="10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9" dur="10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0" fill="hold">
                      <p:stCondLst>
                        <p:cond delay="indefinite"/>
                      </p:stCondLst>
                      <p:childTnLst>
                        <p:par>
                          <p:cTn id="11581" fill="hold">
                            <p:stCondLst>
                              <p:cond delay="0"/>
                            </p:stCondLst>
                            <p:childTnLst>
                              <p:par>
                                <p:cTn id="11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4" dur="10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5" dur="10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6" dur="10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0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3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6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9" dur="500"/>
                                        <p:tgtEl>
                                          <p:spTgt spid="2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2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6" dur="10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09" dur="10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12" dur="10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15" dur="10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18" dur="10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21" dur="1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24" dur="10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27" dur="10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0" dur="10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3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6" dur="10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39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2" dur="10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5" dur="1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48" dur="1000"/>
                                        <p:tgtEl>
                                          <p:spTgt spid="2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1" dur="10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4" dur="10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57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0" dur="1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3" dur="1000"/>
                                        <p:tgtEl>
                                          <p:spTgt spid="2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6" dur="1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69" dur="1000"/>
                                        <p:tgtEl>
                                          <p:spTgt spid="2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2" dur="1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5" dur="10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78" dur="1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2" dur="1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3" dur="10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4" dur="1000"/>
                                        <p:tgtEl>
                                          <p:spTgt spid="2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7" dur="10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8" dur="1000" fill="hold"/>
                                        <p:tgtEl>
                                          <p:spTgt spid="2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9" dur="10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3" dur="10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4" dur="10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5" dur="10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8" dur="10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9" dur="10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0" dur="10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1" fill="hold">
                      <p:stCondLst>
                        <p:cond delay="indefinite"/>
                      </p:stCondLst>
                      <p:childTnLst>
                        <p:par>
                          <p:cTn id="11702" fill="hold">
                            <p:stCondLst>
                              <p:cond delay="0"/>
                            </p:stCondLst>
                            <p:childTnLst>
                              <p:par>
                                <p:cTn id="11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5" dur="10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6" dur="1000" fill="hold"/>
                                        <p:tgtEl>
                                          <p:spTgt spid="2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7" dur="10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1" dur="10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4" dur="1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7" dur="1000"/>
                                        <p:tgtEl>
                                          <p:spTgt spid="2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0" dur="1000"/>
                                        <p:tgtEl>
                                          <p:spTgt spid="2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3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27" dur="1000"/>
                                        <p:tgtEl>
                                          <p:spTgt spid="2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30" dur="1000"/>
                                        <p:tgtEl>
                                          <p:spTgt spid="2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33" dur="1000"/>
                                        <p:tgtEl>
                                          <p:spTgt spid="2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36" dur="10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3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2" dur="10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5" dur="1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48" dur="1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1" dur="10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4" dur="1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7" dur="10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60" dur="10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63" dur="1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66" dur="10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69" dur="1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2" dur="10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5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78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1" dur="10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4" dur="10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7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0" dur="1000"/>
                                        <p:tgtEl>
                                          <p:spTgt spid="2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3" dur="10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6" dur="10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9" dur="10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02" dur="10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05" dur="10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08" dur="10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9" fill="hold">
                      <p:stCondLst>
                        <p:cond delay="indefinite"/>
                      </p:stCondLst>
                      <p:childTnLst>
                        <p:par>
                          <p:cTn id="11810" fill="hold">
                            <p:stCondLst>
                              <p:cond delay="0"/>
                            </p:stCondLst>
                            <p:childTnLst>
                              <p:par>
                                <p:cTn id="1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3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4" dur="10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5" dur="10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8" dur="10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9" dur="10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0" dur="10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4" dur="10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5" dur="10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6" dur="10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9" dur="10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0" dur="10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1" dur="1000"/>
                                        <p:tgtEl>
                                          <p:spTgt spid="2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2" fill="hold">
                      <p:stCondLst>
                        <p:cond delay="indefinite"/>
                      </p:stCondLst>
                      <p:childTnLst>
                        <p:par>
                          <p:cTn id="11833" fill="hold">
                            <p:stCondLst>
                              <p:cond delay="0"/>
                            </p:stCondLst>
                            <p:childTnLst>
                              <p:par>
                                <p:cTn id="11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36" dur="80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37" dur="80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8" dur="80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9" fill="hold">
                            <p:stCondLst>
                              <p:cond delay="1120"/>
                            </p:stCondLst>
                            <p:childTnLst>
                              <p:par>
                                <p:cTn id="118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2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3" dur="10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4" dur="1000"/>
                                        <p:tgtEl>
                                          <p:spTgt spid="2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5" fill="hold">
                      <p:stCondLst>
                        <p:cond delay="indefinite"/>
                      </p:stCondLst>
                      <p:childTnLst>
                        <p:par>
                          <p:cTn id="11846" fill="hold">
                            <p:stCondLst>
                              <p:cond delay="0"/>
                            </p:stCondLst>
                            <p:childTnLst>
                              <p:par>
                                <p:cTn id="11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9" dur="10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0" dur="10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1" dur="10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55" dur="10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6" fill="hold">
                      <p:stCondLst>
                        <p:cond delay="indefinite"/>
                      </p:stCondLst>
                      <p:childTnLst>
                        <p:par>
                          <p:cTn id="11857" fill="hold">
                            <p:stCondLst>
                              <p:cond delay="0"/>
                            </p:stCondLst>
                            <p:childTnLst>
                              <p:par>
                                <p:cTn id="11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60" dur="80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61" dur="80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2" dur="80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3" fill="hold">
                            <p:stCondLst>
                              <p:cond delay="1040"/>
                            </p:stCondLst>
                            <p:childTnLst>
                              <p:par>
                                <p:cTn id="11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66" dur="10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7" fill="hold">
                      <p:stCondLst>
                        <p:cond delay="indefinite"/>
                      </p:stCondLst>
                      <p:childTnLst>
                        <p:par>
                          <p:cTn id="11868" fill="hold">
                            <p:stCondLst>
                              <p:cond delay="0"/>
                            </p:stCondLst>
                            <p:childTnLst>
                              <p:par>
                                <p:cTn id="118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1" dur="1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2" dur="10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73" dur="1000"/>
                                        <p:tgtEl>
                                          <p:spTgt spid="2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77" dur="20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2268360" y="85896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едельное равновесие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69800" y="1359000"/>
            <a:ext cx="3168720" cy="936360"/>
          </a:xfrm>
          <a:prstGeom prst="parallelogram">
            <a:avLst>
              <a:gd name="adj" fmla="val 8460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469800" y="2295360"/>
            <a:ext cx="2376720" cy="144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8630000">
            <a:off x="2574720" y="1851120"/>
            <a:ext cx="1332000" cy="96840"/>
          </a:xfrm>
          <a:prstGeom prst="parallelogram">
            <a:avLst>
              <a:gd name="adj" fmla="val 109209"/>
            </a:avLst>
          </a:prstGeom>
          <a:solidFill>
            <a:srgbClr val="b6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469800" y="2440080"/>
            <a:ext cx="2376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flipV="1">
            <a:off x="2846520" y="1503360"/>
            <a:ext cx="792000" cy="9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1900080" y="1863720"/>
            <a:ext cx="287640" cy="144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1432080" y="1778040"/>
            <a:ext cx="1296720" cy="360360"/>
          </a:xfrm>
          <a:prstGeom prst="parallelogram">
            <a:avLst>
              <a:gd name="adj" fmla="val 70219"/>
            </a:avLst>
          </a:prstGeom>
          <a:gradFill rotWithShape="0">
            <a:gsLst>
              <a:gs pos="0">
                <a:srgbClr val="000000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1052640" y="1673280"/>
            <a:ext cx="1996920" cy="504720"/>
          </a:xfrm>
          <a:prstGeom prst="parallelogram">
            <a:avLst>
              <a:gd name="adj" fmla="val 98912"/>
            </a:avLst>
          </a:prstGeom>
          <a:gradFill rotWithShape="0">
            <a:gsLst>
              <a:gs pos="0">
                <a:srgbClr val="000000"/>
              </a:gs>
              <a:gs pos="100000">
                <a:srgbClr val="bbe0e3">
                  <a:alpha val="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468360" y="1503360"/>
            <a:ext cx="3095640" cy="792000"/>
          </a:xfrm>
          <a:prstGeom prst="parallelogram">
            <a:avLst>
              <a:gd name="adj" fmla="val 94802"/>
            </a:avLst>
          </a:prstGeom>
          <a:gradFill rotWithShape="0">
            <a:gsLst>
              <a:gs pos="0">
                <a:srgbClr val="000000"/>
              </a:gs>
              <a:gs pos="100000">
                <a:srgbClr val="bbe0e3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H="1">
            <a:off x="1689120" y="1359000"/>
            <a:ext cx="720720" cy="936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flipH="1">
            <a:off x="855360" y="1835280"/>
            <a:ext cx="2374920" cy="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857160" y="1830240"/>
            <a:ext cx="2381400" cy="252720"/>
          </a:xfrm>
          <a:custGeom>
            <a:avLst/>
            <a:gdLst/>
            <a:ahLst/>
            <a:rect l="l" t="t" r="r" b="b"/>
            <a:pathLst>
              <a:path w="1500" h="182">
                <a:moveTo>
                  <a:pt x="0" y="0"/>
                </a:moveTo>
                <a:cubicBezTo>
                  <a:pt x="42" y="14"/>
                  <a:pt x="152" y="59"/>
                  <a:pt x="251" y="87"/>
                </a:cubicBezTo>
                <a:cubicBezTo>
                  <a:pt x="350" y="115"/>
                  <a:pt x="511" y="152"/>
                  <a:pt x="595" y="167"/>
                </a:cubicBezTo>
                <a:cubicBezTo>
                  <a:pt x="679" y="182"/>
                  <a:pt x="702" y="179"/>
                  <a:pt x="756" y="179"/>
                </a:cubicBezTo>
                <a:cubicBezTo>
                  <a:pt x="810" y="179"/>
                  <a:pt x="837" y="181"/>
                  <a:pt x="919" y="167"/>
                </a:cubicBezTo>
                <a:cubicBezTo>
                  <a:pt x="1001" y="153"/>
                  <a:pt x="1150" y="122"/>
                  <a:pt x="1247" y="95"/>
                </a:cubicBezTo>
                <a:cubicBezTo>
                  <a:pt x="1344" y="68"/>
                  <a:pt x="1447" y="25"/>
                  <a:pt x="1500" y="7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861840" y="1830240"/>
            <a:ext cx="2381400" cy="36720"/>
          </a:xfrm>
          <a:custGeom>
            <a:avLst/>
            <a:gdLst/>
            <a:ahLst/>
            <a:rect l="l" t="t" r="r" b="b"/>
            <a:pathLst>
              <a:path w="1500" h="109">
                <a:moveTo>
                  <a:pt x="0" y="0"/>
                </a:moveTo>
                <a:cubicBezTo>
                  <a:pt x="34" y="9"/>
                  <a:pt x="127" y="37"/>
                  <a:pt x="204" y="52"/>
                </a:cubicBezTo>
                <a:cubicBezTo>
                  <a:pt x="281" y="67"/>
                  <a:pt x="368" y="83"/>
                  <a:pt x="460" y="92"/>
                </a:cubicBezTo>
                <a:cubicBezTo>
                  <a:pt x="552" y="101"/>
                  <a:pt x="659" y="107"/>
                  <a:pt x="756" y="108"/>
                </a:cubicBezTo>
                <a:cubicBezTo>
                  <a:pt x="853" y="109"/>
                  <a:pt x="953" y="105"/>
                  <a:pt x="1044" y="96"/>
                </a:cubicBezTo>
                <a:cubicBezTo>
                  <a:pt x="1135" y="87"/>
                  <a:pt x="1228" y="71"/>
                  <a:pt x="1304" y="56"/>
                </a:cubicBezTo>
                <a:cubicBezTo>
                  <a:pt x="1380" y="41"/>
                  <a:pt x="1459" y="15"/>
                  <a:pt x="1500" y="4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1695600" y="1359000"/>
            <a:ext cx="718920" cy="936360"/>
          </a:xfrm>
          <a:custGeom>
            <a:avLst/>
            <a:gdLst/>
            <a:ahLst/>
            <a:rect l="l" t="t" r="r" b="b"/>
            <a:pathLst>
              <a:path w="453" h="590">
                <a:moveTo>
                  <a:pt x="453" y="0"/>
                </a:moveTo>
                <a:cubicBezTo>
                  <a:pt x="446" y="18"/>
                  <a:pt x="427" y="68"/>
                  <a:pt x="410" y="109"/>
                </a:cubicBezTo>
                <a:cubicBezTo>
                  <a:pt x="393" y="150"/>
                  <a:pt x="372" y="199"/>
                  <a:pt x="351" y="244"/>
                </a:cubicBezTo>
                <a:cubicBezTo>
                  <a:pt x="330" y="289"/>
                  <a:pt x="303" y="345"/>
                  <a:pt x="283" y="380"/>
                </a:cubicBezTo>
                <a:cubicBezTo>
                  <a:pt x="263" y="415"/>
                  <a:pt x="248" y="433"/>
                  <a:pt x="231" y="452"/>
                </a:cubicBezTo>
                <a:cubicBezTo>
                  <a:pt x="214" y="471"/>
                  <a:pt x="196" y="483"/>
                  <a:pt x="179" y="496"/>
                </a:cubicBezTo>
                <a:cubicBezTo>
                  <a:pt x="162" y="509"/>
                  <a:pt x="150" y="517"/>
                  <a:pt x="131" y="528"/>
                </a:cubicBezTo>
                <a:cubicBezTo>
                  <a:pt x="112" y="539"/>
                  <a:pt x="89" y="550"/>
                  <a:pt x="67" y="560"/>
                </a:cubicBezTo>
                <a:cubicBezTo>
                  <a:pt x="45" y="570"/>
                  <a:pt x="14" y="584"/>
                  <a:pt x="0" y="590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flipH="1">
            <a:off x="2054160" y="1841400"/>
            <a:ext cx="15840" cy="23832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>
            <a:off x="1682640" y="1359000"/>
            <a:ext cx="728640" cy="941400"/>
          </a:xfrm>
          <a:custGeom>
            <a:avLst/>
            <a:gdLst/>
            <a:ahLst/>
            <a:rect l="l" t="t" r="r" b="b"/>
            <a:pathLst>
              <a:path w="459" h="593">
                <a:moveTo>
                  <a:pt x="459" y="0"/>
                </a:moveTo>
                <a:cubicBezTo>
                  <a:pt x="452" y="11"/>
                  <a:pt x="436" y="45"/>
                  <a:pt x="419" y="72"/>
                </a:cubicBezTo>
                <a:cubicBezTo>
                  <a:pt x="402" y="99"/>
                  <a:pt x="378" y="131"/>
                  <a:pt x="359" y="160"/>
                </a:cubicBezTo>
                <a:cubicBezTo>
                  <a:pt x="340" y="189"/>
                  <a:pt x="323" y="216"/>
                  <a:pt x="303" y="244"/>
                </a:cubicBezTo>
                <a:cubicBezTo>
                  <a:pt x="283" y="272"/>
                  <a:pt x="261" y="299"/>
                  <a:pt x="239" y="328"/>
                </a:cubicBezTo>
                <a:cubicBezTo>
                  <a:pt x="217" y="357"/>
                  <a:pt x="191" y="391"/>
                  <a:pt x="171" y="416"/>
                </a:cubicBezTo>
                <a:cubicBezTo>
                  <a:pt x="151" y="441"/>
                  <a:pt x="139" y="457"/>
                  <a:pt x="119" y="480"/>
                </a:cubicBezTo>
                <a:cubicBezTo>
                  <a:pt x="99" y="503"/>
                  <a:pt x="71" y="537"/>
                  <a:pt x="51" y="556"/>
                </a:cubicBezTo>
                <a:cubicBezTo>
                  <a:pt x="31" y="575"/>
                  <a:pt x="11" y="585"/>
                  <a:pt x="0" y="593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852480" y="1832040"/>
            <a:ext cx="2381400" cy="71280"/>
          </a:xfrm>
          <a:custGeom>
            <a:avLst/>
            <a:gdLst/>
            <a:ahLst/>
            <a:rect l="l" t="t" r="r" b="b"/>
            <a:pathLst>
              <a:path w="1500" h="109">
                <a:moveTo>
                  <a:pt x="0" y="0"/>
                </a:moveTo>
                <a:cubicBezTo>
                  <a:pt x="34" y="9"/>
                  <a:pt x="127" y="37"/>
                  <a:pt x="204" y="52"/>
                </a:cubicBezTo>
                <a:cubicBezTo>
                  <a:pt x="281" y="67"/>
                  <a:pt x="368" y="83"/>
                  <a:pt x="460" y="92"/>
                </a:cubicBezTo>
                <a:cubicBezTo>
                  <a:pt x="552" y="101"/>
                  <a:pt x="659" y="107"/>
                  <a:pt x="756" y="108"/>
                </a:cubicBezTo>
                <a:cubicBezTo>
                  <a:pt x="853" y="109"/>
                  <a:pt x="953" y="105"/>
                  <a:pt x="1044" y="96"/>
                </a:cubicBezTo>
                <a:cubicBezTo>
                  <a:pt x="1135" y="87"/>
                  <a:pt x="1228" y="71"/>
                  <a:pt x="1304" y="56"/>
                </a:cubicBezTo>
                <a:cubicBezTo>
                  <a:pt x="1380" y="41"/>
                  <a:pt x="1459" y="15"/>
                  <a:pt x="1500" y="4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695600" y="1359000"/>
            <a:ext cx="718920" cy="936360"/>
          </a:xfrm>
          <a:custGeom>
            <a:avLst/>
            <a:gdLst/>
            <a:ahLst/>
            <a:rect l="l" t="t" r="r" b="b"/>
            <a:pathLst>
              <a:path w="453" h="590">
                <a:moveTo>
                  <a:pt x="453" y="0"/>
                </a:moveTo>
                <a:cubicBezTo>
                  <a:pt x="445" y="16"/>
                  <a:pt x="423" y="66"/>
                  <a:pt x="407" y="94"/>
                </a:cubicBezTo>
                <a:cubicBezTo>
                  <a:pt x="391" y="122"/>
                  <a:pt x="378" y="138"/>
                  <a:pt x="359" y="166"/>
                </a:cubicBezTo>
                <a:cubicBezTo>
                  <a:pt x="340" y="194"/>
                  <a:pt x="316" y="231"/>
                  <a:pt x="295" y="262"/>
                </a:cubicBezTo>
                <a:cubicBezTo>
                  <a:pt x="274" y="293"/>
                  <a:pt x="250" y="329"/>
                  <a:pt x="231" y="354"/>
                </a:cubicBezTo>
                <a:cubicBezTo>
                  <a:pt x="212" y="379"/>
                  <a:pt x="201" y="389"/>
                  <a:pt x="183" y="410"/>
                </a:cubicBezTo>
                <a:cubicBezTo>
                  <a:pt x="165" y="431"/>
                  <a:pt x="144" y="460"/>
                  <a:pt x="123" y="482"/>
                </a:cubicBezTo>
                <a:cubicBezTo>
                  <a:pt x="102" y="504"/>
                  <a:pt x="79" y="524"/>
                  <a:pt x="59" y="542"/>
                </a:cubicBezTo>
                <a:cubicBezTo>
                  <a:pt x="39" y="560"/>
                  <a:pt x="12" y="580"/>
                  <a:pt x="0" y="590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2054160" y="1790640"/>
            <a:ext cx="0" cy="15264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830160" y="1838160"/>
            <a:ext cx="2381400" cy="108000"/>
          </a:xfrm>
          <a:custGeom>
            <a:avLst/>
            <a:gdLst/>
            <a:ahLst/>
            <a:rect l="l" t="t" r="r" b="b"/>
            <a:pathLst>
              <a:path w="1500" h="109">
                <a:moveTo>
                  <a:pt x="0" y="0"/>
                </a:moveTo>
                <a:cubicBezTo>
                  <a:pt x="34" y="9"/>
                  <a:pt x="127" y="37"/>
                  <a:pt x="204" y="52"/>
                </a:cubicBezTo>
                <a:cubicBezTo>
                  <a:pt x="281" y="67"/>
                  <a:pt x="368" y="83"/>
                  <a:pt x="460" y="92"/>
                </a:cubicBezTo>
                <a:cubicBezTo>
                  <a:pt x="552" y="101"/>
                  <a:pt x="659" y="107"/>
                  <a:pt x="756" y="108"/>
                </a:cubicBezTo>
                <a:cubicBezTo>
                  <a:pt x="853" y="109"/>
                  <a:pt x="953" y="105"/>
                  <a:pt x="1044" y="96"/>
                </a:cubicBezTo>
                <a:cubicBezTo>
                  <a:pt x="1135" y="87"/>
                  <a:pt x="1228" y="71"/>
                  <a:pt x="1304" y="56"/>
                </a:cubicBezTo>
                <a:cubicBezTo>
                  <a:pt x="1380" y="41"/>
                  <a:pt x="1459" y="15"/>
                  <a:pt x="1500" y="4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673280" y="1365120"/>
            <a:ext cx="718920" cy="936720"/>
          </a:xfrm>
          <a:custGeom>
            <a:avLst/>
            <a:gdLst/>
            <a:ahLst/>
            <a:rect l="l" t="t" r="r" b="b"/>
            <a:pathLst>
              <a:path w="453" h="590">
                <a:moveTo>
                  <a:pt x="453" y="0"/>
                </a:moveTo>
                <a:cubicBezTo>
                  <a:pt x="445" y="16"/>
                  <a:pt x="419" y="67"/>
                  <a:pt x="403" y="97"/>
                </a:cubicBezTo>
                <a:cubicBezTo>
                  <a:pt x="387" y="127"/>
                  <a:pt x="376" y="152"/>
                  <a:pt x="359" y="181"/>
                </a:cubicBezTo>
                <a:cubicBezTo>
                  <a:pt x="342" y="210"/>
                  <a:pt x="320" y="242"/>
                  <a:pt x="299" y="273"/>
                </a:cubicBezTo>
                <a:cubicBezTo>
                  <a:pt x="278" y="304"/>
                  <a:pt x="252" y="340"/>
                  <a:pt x="231" y="369"/>
                </a:cubicBezTo>
                <a:cubicBezTo>
                  <a:pt x="210" y="398"/>
                  <a:pt x="190" y="422"/>
                  <a:pt x="171" y="445"/>
                </a:cubicBezTo>
                <a:cubicBezTo>
                  <a:pt x="152" y="468"/>
                  <a:pt x="134" y="488"/>
                  <a:pt x="115" y="505"/>
                </a:cubicBezTo>
                <a:cubicBezTo>
                  <a:pt x="96" y="522"/>
                  <a:pt x="74" y="535"/>
                  <a:pt x="55" y="549"/>
                </a:cubicBezTo>
                <a:cubicBezTo>
                  <a:pt x="36" y="563"/>
                  <a:pt x="11" y="581"/>
                  <a:pt x="0" y="590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2031840" y="1838160"/>
            <a:ext cx="0" cy="108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839880" y="1838160"/>
            <a:ext cx="2381040" cy="162000"/>
          </a:xfrm>
          <a:custGeom>
            <a:avLst/>
            <a:gdLst/>
            <a:ahLst/>
            <a:rect l="l" t="t" r="r" b="b"/>
            <a:pathLst>
              <a:path w="1500" h="109">
                <a:moveTo>
                  <a:pt x="0" y="0"/>
                </a:moveTo>
                <a:cubicBezTo>
                  <a:pt x="34" y="9"/>
                  <a:pt x="127" y="37"/>
                  <a:pt x="204" y="52"/>
                </a:cubicBezTo>
                <a:cubicBezTo>
                  <a:pt x="281" y="67"/>
                  <a:pt x="368" y="83"/>
                  <a:pt x="460" y="92"/>
                </a:cubicBezTo>
                <a:cubicBezTo>
                  <a:pt x="552" y="101"/>
                  <a:pt x="659" y="107"/>
                  <a:pt x="756" y="108"/>
                </a:cubicBezTo>
                <a:cubicBezTo>
                  <a:pt x="853" y="109"/>
                  <a:pt x="953" y="105"/>
                  <a:pt x="1044" y="96"/>
                </a:cubicBezTo>
                <a:cubicBezTo>
                  <a:pt x="1135" y="87"/>
                  <a:pt x="1228" y="71"/>
                  <a:pt x="1304" y="56"/>
                </a:cubicBezTo>
                <a:cubicBezTo>
                  <a:pt x="1380" y="41"/>
                  <a:pt x="1459" y="15"/>
                  <a:pt x="1500" y="4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1682640" y="1359000"/>
            <a:ext cx="719280" cy="936360"/>
          </a:xfrm>
          <a:custGeom>
            <a:avLst/>
            <a:gdLst/>
            <a:ahLst/>
            <a:rect l="l" t="t" r="r" b="b"/>
            <a:pathLst>
              <a:path w="453" h="590">
                <a:moveTo>
                  <a:pt x="453" y="0"/>
                </a:moveTo>
                <a:cubicBezTo>
                  <a:pt x="445" y="16"/>
                  <a:pt x="426" y="61"/>
                  <a:pt x="407" y="99"/>
                </a:cubicBezTo>
                <a:cubicBezTo>
                  <a:pt x="388" y="137"/>
                  <a:pt x="360" y="192"/>
                  <a:pt x="339" y="231"/>
                </a:cubicBezTo>
                <a:cubicBezTo>
                  <a:pt x="318" y="270"/>
                  <a:pt x="297" y="302"/>
                  <a:pt x="279" y="331"/>
                </a:cubicBezTo>
                <a:cubicBezTo>
                  <a:pt x="261" y="360"/>
                  <a:pt x="247" y="382"/>
                  <a:pt x="231" y="403"/>
                </a:cubicBezTo>
                <a:cubicBezTo>
                  <a:pt x="215" y="424"/>
                  <a:pt x="202" y="440"/>
                  <a:pt x="183" y="459"/>
                </a:cubicBezTo>
                <a:cubicBezTo>
                  <a:pt x="164" y="478"/>
                  <a:pt x="135" y="500"/>
                  <a:pt x="115" y="515"/>
                </a:cubicBezTo>
                <a:cubicBezTo>
                  <a:pt x="95" y="530"/>
                  <a:pt x="82" y="539"/>
                  <a:pt x="63" y="551"/>
                </a:cubicBezTo>
                <a:cubicBezTo>
                  <a:pt x="44" y="563"/>
                  <a:pt x="13" y="582"/>
                  <a:pt x="0" y="590"/>
                </a:cubicBezTo>
              </a:path>
            </a:pathLst>
          </a:custGeom>
          <a:noFill/>
          <a:ln w="936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2041560" y="1838160"/>
            <a:ext cx="0" cy="162000"/>
          </a:xfrm>
          <a:prstGeom prst="line">
            <a:avLst/>
          </a:prstGeom>
          <a:ln w="1260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1911240" y="15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054160" y="15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2198520" y="15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2343240" y="15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1838160" y="1711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982880" y="1711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2127240" y="1711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2270160" y="1711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4211640" y="143676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4211640" y="18684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flipH="1" flipV="1">
            <a:off x="4032360" y="1507320"/>
            <a:ext cx="28512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611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61147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V="1">
            <a:off x="4751640" y="1505880"/>
            <a:ext cx="28836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21820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218206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3722760" y="1533600"/>
            <a:ext cx="36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4981680" y="1528920"/>
            <a:ext cx="36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>
            <a:off x="4859280" y="143676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4859280" y="1868400"/>
            <a:ext cx="100800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 flipH="1">
            <a:off x="5650920" y="1436760"/>
            <a:ext cx="433080" cy="43164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136" y="0"/>
                </a:moveTo>
                <a:lnTo>
                  <a:pt x="272" y="0"/>
                </a:lnTo>
                <a:lnTo>
                  <a:pt x="272" y="46"/>
                </a:lnTo>
                <a:lnTo>
                  <a:pt x="0" y="227"/>
                </a:lnTo>
                <a:lnTo>
                  <a:pt x="0" y="272"/>
                </a:lnTo>
                <a:lnTo>
                  <a:pt x="136" y="272"/>
                </a:lnTo>
                <a:lnTo>
                  <a:pt x="13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5651640" y="15098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5867280" y="1792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5765760" y="143676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6014880" y="1868400"/>
            <a:ext cx="4334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6230880" y="1436760"/>
            <a:ext cx="433440" cy="431640"/>
          </a:xfrm>
          <a:custGeom>
            <a:avLst/>
            <a:gdLst/>
            <a:ahLst/>
            <a:rect l="l" t="t" r="r" b="b"/>
            <a:pathLst>
              <a:path w="273" h="272">
                <a:moveTo>
                  <a:pt x="137" y="0"/>
                </a:moveTo>
                <a:lnTo>
                  <a:pt x="273" y="0"/>
                </a:lnTo>
                <a:lnTo>
                  <a:pt x="273" y="136"/>
                </a:lnTo>
                <a:lnTo>
                  <a:pt x="0" y="136"/>
                </a:lnTo>
                <a:lnTo>
                  <a:pt x="1" y="272"/>
                </a:lnTo>
                <a:lnTo>
                  <a:pt x="137" y="272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4080" y="11685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156360" y="11685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824440" y="18129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6405480" y="18111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5364000" y="143676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5326200" y="1832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5330880" y="140004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5295960" y="1528920"/>
            <a:ext cx="36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80360" y="143676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7380360" y="186840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 flipV="1">
            <a:off x="7201080" y="1507320"/>
            <a:ext cx="285120" cy="28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611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61147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6891480" y="1533600"/>
            <a:ext cx="36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8023320" y="1438200"/>
            <a:ext cx="220680" cy="28260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9" y="0"/>
                </a:moveTo>
                <a:cubicBezTo>
                  <a:pt x="139" y="7"/>
                  <a:pt x="139" y="27"/>
                  <a:pt x="139" y="39"/>
                </a:cubicBezTo>
                <a:cubicBezTo>
                  <a:pt x="139" y="51"/>
                  <a:pt x="138" y="62"/>
                  <a:pt x="136" y="75"/>
                </a:cubicBezTo>
                <a:cubicBezTo>
                  <a:pt x="134" y="88"/>
                  <a:pt x="133" y="106"/>
                  <a:pt x="127" y="120"/>
                </a:cubicBezTo>
                <a:cubicBezTo>
                  <a:pt x="121" y="134"/>
                  <a:pt x="109" y="151"/>
                  <a:pt x="97" y="159"/>
                </a:cubicBezTo>
                <a:cubicBezTo>
                  <a:pt x="85" y="167"/>
                  <a:pt x="71" y="168"/>
                  <a:pt x="55" y="171"/>
                </a:cubicBezTo>
                <a:cubicBezTo>
                  <a:pt x="39" y="174"/>
                  <a:pt x="11" y="177"/>
                  <a:pt x="0" y="1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8028000" y="1436760"/>
            <a:ext cx="216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 flipH="1">
            <a:off x="8028000" y="1481040"/>
            <a:ext cx="216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 flipH="1">
            <a:off x="8028000" y="1528920"/>
            <a:ext cx="216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H="1">
            <a:off x="8032680" y="1581120"/>
            <a:ext cx="2016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 flipH="1">
            <a:off x="8028000" y="1628640"/>
            <a:ext cx="2016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 flipH="1">
            <a:off x="8028000" y="1681200"/>
            <a:ext cx="162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8028000" y="1797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flipH="1">
            <a:off x="8032680" y="155736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8388360" y="1552680"/>
            <a:ext cx="179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>
            <a:off x="8345520" y="17971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 flipV="1">
            <a:off x="8508960" y="154908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8470800" y="17589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8477280" y="1519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8440560" y="1552680"/>
            <a:ext cx="43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8132760" y="1790640"/>
            <a:ext cx="431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6146640" y="2116080"/>
            <a:ext cx="1152720" cy="287640"/>
          </a:xfrm>
          <a:prstGeom prst="rect">
            <a:avLst/>
          </a:pr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7380360" y="2087640"/>
            <a:ext cx="1152360" cy="576720"/>
          </a:xfrm>
          <a:prstGeom prst="rect">
            <a:avLst/>
          </a:prstGeom>
          <a:solidFill>
            <a:srgbClr val="fff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,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4216320" y="1447920"/>
            <a:ext cx="63684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4140360" y="16527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7375680" y="1450800"/>
            <a:ext cx="655560" cy="406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7308720" y="16527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7380360" y="1797120"/>
            <a:ext cx="64764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211640" y="1365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4856040" y="1365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7380360" y="1365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8028000" y="1365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3348000" y="205884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Погонный предельный мом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395280" y="2492280"/>
            <a:ext cx="46083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словие предельного состояния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ечения пласти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951440" y="2448000"/>
                <a:ext cx="2306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 </m:t>
                        </m:r>
                      </m:sub>
                    </m:sSub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0" name=""/>
          <p:cNvSpPr/>
          <p:nvPr/>
        </p:nvSpPr>
        <p:spPr>
          <a:xfrm>
            <a:off x="4475160" y="2778120"/>
            <a:ext cx="45259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x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755640" y="304812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иповые схемы предельных пластических механизмов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404640" y="3887640"/>
            <a:ext cx="86364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404640" y="3429000"/>
            <a:ext cx="863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>
            <a:off x="1293840" y="3429000"/>
            <a:ext cx="73915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1293840" y="3645000"/>
            <a:ext cx="17748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3090960" y="3645000"/>
            <a:ext cx="17748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>
            <a:off x="4897440" y="3645000"/>
            <a:ext cx="1846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6765840" y="3645000"/>
            <a:ext cx="19195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395280" y="3462480"/>
            <a:ext cx="884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ид нагру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2627280" y="3419640"/>
            <a:ext cx="4537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Т и п ы    п л а с т и н    п о    о ч е р т а н и ю    к о н т у р 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>
            <a:off x="378000" y="4076640"/>
            <a:ext cx="9349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сред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оч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387360" y="5342040"/>
            <a:ext cx="93492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спреде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лё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404640" y="4888080"/>
            <a:ext cx="863640" cy="16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1293840" y="3887640"/>
            <a:ext cx="177480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094200" y="3889440"/>
            <a:ext cx="176508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4903920" y="3889440"/>
            <a:ext cx="184284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6770520" y="3889440"/>
            <a:ext cx="1905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287360" y="4888080"/>
            <a:ext cx="1781280" cy="16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094200" y="4888080"/>
            <a:ext cx="1765080" cy="16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4898880" y="4886280"/>
            <a:ext cx="1846440" cy="16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770520" y="4886280"/>
            <a:ext cx="1905120" cy="16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67000" y="3635280"/>
            <a:ext cx="1439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рямоуго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3257640" y="3635280"/>
            <a:ext cx="1439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олиг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5383080" y="3629160"/>
            <a:ext cx="863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ругл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7039080" y="3635280"/>
            <a:ext cx="1368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Эллипт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1652760" y="4092480"/>
            <a:ext cx="93636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1692360" y="4130640"/>
            <a:ext cx="863640" cy="503280"/>
          </a:xfrm>
          <a:prstGeom prst="rect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1719360" y="4157640"/>
            <a:ext cx="803160" cy="442800"/>
          </a:xfrm>
          <a:prstGeom prst="rect">
            <a:avLst/>
          </a:prstGeom>
          <a:noFill/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1724040" y="4162320"/>
            <a:ext cx="792000" cy="43200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 flipV="1">
            <a:off x="1725480" y="4162320"/>
            <a:ext cx="795600" cy="43200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2050920" y="4194000"/>
            <a:ext cx="7164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2230560" y="5103720"/>
            <a:ext cx="718920" cy="468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2276640" y="5148360"/>
            <a:ext cx="633240" cy="377640"/>
          </a:xfrm>
          <a:prstGeom prst="rect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2309760" y="5238720"/>
            <a:ext cx="566640" cy="181080"/>
          </a:xfrm>
          <a:custGeom>
            <a:avLst/>
            <a:gdLst/>
            <a:ahLst/>
            <a:rect l="l" t="t" r="r" b="b"/>
            <a:pathLst>
              <a:path w="357" h="114">
                <a:moveTo>
                  <a:pt x="0" y="0"/>
                </a:moveTo>
                <a:lnTo>
                  <a:pt x="180" y="57"/>
                </a:lnTo>
                <a:lnTo>
                  <a:pt x="357" y="11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2305080" y="5176800"/>
            <a:ext cx="533520" cy="262080"/>
          </a:xfrm>
          <a:custGeom>
            <a:avLst/>
            <a:gdLst/>
            <a:ahLst/>
            <a:rect l="l" t="t" r="r" b="b"/>
            <a:pathLst>
              <a:path w="336" h="165">
                <a:moveTo>
                  <a:pt x="0" y="165"/>
                </a:moveTo>
                <a:lnTo>
                  <a:pt x="183" y="93"/>
                </a:lnTo>
                <a:lnTo>
                  <a:pt x="336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1428840" y="5127480"/>
            <a:ext cx="672840" cy="425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1449360" y="5153040"/>
            <a:ext cx="633600" cy="377640"/>
          </a:xfrm>
          <a:prstGeom prst="rect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1461960" y="5160960"/>
            <a:ext cx="615960" cy="36036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 flipV="1">
            <a:off x="1457280" y="5160600"/>
            <a:ext cx="619200" cy="36036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2282760" y="5884920"/>
            <a:ext cx="633600" cy="377640"/>
          </a:xfrm>
          <a:prstGeom prst="rect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2295360" y="5900760"/>
            <a:ext cx="295560" cy="347760"/>
          </a:xfrm>
          <a:custGeom>
            <a:avLst/>
            <a:gdLst/>
            <a:ahLst/>
            <a:rect l="l" t="t" r="r" b="b"/>
            <a:pathLst>
              <a:path w="186" h="219">
                <a:moveTo>
                  <a:pt x="0" y="0"/>
                </a:moveTo>
                <a:lnTo>
                  <a:pt x="186" y="219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2595600" y="5899320"/>
            <a:ext cx="304920" cy="358560"/>
          </a:xfrm>
          <a:custGeom>
            <a:avLst/>
            <a:gdLst/>
            <a:ahLst/>
            <a:rect l="l" t="t" r="r" b="b"/>
            <a:pathLst>
              <a:path w="192" h="226">
                <a:moveTo>
                  <a:pt x="0" y="226"/>
                </a:moveTo>
                <a:lnTo>
                  <a:pt x="192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1403280" y="5864400"/>
            <a:ext cx="36720" cy="395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1442880" y="5878440"/>
            <a:ext cx="633600" cy="378000"/>
          </a:xfrm>
          <a:prstGeom prst="rect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1457280" y="5891040"/>
            <a:ext cx="604800" cy="347760"/>
          </a:xfrm>
          <a:custGeom>
            <a:avLst/>
            <a:gdLst/>
            <a:ahLst/>
            <a:rect l="l" t="t" r="r" b="b"/>
            <a:pathLst>
              <a:path w="381" h="219">
                <a:moveTo>
                  <a:pt x="0" y="0"/>
                </a:moveTo>
                <a:lnTo>
                  <a:pt x="240" y="108"/>
                </a:lnTo>
                <a:lnTo>
                  <a:pt x="381" y="219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1457280" y="5892840"/>
            <a:ext cx="603360" cy="345960"/>
          </a:xfrm>
          <a:custGeom>
            <a:avLst/>
            <a:gdLst/>
            <a:ahLst/>
            <a:rect l="l" t="t" r="r" b="b"/>
            <a:pathLst>
              <a:path w="380" h="218">
                <a:moveTo>
                  <a:pt x="0" y="218"/>
                </a:moveTo>
                <a:lnTo>
                  <a:pt x="240" y="107"/>
                </a:lnTo>
                <a:lnTo>
                  <a:pt x="38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1432080" y="5851440"/>
            <a:ext cx="664920" cy="432000"/>
          </a:xfrm>
          <a:custGeom>
            <a:avLst/>
            <a:gdLst/>
            <a:ahLst/>
            <a:rect l="l" t="t" r="r" b="b"/>
            <a:pathLst>
              <a:path w="408" h="272">
                <a:moveTo>
                  <a:pt x="0" y="0"/>
                </a:moveTo>
                <a:lnTo>
                  <a:pt x="408" y="0"/>
                </a:lnTo>
                <a:lnTo>
                  <a:pt x="408" y="272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1467000" y="5881680"/>
            <a:ext cx="0" cy="36036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2257560" y="5857920"/>
            <a:ext cx="680760" cy="409680"/>
          </a:xfrm>
          <a:custGeom>
            <a:avLst/>
            <a:gdLst/>
            <a:ahLst/>
            <a:rect l="l" t="t" r="r" b="b"/>
            <a:pathLst>
              <a:path w="429" h="258">
                <a:moveTo>
                  <a:pt x="0" y="255"/>
                </a:moveTo>
                <a:lnTo>
                  <a:pt x="0" y="0"/>
                </a:lnTo>
                <a:lnTo>
                  <a:pt x="429" y="0"/>
                </a:lnTo>
                <a:lnTo>
                  <a:pt x="429" y="258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2295360" y="5172120"/>
            <a:ext cx="590760" cy="328680"/>
          </a:xfrm>
          <a:custGeom>
            <a:avLst/>
            <a:gdLst/>
            <a:ahLst/>
            <a:rect l="l" t="t" r="r" b="b"/>
            <a:pathLst>
              <a:path w="372" h="207">
                <a:moveTo>
                  <a:pt x="0" y="51"/>
                </a:moveTo>
                <a:lnTo>
                  <a:pt x="3" y="168"/>
                </a:lnTo>
                <a:lnTo>
                  <a:pt x="33" y="207"/>
                </a:lnTo>
                <a:lnTo>
                  <a:pt x="345" y="207"/>
                </a:lnTo>
                <a:lnTo>
                  <a:pt x="372" y="156"/>
                </a:lnTo>
                <a:lnTo>
                  <a:pt x="372" y="45"/>
                </a:lnTo>
                <a:lnTo>
                  <a:pt x="348" y="0"/>
                </a:lnTo>
                <a:lnTo>
                  <a:pt x="30" y="0"/>
                </a:lnTo>
                <a:lnTo>
                  <a:pt x="0" y="51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2352600" y="5238720"/>
            <a:ext cx="533520" cy="262080"/>
          </a:xfrm>
          <a:custGeom>
            <a:avLst/>
            <a:gdLst/>
            <a:ahLst/>
            <a:rect l="l" t="t" r="r" b="b"/>
            <a:pathLst>
              <a:path w="336" h="165">
                <a:moveTo>
                  <a:pt x="0" y="165"/>
                </a:moveTo>
                <a:lnTo>
                  <a:pt x="154" y="55"/>
                </a:lnTo>
                <a:lnTo>
                  <a:pt x="336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347920" y="5172120"/>
            <a:ext cx="490680" cy="323640"/>
          </a:xfrm>
          <a:custGeom>
            <a:avLst/>
            <a:gdLst/>
            <a:ahLst/>
            <a:rect l="l" t="t" r="r" b="b"/>
            <a:pathLst>
              <a:path w="309" h="204">
                <a:moveTo>
                  <a:pt x="0" y="0"/>
                </a:moveTo>
                <a:lnTo>
                  <a:pt x="158" y="100"/>
                </a:lnTo>
                <a:lnTo>
                  <a:pt x="309" y="20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3403440" y="3981600"/>
            <a:ext cx="1187640" cy="81252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457440" y="4030560"/>
            <a:ext cx="1079640" cy="71928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solidFill>
            <a:srgbClr val="d0f0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492360" y="4057560"/>
            <a:ext cx="1008360" cy="66204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3613320" y="4064040"/>
            <a:ext cx="380880" cy="323640"/>
          </a:xfrm>
          <a:custGeom>
            <a:avLst/>
            <a:gdLst/>
            <a:ahLst/>
            <a:rect l="l" t="t" r="r" b="b"/>
            <a:pathLst>
              <a:path w="240" h="204">
                <a:moveTo>
                  <a:pt x="0" y="64"/>
                </a:moveTo>
                <a:lnTo>
                  <a:pt x="168" y="204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3492360" y="4381560"/>
            <a:ext cx="387360" cy="342720"/>
          </a:xfrm>
          <a:custGeom>
            <a:avLst/>
            <a:gdLst/>
            <a:ahLst/>
            <a:rect l="l" t="t" r="r" b="b"/>
            <a:pathLst>
              <a:path w="244" h="216">
                <a:moveTo>
                  <a:pt x="0" y="60"/>
                </a:moveTo>
                <a:lnTo>
                  <a:pt x="244" y="0"/>
                </a:lnTo>
                <a:lnTo>
                  <a:pt x="184" y="21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3886200" y="4203720"/>
            <a:ext cx="520560" cy="507960"/>
          </a:xfrm>
          <a:custGeom>
            <a:avLst/>
            <a:gdLst/>
            <a:ahLst/>
            <a:rect l="l" t="t" r="r" b="b"/>
            <a:pathLst>
              <a:path w="328" h="320">
                <a:moveTo>
                  <a:pt x="196" y="320"/>
                </a:moveTo>
                <a:lnTo>
                  <a:pt x="0" y="112"/>
                </a:lnTo>
                <a:lnTo>
                  <a:pt x="328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3886200" y="438156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0" y="0"/>
                </a:moveTo>
                <a:lnTo>
                  <a:pt x="384" y="5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3811680" y="4199040"/>
            <a:ext cx="7128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3394080" y="5280120"/>
            <a:ext cx="1187280" cy="81288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3448080" y="5329080"/>
            <a:ext cx="1079640" cy="71928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solidFill>
            <a:srgbClr val="d0f0f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3483000" y="5356080"/>
            <a:ext cx="1008000" cy="662040"/>
          </a:xfrm>
          <a:custGeom>
            <a:avLst/>
            <a:gdLst/>
            <a:ahLst/>
            <a:rect l="l" t="t" r="r" b="b"/>
            <a:pathLst>
              <a:path w="648" h="440">
                <a:moveTo>
                  <a:pt x="80" y="64"/>
                </a:moveTo>
                <a:lnTo>
                  <a:pt x="328" y="0"/>
                </a:lnTo>
                <a:lnTo>
                  <a:pt x="592" y="96"/>
                </a:lnTo>
                <a:lnTo>
                  <a:pt x="648" y="280"/>
                </a:lnTo>
                <a:lnTo>
                  <a:pt x="456" y="432"/>
                </a:lnTo>
                <a:lnTo>
                  <a:pt x="184" y="440"/>
                </a:lnTo>
                <a:lnTo>
                  <a:pt x="0" y="280"/>
                </a:lnTo>
                <a:lnTo>
                  <a:pt x="80" y="64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3603600" y="5362560"/>
            <a:ext cx="380880" cy="326880"/>
          </a:xfrm>
          <a:custGeom>
            <a:avLst/>
            <a:gdLst/>
            <a:ahLst/>
            <a:rect l="l" t="t" r="r" b="b"/>
            <a:pathLst>
              <a:path w="240" h="206">
                <a:moveTo>
                  <a:pt x="0" y="64"/>
                </a:moveTo>
                <a:lnTo>
                  <a:pt x="238" y="206"/>
                </a:lnTo>
                <a:lnTo>
                  <a:pt x="24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3483000" y="5689440"/>
            <a:ext cx="498600" cy="333360"/>
          </a:xfrm>
          <a:custGeom>
            <a:avLst/>
            <a:gdLst/>
            <a:ahLst/>
            <a:rect l="l" t="t" r="r" b="b"/>
            <a:pathLst>
              <a:path w="314" h="210">
                <a:moveTo>
                  <a:pt x="0" y="54"/>
                </a:moveTo>
                <a:lnTo>
                  <a:pt x="314" y="0"/>
                </a:lnTo>
                <a:lnTo>
                  <a:pt x="184" y="21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3981600" y="5502240"/>
            <a:ext cx="415800" cy="507960"/>
          </a:xfrm>
          <a:custGeom>
            <a:avLst/>
            <a:gdLst/>
            <a:ahLst/>
            <a:rect l="l" t="t" r="r" b="b"/>
            <a:pathLst>
              <a:path w="262" h="320">
                <a:moveTo>
                  <a:pt x="130" y="320"/>
                </a:moveTo>
                <a:lnTo>
                  <a:pt x="0" y="118"/>
                </a:lnTo>
                <a:lnTo>
                  <a:pt x="262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3981600" y="5689440"/>
            <a:ext cx="504720" cy="79560"/>
          </a:xfrm>
          <a:custGeom>
            <a:avLst/>
            <a:gdLst/>
            <a:ahLst/>
            <a:rect l="l" t="t" r="r" b="b"/>
            <a:pathLst>
              <a:path w="318" h="50">
                <a:moveTo>
                  <a:pt x="0" y="0"/>
                </a:moveTo>
                <a:lnTo>
                  <a:pt x="318" y="5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5359320" y="3943440"/>
            <a:ext cx="863640" cy="863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5403960" y="3986280"/>
            <a:ext cx="772920" cy="77292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432400" y="4013280"/>
            <a:ext cx="719280" cy="71892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5600880" y="4044960"/>
            <a:ext cx="271440" cy="258840"/>
          </a:xfrm>
          <a:custGeom>
            <a:avLst/>
            <a:gdLst/>
            <a:ahLst/>
            <a:rect l="l" t="t" r="r" b="b"/>
            <a:pathLst>
              <a:path w="171" h="163">
                <a:moveTo>
                  <a:pt x="0" y="16"/>
                </a:moveTo>
                <a:lnTo>
                  <a:pt x="171" y="163"/>
                </a:lnTo>
                <a:lnTo>
                  <a:pt x="36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5708520" y="4013280"/>
            <a:ext cx="165240" cy="285840"/>
          </a:xfrm>
          <a:custGeom>
            <a:avLst/>
            <a:gdLst/>
            <a:ahLst/>
            <a:rect l="l" t="t" r="r" b="b"/>
            <a:pathLst>
              <a:path w="104" h="180">
                <a:moveTo>
                  <a:pt x="0" y="8"/>
                </a:moveTo>
                <a:lnTo>
                  <a:pt x="104" y="180"/>
                </a:lnTo>
                <a:lnTo>
                  <a:pt x="36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5829480" y="4017960"/>
            <a:ext cx="63360" cy="287280"/>
          </a:xfrm>
          <a:custGeom>
            <a:avLst/>
            <a:gdLst/>
            <a:ahLst/>
            <a:rect l="l" t="t" r="r" b="b"/>
            <a:pathLst>
              <a:path w="40" h="181">
                <a:moveTo>
                  <a:pt x="0" y="0"/>
                </a:moveTo>
                <a:lnTo>
                  <a:pt x="32" y="181"/>
                </a:lnTo>
                <a:lnTo>
                  <a:pt x="40" y="9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880240" y="4057560"/>
            <a:ext cx="133200" cy="247680"/>
          </a:xfrm>
          <a:custGeom>
            <a:avLst/>
            <a:gdLst/>
            <a:ahLst/>
            <a:rect l="l" t="t" r="r" b="b"/>
            <a:pathLst>
              <a:path w="84" h="156">
                <a:moveTo>
                  <a:pt x="48" y="0"/>
                </a:moveTo>
                <a:lnTo>
                  <a:pt x="0" y="156"/>
                </a:lnTo>
                <a:lnTo>
                  <a:pt x="84" y="2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5886360" y="4143240"/>
            <a:ext cx="216000" cy="174600"/>
          </a:xfrm>
          <a:custGeom>
            <a:avLst/>
            <a:gdLst/>
            <a:ahLst/>
            <a:rect l="l" t="t" r="r" b="b"/>
            <a:pathLst>
              <a:path w="136" h="110">
                <a:moveTo>
                  <a:pt x="111" y="0"/>
                </a:moveTo>
                <a:lnTo>
                  <a:pt x="0" y="110"/>
                </a:lnTo>
                <a:lnTo>
                  <a:pt x="136" y="3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5505480" y="4108320"/>
            <a:ext cx="368280" cy="20340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28"/>
                </a:moveTo>
                <a:lnTo>
                  <a:pt x="232" y="128"/>
                </a:lnTo>
                <a:lnTo>
                  <a:pt x="36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5448240" y="4208400"/>
            <a:ext cx="432000" cy="109440"/>
          </a:xfrm>
          <a:custGeom>
            <a:avLst/>
            <a:gdLst/>
            <a:ahLst/>
            <a:rect l="l" t="t" r="r" b="b"/>
            <a:pathLst>
              <a:path w="272" h="69">
                <a:moveTo>
                  <a:pt x="0" y="41"/>
                </a:moveTo>
                <a:lnTo>
                  <a:pt x="272" y="69"/>
                </a:lnTo>
                <a:lnTo>
                  <a:pt x="18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432400" y="4317840"/>
            <a:ext cx="453960" cy="95400"/>
          </a:xfrm>
          <a:custGeom>
            <a:avLst/>
            <a:gdLst/>
            <a:ahLst/>
            <a:rect l="l" t="t" r="r" b="b"/>
            <a:pathLst>
              <a:path w="286" h="60">
                <a:moveTo>
                  <a:pt x="6" y="60"/>
                </a:moveTo>
                <a:lnTo>
                  <a:pt x="286" y="0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448240" y="4317840"/>
            <a:ext cx="438120" cy="228600"/>
          </a:xfrm>
          <a:custGeom>
            <a:avLst/>
            <a:gdLst/>
            <a:ahLst/>
            <a:rect l="l" t="t" r="r" b="b"/>
            <a:pathLst>
              <a:path w="276" h="144">
                <a:moveTo>
                  <a:pt x="20" y="144"/>
                </a:moveTo>
                <a:lnTo>
                  <a:pt x="276" y="0"/>
                </a:lnTo>
                <a:lnTo>
                  <a:pt x="0" y="10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5511960" y="4324320"/>
            <a:ext cx="368280" cy="324000"/>
          </a:xfrm>
          <a:custGeom>
            <a:avLst/>
            <a:gdLst/>
            <a:ahLst/>
            <a:rect l="l" t="t" r="r" b="b"/>
            <a:pathLst>
              <a:path w="232" h="204">
                <a:moveTo>
                  <a:pt x="0" y="176"/>
                </a:moveTo>
                <a:lnTo>
                  <a:pt x="232" y="0"/>
                </a:lnTo>
                <a:lnTo>
                  <a:pt x="36" y="20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5626080" y="4324320"/>
            <a:ext cx="254160" cy="393840"/>
          </a:xfrm>
          <a:custGeom>
            <a:avLst/>
            <a:gdLst/>
            <a:ahLst/>
            <a:rect l="l" t="t" r="r" b="b"/>
            <a:pathLst>
              <a:path w="160" h="248">
                <a:moveTo>
                  <a:pt x="0" y="228"/>
                </a:moveTo>
                <a:lnTo>
                  <a:pt x="160" y="0"/>
                </a:lnTo>
                <a:lnTo>
                  <a:pt x="48" y="2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776920" y="4317840"/>
            <a:ext cx="103320" cy="409680"/>
          </a:xfrm>
          <a:custGeom>
            <a:avLst/>
            <a:gdLst/>
            <a:ahLst/>
            <a:rect l="l" t="t" r="r" b="b"/>
            <a:pathLst>
              <a:path w="65" h="258">
                <a:moveTo>
                  <a:pt x="0" y="258"/>
                </a:moveTo>
                <a:lnTo>
                  <a:pt x="65" y="0"/>
                </a:lnTo>
                <a:lnTo>
                  <a:pt x="49" y="25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5886360" y="4317840"/>
            <a:ext cx="101520" cy="384480"/>
          </a:xfrm>
          <a:custGeom>
            <a:avLst/>
            <a:gdLst/>
            <a:ahLst/>
            <a:rect l="l" t="t" r="r" b="b"/>
            <a:pathLst>
              <a:path w="64" h="242">
                <a:moveTo>
                  <a:pt x="22" y="242"/>
                </a:moveTo>
                <a:lnTo>
                  <a:pt x="0" y="0"/>
                </a:lnTo>
                <a:lnTo>
                  <a:pt x="64" y="22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5886360" y="4317840"/>
            <a:ext cx="209520" cy="308160"/>
          </a:xfrm>
          <a:custGeom>
            <a:avLst/>
            <a:gdLst/>
            <a:ahLst/>
            <a:rect l="l" t="t" r="r" b="b"/>
            <a:pathLst>
              <a:path w="132" h="194">
                <a:moveTo>
                  <a:pt x="105" y="194"/>
                </a:moveTo>
                <a:lnTo>
                  <a:pt x="0" y="0"/>
                </a:lnTo>
                <a:lnTo>
                  <a:pt x="132" y="1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5880240" y="4317840"/>
            <a:ext cx="260280" cy="173160"/>
          </a:xfrm>
          <a:custGeom>
            <a:avLst/>
            <a:gdLst/>
            <a:ahLst/>
            <a:rect l="l" t="t" r="r" b="b"/>
            <a:pathLst>
              <a:path w="164" h="109">
                <a:moveTo>
                  <a:pt x="160" y="109"/>
                </a:moveTo>
                <a:lnTo>
                  <a:pt x="0" y="0"/>
                </a:lnTo>
                <a:lnTo>
                  <a:pt x="164" y="6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5886360" y="4267080"/>
            <a:ext cx="260280" cy="76320"/>
          </a:xfrm>
          <a:custGeom>
            <a:avLst/>
            <a:gdLst/>
            <a:ahLst/>
            <a:rect l="l" t="t" r="r" b="b"/>
            <a:pathLst>
              <a:path w="164" h="48">
                <a:moveTo>
                  <a:pt x="164" y="48"/>
                </a:moveTo>
                <a:lnTo>
                  <a:pt x="0" y="36"/>
                </a:lnTo>
                <a:lnTo>
                  <a:pt x="152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5815080" y="4149720"/>
            <a:ext cx="7128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5840280" y="5205240"/>
            <a:ext cx="863640" cy="8636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5884920" y="5248440"/>
            <a:ext cx="772920" cy="77292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910120" y="5273640"/>
            <a:ext cx="719280" cy="71928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6273720" y="5276880"/>
            <a:ext cx="1800" cy="71748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0"/>
                </a:moveTo>
                <a:lnTo>
                  <a:pt x="0" y="45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6191280" y="5283360"/>
            <a:ext cx="171360" cy="698400"/>
          </a:xfrm>
          <a:custGeom>
            <a:avLst/>
            <a:gdLst/>
            <a:ahLst/>
            <a:rect l="l" t="t" r="r" b="b"/>
            <a:pathLst>
              <a:path w="108" h="440">
                <a:moveTo>
                  <a:pt x="0" y="0"/>
                </a:moveTo>
                <a:lnTo>
                  <a:pt x="108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6114960" y="5315040"/>
            <a:ext cx="330120" cy="628560"/>
          </a:xfrm>
          <a:custGeom>
            <a:avLst/>
            <a:gdLst/>
            <a:ahLst/>
            <a:rect l="l" t="t" r="r" b="b"/>
            <a:pathLst>
              <a:path w="208" h="396">
                <a:moveTo>
                  <a:pt x="0" y="0"/>
                </a:moveTo>
                <a:lnTo>
                  <a:pt x="208" y="39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6045120" y="5346720"/>
            <a:ext cx="463680" cy="552600"/>
          </a:xfrm>
          <a:custGeom>
            <a:avLst/>
            <a:gdLst/>
            <a:ahLst/>
            <a:rect l="l" t="t" r="r" b="b"/>
            <a:pathLst>
              <a:path w="292" h="348">
                <a:moveTo>
                  <a:pt x="0" y="0"/>
                </a:moveTo>
                <a:lnTo>
                  <a:pt x="292" y="3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5994360" y="5410080"/>
            <a:ext cx="558720" cy="425520"/>
          </a:xfrm>
          <a:custGeom>
            <a:avLst/>
            <a:gdLst/>
            <a:ahLst/>
            <a:rect l="l" t="t" r="r" b="b"/>
            <a:pathLst>
              <a:path w="352" h="268">
                <a:moveTo>
                  <a:pt x="0" y="0"/>
                </a:moveTo>
                <a:lnTo>
                  <a:pt x="352" y="2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943600" y="5492880"/>
            <a:ext cx="654120" cy="272880"/>
          </a:xfrm>
          <a:custGeom>
            <a:avLst/>
            <a:gdLst/>
            <a:ahLst/>
            <a:rect l="l" t="t" r="r" b="b"/>
            <a:pathLst>
              <a:path w="412" h="172">
                <a:moveTo>
                  <a:pt x="0" y="0"/>
                </a:moveTo>
                <a:lnTo>
                  <a:pt x="412" y="17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6203880" y="5283360"/>
            <a:ext cx="139680" cy="698400"/>
          </a:xfrm>
          <a:custGeom>
            <a:avLst/>
            <a:gdLst/>
            <a:ahLst/>
            <a:rect l="l" t="t" r="r" b="b"/>
            <a:pathLst>
              <a:path w="88" h="440">
                <a:moveTo>
                  <a:pt x="88" y="0"/>
                </a:moveTo>
                <a:lnTo>
                  <a:pt x="0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6134040" y="5308560"/>
            <a:ext cx="285840" cy="654120"/>
          </a:xfrm>
          <a:custGeom>
            <a:avLst/>
            <a:gdLst/>
            <a:ahLst/>
            <a:rect l="l" t="t" r="r" b="b"/>
            <a:pathLst>
              <a:path w="180" h="412">
                <a:moveTo>
                  <a:pt x="180" y="0"/>
                </a:moveTo>
                <a:lnTo>
                  <a:pt x="0" y="41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6064200" y="5353200"/>
            <a:ext cx="419040" cy="583920"/>
          </a:xfrm>
          <a:custGeom>
            <a:avLst/>
            <a:gdLst/>
            <a:ahLst/>
            <a:rect l="l" t="t" r="r" b="b"/>
            <a:pathLst>
              <a:path w="264" h="368">
                <a:moveTo>
                  <a:pt x="264" y="0"/>
                </a:moveTo>
                <a:lnTo>
                  <a:pt x="0" y="3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6013440" y="5397480"/>
            <a:ext cx="520560" cy="488880"/>
          </a:xfrm>
          <a:custGeom>
            <a:avLst/>
            <a:gdLst/>
            <a:ahLst/>
            <a:rect l="l" t="t" r="r" b="b"/>
            <a:pathLst>
              <a:path w="328" h="308">
                <a:moveTo>
                  <a:pt x="328" y="0"/>
                </a:moveTo>
                <a:lnTo>
                  <a:pt x="0" y="30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5962680" y="5460840"/>
            <a:ext cx="615960" cy="355680"/>
          </a:xfrm>
          <a:custGeom>
            <a:avLst/>
            <a:gdLst/>
            <a:ahLst/>
            <a:rect l="l" t="t" r="r" b="b"/>
            <a:pathLst>
              <a:path w="388" h="224">
                <a:moveTo>
                  <a:pt x="388" y="0"/>
                </a:moveTo>
                <a:lnTo>
                  <a:pt x="0" y="22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931000" y="5524560"/>
            <a:ext cx="672840" cy="222120"/>
          </a:xfrm>
          <a:custGeom>
            <a:avLst/>
            <a:gdLst/>
            <a:ahLst/>
            <a:rect l="l" t="t" r="r" b="b"/>
            <a:pathLst>
              <a:path w="424" h="140">
                <a:moveTo>
                  <a:pt x="424" y="0"/>
                </a:moveTo>
                <a:lnTo>
                  <a:pt x="0" y="1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5911920" y="5607000"/>
            <a:ext cx="711000" cy="50760"/>
          </a:xfrm>
          <a:custGeom>
            <a:avLst/>
            <a:gdLst/>
            <a:ahLst/>
            <a:rect l="l" t="t" r="r" b="b"/>
            <a:pathLst>
              <a:path w="448" h="32">
                <a:moveTo>
                  <a:pt x="448" y="0"/>
                </a:moveTo>
                <a:lnTo>
                  <a:pt x="0" y="3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5918040" y="5568840"/>
            <a:ext cx="692280" cy="120600"/>
          </a:xfrm>
          <a:custGeom>
            <a:avLst/>
            <a:gdLst/>
            <a:ahLst/>
            <a:rect l="l" t="t" r="r" b="b"/>
            <a:pathLst>
              <a:path w="436" h="76">
                <a:moveTo>
                  <a:pt x="436" y="76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4975200" y="5218200"/>
            <a:ext cx="812880" cy="81288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5002200" y="5248440"/>
            <a:ext cx="755640" cy="75564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5389560" y="5278320"/>
            <a:ext cx="1440" cy="71784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0"/>
                </a:moveTo>
                <a:lnTo>
                  <a:pt x="0" y="45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5302080" y="5284800"/>
            <a:ext cx="171720" cy="698400"/>
          </a:xfrm>
          <a:custGeom>
            <a:avLst/>
            <a:gdLst/>
            <a:ahLst/>
            <a:rect l="l" t="t" r="r" b="b"/>
            <a:pathLst>
              <a:path w="108" h="440">
                <a:moveTo>
                  <a:pt x="0" y="0"/>
                </a:moveTo>
                <a:lnTo>
                  <a:pt x="108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5226120" y="5316480"/>
            <a:ext cx="330120" cy="628560"/>
          </a:xfrm>
          <a:custGeom>
            <a:avLst/>
            <a:gdLst/>
            <a:ahLst/>
            <a:rect l="l" t="t" r="r" b="b"/>
            <a:pathLst>
              <a:path w="208" h="396">
                <a:moveTo>
                  <a:pt x="0" y="0"/>
                </a:moveTo>
                <a:lnTo>
                  <a:pt x="208" y="39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5156280" y="5348160"/>
            <a:ext cx="463320" cy="552600"/>
          </a:xfrm>
          <a:custGeom>
            <a:avLst/>
            <a:gdLst/>
            <a:ahLst/>
            <a:rect l="l" t="t" r="r" b="b"/>
            <a:pathLst>
              <a:path w="292" h="348">
                <a:moveTo>
                  <a:pt x="0" y="0"/>
                </a:moveTo>
                <a:lnTo>
                  <a:pt x="292" y="3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5105520" y="5411880"/>
            <a:ext cx="558720" cy="425520"/>
          </a:xfrm>
          <a:custGeom>
            <a:avLst/>
            <a:gdLst/>
            <a:ahLst/>
            <a:rect l="l" t="t" r="r" b="b"/>
            <a:pathLst>
              <a:path w="352" h="268">
                <a:moveTo>
                  <a:pt x="0" y="0"/>
                </a:moveTo>
                <a:lnTo>
                  <a:pt x="352" y="2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5054760" y="5494320"/>
            <a:ext cx="653760" cy="273240"/>
          </a:xfrm>
          <a:custGeom>
            <a:avLst/>
            <a:gdLst/>
            <a:ahLst/>
            <a:rect l="l" t="t" r="r" b="b"/>
            <a:pathLst>
              <a:path w="412" h="172">
                <a:moveTo>
                  <a:pt x="0" y="0"/>
                </a:moveTo>
                <a:lnTo>
                  <a:pt x="412" y="17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5319720" y="5284800"/>
            <a:ext cx="139680" cy="698400"/>
          </a:xfrm>
          <a:custGeom>
            <a:avLst/>
            <a:gdLst/>
            <a:ahLst/>
            <a:rect l="l" t="t" r="r" b="b"/>
            <a:pathLst>
              <a:path w="88" h="440">
                <a:moveTo>
                  <a:pt x="88" y="0"/>
                </a:moveTo>
                <a:lnTo>
                  <a:pt x="0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249880" y="5305320"/>
            <a:ext cx="285840" cy="654120"/>
          </a:xfrm>
          <a:custGeom>
            <a:avLst/>
            <a:gdLst/>
            <a:ahLst/>
            <a:rect l="l" t="t" r="r" b="b"/>
            <a:pathLst>
              <a:path w="180" h="412">
                <a:moveTo>
                  <a:pt x="180" y="0"/>
                </a:moveTo>
                <a:lnTo>
                  <a:pt x="0" y="41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5175360" y="5354640"/>
            <a:ext cx="419040" cy="584280"/>
          </a:xfrm>
          <a:custGeom>
            <a:avLst/>
            <a:gdLst/>
            <a:ahLst/>
            <a:rect l="l" t="t" r="r" b="b"/>
            <a:pathLst>
              <a:path w="264" h="368">
                <a:moveTo>
                  <a:pt x="264" y="0"/>
                </a:moveTo>
                <a:lnTo>
                  <a:pt x="0" y="3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5114880" y="5398920"/>
            <a:ext cx="530280" cy="487440"/>
          </a:xfrm>
          <a:custGeom>
            <a:avLst/>
            <a:gdLst/>
            <a:ahLst/>
            <a:rect l="l" t="t" r="r" b="b"/>
            <a:pathLst>
              <a:path w="334" h="307">
                <a:moveTo>
                  <a:pt x="334" y="0"/>
                </a:moveTo>
                <a:lnTo>
                  <a:pt x="0" y="307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062680" y="5462640"/>
            <a:ext cx="626760" cy="357120"/>
          </a:xfrm>
          <a:custGeom>
            <a:avLst/>
            <a:gdLst/>
            <a:ahLst/>
            <a:rect l="l" t="t" r="r" b="b"/>
            <a:pathLst>
              <a:path w="395" h="225">
                <a:moveTo>
                  <a:pt x="395" y="0"/>
                </a:moveTo>
                <a:lnTo>
                  <a:pt x="0" y="225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033880" y="5526000"/>
            <a:ext cx="681120" cy="217440"/>
          </a:xfrm>
          <a:custGeom>
            <a:avLst/>
            <a:gdLst/>
            <a:ahLst/>
            <a:rect l="l" t="t" r="r" b="b"/>
            <a:pathLst>
              <a:path w="429" h="137">
                <a:moveTo>
                  <a:pt x="429" y="0"/>
                </a:moveTo>
                <a:lnTo>
                  <a:pt x="0" y="137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5022720" y="5608800"/>
            <a:ext cx="711360" cy="50760"/>
          </a:xfrm>
          <a:custGeom>
            <a:avLst/>
            <a:gdLst/>
            <a:ahLst/>
            <a:rect l="l" t="t" r="r" b="b"/>
            <a:pathLst>
              <a:path w="448" h="32">
                <a:moveTo>
                  <a:pt x="448" y="0"/>
                </a:moveTo>
                <a:lnTo>
                  <a:pt x="0" y="3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029200" y="5570640"/>
            <a:ext cx="692280" cy="120600"/>
          </a:xfrm>
          <a:custGeom>
            <a:avLst/>
            <a:gdLst/>
            <a:ahLst/>
            <a:rect l="l" t="t" r="r" b="b"/>
            <a:pathLst>
              <a:path w="436" h="76">
                <a:moveTo>
                  <a:pt x="436" y="76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6804000" y="4941720"/>
            <a:ext cx="1170000" cy="8636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6843600" y="4984920"/>
            <a:ext cx="1090800" cy="77292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6877080" y="5013360"/>
            <a:ext cx="1031760" cy="71928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7381800" y="5006880"/>
            <a:ext cx="74520" cy="71748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0"/>
                </a:moveTo>
                <a:lnTo>
                  <a:pt x="0" y="45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7257960" y="5022720"/>
            <a:ext cx="246240" cy="698760"/>
          </a:xfrm>
          <a:custGeom>
            <a:avLst/>
            <a:gdLst/>
            <a:ahLst/>
            <a:rect l="l" t="t" r="r" b="b"/>
            <a:pathLst>
              <a:path w="108" h="440">
                <a:moveTo>
                  <a:pt x="0" y="0"/>
                </a:moveTo>
                <a:lnTo>
                  <a:pt x="108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7149960" y="5059440"/>
            <a:ext cx="474840" cy="628560"/>
          </a:xfrm>
          <a:custGeom>
            <a:avLst/>
            <a:gdLst/>
            <a:ahLst/>
            <a:rect l="l" t="t" r="r" b="b"/>
            <a:pathLst>
              <a:path w="208" h="396">
                <a:moveTo>
                  <a:pt x="0" y="0"/>
                </a:moveTo>
                <a:lnTo>
                  <a:pt x="208" y="39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7056360" y="5095800"/>
            <a:ext cx="665280" cy="552600"/>
          </a:xfrm>
          <a:custGeom>
            <a:avLst/>
            <a:gdLst/>
            <a:ahLst/>
            <a:rect l="l" t="t" r="r" b="b"/>
            <a:pathLst>
              <a:path w="292" h="348">
                <a:moveTo>
                  <a:pt x="0" y="0"/>
                </a:moveTo>
                <a:lnTo>
                  <a:pt x="292" y="3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6991200" y="5162400"/>
            <a:ext cx="801720" cy="425520"/>
          </a:xfrm>
          <a:custGeom>
            <a:avLst/>
            <a:gdLst/>
            <a:ahLst/>
            <a:rect l="l" t="t" r="r" b="b"/>
            <a:pathLst>
              <a:path w="352" h="268">
                <a:moveTo>
                  <a:pt x="0" y="0"/>
                </a:moveTo>
                <a:lnTo>
                  <a:pt x="352" y="2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6926400" y="5237280"/>
            <a:ext cx="938160" cy="272880"/>
          </a:xfrm>
          <a:custGeom>
            <a:avLst/>
            <a:gdLst/>
            <a:ahLst/>
            <a:rect l="l" t="t" r="r" b="b"/>
            <a:pathLst>
              <a:path w="412" h="172">
                <a:moveTo>
                  <a:pt x="0" y="0"/>
                </a:moveTo>
                <a:lnTo>
                  <a:pt x="412" y="17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7281720" y="5022720"/>
            <a:ext cx="200160" cy="698760"/>
          </a:xfrm>
          <a:custGeom>
            <a:avLst/>
            <a:gdLst/>
            <a:ahLst/>
            <a:rect l="l" t="t" r="r" b="b"/>
            <a:pathLst>
              <a:path w="88" h="440">
                <a:moveTo>
                  <a:pt x="88" y="0"/>
                </a:moveTo>
                <a:lnTo>
                  <a:pt x="0" y="4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7182000" y="5048280"/>
            <a:ext cx="409320" cy="654120"/>
          </a:xfrm>
          <a:custGeom>
            <a:avLst/>
            <a:gdLst/>
            <a:ahLst/>
            <a:rect l="l" t="t" r="r" b="b"/>
            <a:pathLst>
              <a:path w="180" h="412">
                <a:moveTo>
                  <a:pt x="180" y="0"/>
                </a:moveTo>
                <a:lnTo>
                  <a:pt x="0" y="41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7091280" y="5078520"/>
            <a:ext cx="600120" cy="583920"/>
          </a:xfrm>
          <a:custGeom>
            <a:avLst/>
            <a:gdLst/>
            <a:ahLst/>
            <a:rect l="l" t="t" r="r" b="b"/>
            <a:pathLst>
              <a:path w="264" h="368">
                <a:moveTo>
                  <a:pt x="264" y="0"/>
                </a:moveTo>
                <a:lnTo>
                  <a:pt x="0" y="36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7015320" y="5122800"/>
            <a:ext cx="745920" cy="488880"/>
          </a:xfrm>
          <a:custGeom>
            <a:avLst/>
            <a:gdLst/>
            <a:ahLst/>
            <a:rect l="l" t="t" r="r" b="b"/>
            <a:pathLst>
              <a:path w="328" h="308">
                <a:moveTo>
                  <a:pt x="328" y="0"/>
                </a:moveTo>
                <a:lnTo>
                  <a:pt x="0" y="30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6950160" y="5191200"/>
            <a:ext cx="882720" cy="355680"/>
          </a:xfrm>
          <a:custGeom>
            <a:avLst/>
            <a:gdLst/>
            <a:ahLst/>
            <a:rect l="l" t="t" r="r" b="b"/>
            <a:pathLst>
              <a:path w="388" h="224">
                <a:moveTo>
                  <a:pt x="388" y="0"/>
                </a:moveTo>
                <a:lnTo>
                  <a:pt x="0" y="22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6908760" y="5264280"/>
            <a:ext cx="965160" cy="222120"/>
          </a:xfrm>
          <a:custGeom>
            <a:avLst/>
            <a:gdLst/>
            <a:ahLst/>
            <a:rect l="l" t="t" r="r" b="b"/>
            <a:pathLst>
              <a:path w="424" h="140">
                <a:moveTo>
                  <a:pt x="424" y="0"/>
                </a:moveTo>
                <a:lnTo>
                  <a:pt x="0" y="14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6875640" y="5346720"/>
            <a:ext cx="1019160" cy="50760"/>
          </a:xfrm>
          <a:custGeom>
            <a:avLst/>
            <a:gdLst/>
            <a:ahLst/>
            <a:rect l="l" t="t" r="r" b="b"/>
            <a:pathLst>
              <a:path w="448" h="32">
                <a:moveTo>
                  <a:pt x="448" y="0"/>
                </a:moveTo>
                <a:lnTo>
                  <a:pt x="0" y="3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891480" y="5308560"/>
            <a:ext cx="992160" cy="120600"/>
          </a:xfrm>
          <a:custGeom>
            <a:avLst/>
            <a:gdLst/>
            <a:ahLst/>
            <a:rect l="l" t="t" r="r" b="b"/>
            <a:pathLst>
              <a:path w="436" h="76">
                <a:moveTo>
                  <a:pt x="436" y="76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7321680" y="5761080"/>
            <a:ext cx="1296720" cy="6872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7361280" y="5796000"/>
            <a:ext cx="1209600" cy="61596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7667640" y="5819760"/>
            <a:ext cx="611280" cy="57456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7967520" y="5818320"/>
            <a:ext cx="79560" cy="573120"/>
          </a:xfrm>
          <a:custGeom>
            <a:avLst/>
            <a:gdLst/>
            <a:ahLst/>
            <a:rect l="l" t="t" r="r" b="b"/>
            <a:pathLst>
              <a:path w="1" h="452">
                <a:moveTo>
                  <a:pt x="0" y="0"/>
                </a:moveTo>
                <a:lnTo>
                  <a:pt x="0" y="45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7902720" y="5826240"/>
            <a:ext cx="129960" cy="561960"/>
          </a:xfrm>
          <a:custGeom>
            <a:avLst/>
            <a:gdLst/>
            <a:ahLst/>
            <a:rect l="l" t="t" r="r" b="b"/>
            <a:pathLst>
              <a:path w="82" h="354">
                <a:moveTo>
                  <a:pt x="0" y="0"/>
                </a:moveTo>
                <a:lnTo>
                  <a:pt x="82" y="35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7839000" y="5845320"/>
            <a:ext cx="257400" cy="517320"/>
          </a:xfrm>
          <a:custGeom>
            <a:avLst/>
            <a:gdLst/>
            <a:ahLst/>
            <a:rect l="l" t="t" r="r" b="b"/>
            <a:pathLst>
              <a:path w="162" h="326">
                <a:moveTo>
                  <a:pt x="0" y="0"/>
                </a:moveTo>
                <a:lnTo>
                  <a:pt x="162" y="32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7785000" y="5880240"/>
            <a:ext cx="374760" cy="450720"/>
          </a:xfrm>
          <a:custGeom>
            <a:avLst/>
            <a:gdLst/>
            <a:ahLst/>
            <a:rect l="l" t="t" r="r" b="b"/>
            <a:pathLst>
              <a:path w="236" h="284">
                <a:moveTo>
                  <a:pt x="0" y="0"/>
                </a:moveTo>
                <a:lnTo>
                  <a:pt x="236" y="28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7737480" y="5924520"/>
            <a:ext cx="479520" cy="358920"/>
          </a:xfrm>
          <a:custGeom>
            <a:avLst/>
            <a:gdLst/>
            <a:ahLst/>
            <a:rect l="l" t="t" r="r" b="b"/>
            <a:pathLst>
              <a:path w="302" h="226">
                <a:moveTo>
                  <a:pt x="0" y="0"/>
                </a:moveTo>
                <a:lnTo>
                  <a:pt x="302" y="22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7702560" y="5981760"/>
            <a:ext cx="542880" cy="247680"/>
          </a:xfrm>
          <a:custGeom>
            <a:avLst/>
            <a:gdLst/>
            <a:ahLst/>
            <a:rect l="l" t="t" r="r" b="b"/>
            <a:pathLst>
              <a:path w="342" h="156">
                <a:moveTo>
                  <a:pt x="0" y="0"/>
                </a:moveTo>
                <a:lnTo>
                  <a:pt x="342" y="15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7905600" y="5826240"/>
            <a:ext cx="127080" cy="555480"/>
          </a:xfrm>
          <a:custGeom>
            <a:avLst/>
            <a:gdLst/>
            <a:ahLst/>
            <a:rect l="l" t="t" r="r" b="b"/>
            <a:pathLst>
              <a:path w="80" h="350">
                <a:moveTo>
                  <a:pt x="80" y="0"/>
                </a:moveTo>
                <a:lnTo>
                  <a:pt x="0" y="35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7845480" y="5843520"/>
            <a:ext cx="252360" cy="522360"/>
          </a:xfrm>
          <a:custGeom>
            <a:avLst/>
            <a:gdLst/>
            <a:ahLst/>
            <a:rect l="l" t="t" r="r" b="b"/>
            <a:pathLst>
              <a:path w="159" h="329">
                <a:moveTo>
                  <a:pt x="159" y="0"/>
                </a:moveTo>
                <a:lnTo>
                  <a:pt x="0" y="329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7788240" y="5880240"/>
            <a:ext cx="365040" cy="453960"/>
          </a:xfrm>
          <a:custGeom>
            <a:avLst/>
            <a:gdLst/>
            <a:ahLst/>
            <a:rect l="l" t="t" r="r" b="b"/>
            <a:pathLst>
              <a:path w="230" h="286">
                <a:moveTo>
                  <a:pt x="230" y="0"/>
                </a:moveTo>
                <a:lnTo>
                  <a:pt x="0" y="286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7743960" y="5921280"/>
            <a:ext cx="460080" cy="371520"/>
          </a:xfrm>
          <a:custGeom>
            <a:avLst/>
            <a:gdLst/>
            <a:ahLst/>
            <a:rect l="l" t="t" r="r" b="b"/>
            <a:pathLst>
              <a:path w="290" h="234">
                <a:moveTo>
                  <a:pt x="290" y="0"/>
                </a:moveTo>
                <a:lnTo>
                  <a:pt x="0" y="23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7709040" y="5972040"/>
            <a:ext cx="533160" cy="273240"/>
          </a:xfrm>
          <a:custGeom>
            <a:avLst/>
            <a:gdLst/>
            <a:ahLst/>
            <a:rect l="l" t="t" r="r" b="b"/>
            <a:pathLst>
              <a:path w="336" h="172">
                <a:moveTo>
                  <a:pt x="336" y="0"/>
                </a:moveTo>
                <a:lnTo>
                  <a:pt x="0" y="17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7683480" y="6032520"/>
            <a:ext cx="581040" cy="149040"/>
          </a:xfrm>
          <a:custGeom>
            <a:avLst/>
            <a:gdLst/>
            <a:ahLst/>
            <a:rect l="l" t="t" r="r" b="b"/>
            <a:pathLst>
              <a:path w="366" h="94">
                <a:moveTo>
                  <a:pt x="366" y="0"/>
                </a:moveTo>
                <a:lnTo>
                  <a:pt x="0" y="9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7670880" y="6095880"/>
            <a:ext cx="609480" cy="22320"/>
          </a:xfrm>
          <a:custGeom>
            <a:avLst/>
            <a:gdLst/>
            <a:ahLst/>
            <a:rect l="l" t="t" r="r" b="b"/>
            <a:pathLst>
              <a:path w="384" h="14">
                <a:moveTo>
                  <a:pt x="384" y="0"/>
                </a:moveTo>
                <a:lnTo>
                  <a:pt x="0" y="14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7677000" y="6048360"/>
            <a:ext cx="590760" cy="120600"/>
          </a:xfrm>
          <a:custGeom>
            <a:avLst/>
            <a:gdLst/>
            <a:ahLst/>
            <a:rect l="l" t="t" r="r" b="b"/>
            <a:pathLst>
              <a:path w="372" h="76">
                <a:moveTo>
                  <a:pt x="372" y="76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7140600" y="3952800"/>
            <a:ext cx="1170000" cy="8636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7180200" y="3995640"/>
            <a:ext cx="1090800" cy="773280"/>
          </a:xfrm>
          <a:prstGeom prst="ellipse">
            <a:avLst/>
          </a:prstGeom>
          <a:solidFill>
            <a:srgbClr val="d0f0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7862760" y="4048200"/>
            <a:ext cx="1800" cy="666720"/>
          </a:xfrm>
          <a:custGeom>
            <a:avLst/>
            <a:gdLst/>
            <a:ahLst/>
            <a:rect l="l" t="t" r="r" b="b"/>
            <a:pathLst>
              <a:path w="1" h="420">
                <a:moveTo>
                  <a:pt x="0" y="0"/>
                </a:moveTo>
                <a:lnTo>
                  <a:pt x="0" y="42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7743960" y="4033800"/>
            <a:ext cx="242640" cy="642960"/>
          </a:xfrm>
          <a:custGeom>
            <a:avLst/>
            <a:gdLst/>
            <a:ahLst/>
            <a:rect l="l" t="t" r="r" b="b"/>
            <a:pathLst>
              <a:path w="153" h="405">
                <a:moveTo>
                  <a:pt x="0" y="0"/>
                </a:moveTo>
                <a:lnTo>
                  <a:pt x="76" y="222"/>
                </a:lnTo>
                <a:lnTo>
                  <a:pt x="153" y="405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7805880" y="4033800"/>
            <a:ext cx="118800" cy="666720"/>
          </a:xfrm>
          <a:custGeom>
            <a:avLst/>
            <a:gdLst/>
            <a:ahLst/>
            <a:rect l="l" t="t" r="r" b="b"/>
            <a:pathLst>
              <a:path w="75" h="420">
                <a:moveTo>
                  <a:pt x="0" y="0"/>
                </a:moveTo>
                <a:lnTo>
                  <a:pt x="40" y="225"/>
                </a:lnTo>
                <a:lnTo>
                  <a:pt x="75" y="42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7677000" y="4033800"/>
            <a:ext cx="371520" cy="614520"/>
          </a:xfrm>
          <a:custGeom>
            <a:avLst/>
            <a:gdLst/>
            <a:ahLst/>
            <a:rect l="l" t="t" r="r" b="b"/>
            <a:pathLst>
              <a:path w="234" h="387">
                <a:moveTo>
                  <a:pt x="0" y="0"/>
                </a:moveTo>
                <a:lnTo>
                  <a:pt x="123" y="222"/>
                </a:lnTo>
                <a:lnTo>
                  <a:pt x="234" y="387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7596360" y="4048200"/>
            <a:ext cx="523800" cy="552240"/>
          </a:xfrm>
          <a:custGeom>
            <a:avLst/>
            <a:gdLst/>
            <a:ahLst/>
            <a:rect l="l" t="t" r="r" b="b"/>
            <a:pathLst>
              <a:path w="330" h="348">
                <a:moveTo>
                  <a:pt x="0" y="0"/>
                </a:moveTo>
                <a:lnTo>
                  <a:pt x="171" y="210"/>
                </a:lnTo>
                <a:lnTo>
                  <a:pt x="330" y="34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7515360" y="4071960"/>
            <a:ext cx="666720" cy="461880"/>
          </a:xfrm>
          <a:custGeom>
            <a:avLst/>
            <a:gdLst/>
            <a:ahLst/>
            <a:rect l="l" t="t" r="r" b="b"/>
            <a:pathLst>
              <a:path w="420" h="291">
                <a:moveTo>
                  <a:pt x="0" y="0"/>
                </a:moveTo>
                <a:lnTo>
                  <a:pt x="219" y="195"/>
                </a:lnTo>
                <a:lnTo>
                  <a:pt x="420" y="291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7524720" y="4371840"/>
            <a:ext cx="338040" cy="338400"/>
          </a:xfrm>
          <a:custGeom>
            <a:avLst/>
            <a:gdLst/>
            <a:ahLst/>
            <a:rect l="l" t="t" r="r" b="b"/>
            <a:pathLst>
              <a:path w="213" h="213">
                <a:moveTo>
                  <a:pt x="213" y="0"/>
                </a:moveTo>
                <a:lnTo>
                  <a:pt x="0" y="213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7505640" y="4071960"/>
            <a:ext cx="442800" cy="576360"/>
          </a:xfrm>
          <a:custGeom>
            <a:avLst/>
            <a:gdLst/>
            <a:ahLst/>
            <a:rect l="l" t="t" r="r" b="b"/>
            <a:pathLst>
              <a:path w="279" h="363">
                <a:moveTo>
                  <a:pt x="279" y="0"/>
                </a:moveTo>
                <a:lnTo>
                  <a:pt x="228" y="177"/>
                </a:lnTo>
                <a:lnTo>
                  <a:pt x="0" y="363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7491240" y="4105440"/>
            <a:ext cx="538200" cy="457200"/>
          </a:xfrm>
          <a:custGeom>
            <a:avLst/>
            <a:gdLst/>
            <a:ahLst/>
            <a:rect l="l" t="t" r="r" b="b"/>
            <a:pathLst>
              <a:path w="339" h="288">
                <a:moveTo>
                  <a:pt x="339" y="0"/>
                </a:moveTo>
                <a:lnTo>
                  <a:pt x="231" y="159"/>
                </a:lnTo>
                <a:lnTo>
                  <a:pt x="0" y="28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7481880" y="4133880"/>
            <a:ext cx="615960" cy="352440"/>
          </a:xfrm>
          <a:custGeom>
            <a:avLst/>
            <a:gdLst/>
            <a:ahLst/>
            <a:rect l="l" t="t" r="r" b="b"/>
            <a:pathLst>
              <a:path w="388" h="222">
                <a:moveTo>
                  <a:pt x="388" y="0"/>
                </a:moveTo>
                <a:lnTo>
                  <a:pt x="237" y="141"/>
                </a:lnTo>
                <a:lnTo>
                  <a:pt x="0" y="22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7481880" y="4210200"/>
            <a:ext cx="685800" cy="195120"/>
          </a:xfrm>
          <a:custGeom>
            <a:avLst/>
            <a:gdLst/>
            <a:ahLst/>
            <a:rect l="l" t="t" r="r" b="b"/>
            <a:pathLst>
              <a:path w="432" h="123">
                <a:moveTo>
                  <a:pt x="432" y="0"/>
                </a:moveTo>
                <a:lnTo>
                  <a:pt x="237" y="96"/>
                </a:lnTo>
                <a:lnTo>
                  <a:pt x="0" y="123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7481880" y="4292640"/>
            <a:ext cx="771480" cy="74520"/>
          </a:xfrm>
          <a:custGeom>
            <a:avLst/>
            <a:gdLst/>
            <a:ahLst/>
            <a:rect l="l" t="t" r="r" b="b"/>
            <a:pathLst>
              <a:path w="486" h="47">
                <a:moveTo>
                  <a:pt x="486" y="0"/>
                </a:moveTo>
                <a:lnTo>
                  <a:pt x="240" y="47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7486560" y="4243320"/>
            <a:ext cx="743040" cy="128520"/>
          </a:xfrm>
          <a:custGeom>
            <a:avLst/>
            <a:gdLst/>
            <a:ahLst/>
            <a:rect l="l" t="t" r="r" b="b"/>
            <a:pathLst>
              <a:path w="468" h="81">
                <a:moveTo>
                  <a:pt x="468" y="78"/>
                </a:moveTo>
                <a:lnTo>
                  <a:pt x="240" y="8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7491240" y="4162320"/>
            <a:ext cx="729000" cy="290520"/>
          </a:xfrm>
          <a:custGeom>
            <a:avLst/>
            <a:gdLst/>
            <a:ahLst/>
            <a:rect l="l" t="t" r="r" b="b"/>
            <a:pathLst>
              <a:path w="459" h="183">
                <a:moveTo>
                  <a:pt x="459" y="183"/>
                </a:moveTo>
                <a:lnTo>
                  <a:pt x="240" y="13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7478640" y="4027320"/>
            <a:ext cx="765360" cy="712800"/>
          </a:xfrm>
          <a:custGeom>
            <a:avLst/>
            <a:gdLst/>
            <a:ahLst/>
            <a:rect l="l" t="t" r="r" b="b"/>
            <a:pathLst>
              <a:path w="482" h="449">
                <a:moveTo>
                  <a:pt x="11" y="355"/>
                </a:moveTo>
                <a:cubicBezTo>
                  <a:pt x="7" y="330"/>
                  <a:pt x="4" y="308"/>
                  <a:pt x="2" y="277"/>
                </a:cubicBezTo>
                <a:cubicBezTo>
                  <a:pt x="0" y="246"/>
                  <a:pt x="1" y="201"/>
                  <a:pt x="2" y="169"/>
                </a:cubicBezTo>
                <a:cubicBezTo>
                  <a:pt x="3" y="137"/>
                  <a:pt x="7" y="107"/>
                  <a:pt x="11" y="82"/>
                </a:cubicBezTo>
                <a:cubicBezTo>
                  <a:pt x="15" y="57"/>
                  <a:pt x="14" y="61"/>
                  <a:pt x="26" y="19"/>
                </a:cubicBezTo>
                <a:cubicBezTo>
                  <a:pt x="86" y="7"/>
                  <a:pt x="94" y="2"/>
                  <a:pt x="131" y="1"/>
                </a:cubicBezTo>
                <a:cubicBezTo>
                  <a:pt x="168" y="0"/>
                  <a:pt x="213" y="2"/>
                  <a:pt x="251" y="10"/>
                </a:cubicBezTo>
                <a:cubicBezTo>
                  <a:pt x="289" y="18"/>
                  <a:pt x="329" y="34"/>
                  <a:pt x="362" y="52"/>
                </a:cubicBezTo>
                <a:cubicBezTo>
                  <a:pt x="395" y="70"/>
                  <a:pt x="429" y="92"/>
                  <a:pt x="449" y="121"/>
                </a:cubicBezTo>
                <a:cubicBezTo>
                  <a:pt x="469" y="150"/>
                  <a:pt x="482" y="192"/>
                  <a:pt x="482" y="226"/>
                </a:cubicBezTo>
                <a:cubicBezTo>
                  <a:pt x="482" y="260"/>
                  <a:pt x="467" y="299"/>
                  <a:pt x="446" y="328"/>
                </a:cubicBezTo>
                <a:cubicBezTo>
                  <a:pt x="425" y="357"/>
                  <a:pt x="390" y="382"/>
                  <a:pt x="359" y="400"/>
                </a:cubicBezTo>
                <a:cubicBezTo>
                  <a:pt x="328" y="418"/>
                  <a:pt x="295" y="428"/>
                  <a:pt x="260" y="436"/>
                </a:cubicBezTo>
                <a:cubicBezTo>
                  <a:pt x="225" y="444"/>
                  <a:pt x="185" y="449"/>
                  <a:pt x="146" y="448"/>
                </a:cubicBezTo>
                <a:cubicBezTo>
                  <a:pt x="107" y="447"/>
                  <a:pt x="48" y="443"/>
                  <a:pt x="26" y="427"/>
                </a:cubicBezTo>
                <a:cubicBezTo>
                  <a:pt x="17" y="379"/>
                  <a:pt x="15" y="379"/>
                  <a:pt x="11" y="355"/>
                </a:cubicBezTo>
                <a:close/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7610400" y="4376880"/>
            <a:ext cx="257400" cy="352440"/>
          </a:xfrm>
          <a:custGeom>
            <a:avLst/>
            <a:gdLst/>
            <a:ahLst/>
            <a:rect l="l" t="t" r="r" b="b"/>
            <a:pathLst>
              <a:path w="162" h="222">
                <a:moveTo>
                  <a:pt x="162" y="0"/>
                </a:moveTo>
                <a:lnTo>
                  <a:pt x="0" y="222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7701120" y="4371840"/>
            <a:ext cx="166680" cy="362160"/>
          </a:xfrm>
          <a:custGeom>
            <a:avLst/>
            <a:gdLst/>
            <a:ahLst/>
            <a:rect l="l" t="t" r="r" b="b"/>
            <a:pathLst>
              <a:path w="105" h="228">
                <a:moveTo>
                  <a:pt x="105" y="0"/>
                </a:moveTo>
                <a:lnTo>
                  <a:pt x="0" y="22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7786800" y="4371840"/>
            <a:ext cx="85680" cy="362160"/>
          </a:xfrm>
          <a:custGeom>
            <a:avLst/>
            <a:gdLst/>
            <a:ahLst/>
            <a:rect l="l" t="t" r="r" b="b"/>
            <a:pathLst>
              <a:path w="54" h="228">
                <a:moveTo>
                  <a:pt x="54" y="0"/>
                </a:moveTo>
                <a:lnTo>
                  <a:pt x="0" y="228"/>
                </a:ln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7788240" y="4192560"/>
            <a:ext cx="7164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6493320" y="1827360"/>
            <a:ext cx="402480" cy="30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310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310486"/>
              </a:path>
            </a:pathLst>
          </a:custGeom>
          <a:noFill/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885080" y="1887480"/>
            <a:ext cx="0" cy="25236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8" dur="indefinite" restart="never" nodeType="tmRoot">
          <p:childTnLst>
            <p:seq>
              <p:cTn id="11879" dur="indefinite" nodeType="mainSeq">
                <p:childTnLst>
                  <p:par>
                    <p:cTn id="11880" fill="hold">
                      <p:stCondLst>
                        <p:cond delay="0"/>
                      </p:stCondLst>
                      <p:childTnLst>
                        <p:par>
                          <p:cTn id="11881" fill="hold">
                            <p:stCondLst>
                              <p:cond delay="0"/>
                            </p:stCondLst>
                            <p:childTnLst>
                              <p:par>
                                <p:cTn id="118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4" dur="500"/>
                                        <p:tgtEl>
                                          <p:spTgt spid="2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5" fill="hold">
                      <p:stCondLst>
                        <p:cond delay="indefinite"/>
                      </p:stCondLst>
                      <p:childTnLst>
                        <p:par>
                          <p:cTn id="11886" fill="hold">
                            <p:stCondLst>
                              <p:cond delay="0"/>
                            </p:stCondLst>
                            <p:childTnLst>
                              <p:par>
                                <p:cTn id="118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9" dur="10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92" dur="1000"/>
                                        <p:tgtEl>
                                          <p:spTgt spid="2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95" dur="10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98" dur="10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01" dur="10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2" fill="hold">
                      <p:stCondLst>
                        <p:cond delay="indefinite"/>
                      </p:stCondLst>
                      <p:childTnLst>
                        <p:par>
                          <p:cTn id="11903" fill="hold">
                            <p:stCondLst>
                              <p:cond delay="0"/>
                            </p:stCondLst>
                            <p:childTnLst>
                              <p:par>
                                <p:cTn id="11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6" dur="1000"/>
                                        <p:tgtEl>
                                          <p:spTgt spid="30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7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8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1" dur="10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2" dur="1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3" dur="10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6" dur="10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7" dur="10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8" dur="10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1" dur="1000"/>
                                        <p:tgtEl>
                                          <p:spTgt spid="3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2" dur="1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3" dur="10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6" dur="10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7" dur="10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8" dur="10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1" dur="1000"/>
                                        <p:tgtEl>
                                          <p:spTgt spid="3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2" dur="10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3" dur="10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6" dur="1000"/>
                                        <p:tgtEl>
                                          <p:spTgt spid="3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7" dur="10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8" dur="10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1" dur="1000"/>
                                        <p:tgtEl>
                                          <p:spTgt spid="3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2" dur="10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3" dur="10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7" dur="10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50" dur="10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53" dur="10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56" dur="10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7" fill="hold">
                      <p:stCondLst>
                        <p:cond delay="indefinite"/>
                      </p:stCondLst>
                      <p:childTnLst>
                        <p:par>
                          <p:cTn id="11958" fill="hold">
                            <p:stCondLst>
                              <p:cond delay="0"/>
                            </p:stCondLst>
                            <p:childTnLst>
                              <p:par>
                                <p:cTn id="119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60" dur="10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63" dur="1000"/>
                                        <p:tgtEl>
                                          <p:spTgt spid="2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67" dur="10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0" dur="10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3" dur="10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76" dur="10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7" fill="hold">
                      <p:stCondLst>
                        <p:cond delay="indefinite"/>
                      </p:stCondLst>
                      <p:childTnLst>
                        <p:par>
                          <p:cTn id="11978" fill="hold">
                            <p:stCondLst>
                              <p:cond delay="0"/>
                            </p:stCondLst>
                            <p:childTnLst>
                              <p:par>
                                <p:cTn id="119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0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3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6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89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93" dur="10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96" dur="10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99" dur="10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2" dur="10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3" fill="hold">
                      <p:stCondLst>
                        <p:cond delay="indefinite"/>
                      </p:stCondLst>
                      <p:childTnLst>
                        <p:par>
                          <p:cTn id="12004" fill="hold">
                            <p:stCondLst>
                              <p:cond delay="0"/>
                            </p:stCondLst>
                            <p:childTnLst>
                              <p:par>
                                <p:cTn id="12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06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09" dur="500"/>
                                        <p:tgtEl>
                                          <p:spTgt spid="3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2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1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19" dur="1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2" dur="1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5" dur="10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28" dur="10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9" fill="hold">
                      <p:stCondLst>
                        <p:cond delay="indefinite"/>
                      </p:stCondLst>
                      <p:childTnLst>
                        <p:par>
                          <p:cTn id="12030" fill="hold">
                            <p:stCondLst>
                              <p:cond delay="0"/>
                            </p:stCondLst>
                            <p:childTnLst>
                              <p:par>
                                <p:cTn id="120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2" dur="1000"/>
                                        <p:tgtEl>
                                          <p:spTgt spid="3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5" dur="1000"/>
                                        <p:tgtEl>
                                          <p:spTgt spid="3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38" dur="10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41" dur="10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45" dur="10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48" dur="10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1" dur="10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4" dur="10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5" fill="hold">
                      <p:stCondLst>
                        <p:cond delay="indefinite"/>
                      </p:stCondLst>
                      <p:childTnLst>
                        <p:par>
                          <p:cTn id="12056" fill="hold">
                            <p:stCondLst>
                              <p:cond delay="0"/>
                            </p:stCondLst>
                            <p:childTnLst>
                              <p:par>
                                <p:cTn id="120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59" dur="10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2" dur="10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5" dur="10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8" dur="1000"/>
                                        <p:tgtEl>
                                          <p:spTgt spid="3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1" dur="10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4" dur="1000"/>
                                        <p:tgtEl>
                                          <p:spTgt spid="3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8" dur="1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9" dur="1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0" dur="10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3" dur="10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4" dur="10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5" dur="1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8" dur="1000" fill="hold"/>
                                        <p:tgtEl>
                                          <p:spTgt spid="3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9" dur="1000" fill="hold"/>
                                        <p:tgtEl>
                                          <p:spTgt spid="3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0" dur="1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3" dur="10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4" dur="10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5" dur="1000"/>
                                        <p:tgtEl>
                                          <p:spTgt spid="3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6" fill="hold">
                      <p:stCondLst>
                        <p:cond delay="indefinite"/>
                      </p:stCondLst>
                      <p:childTnLst>
                        <p:par>
                          <p:cTn id="12097" fill="hold">
                            <p:stCondLst>
                              <p:cond delay="0"/>
                            </p:stCondLst>
                            <p:childTnLst>
                              <p:par>
                                <p:cTn id="120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0" dur="10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1" dur="1000" fill="hold"/>
                                        <p:tgtEl>
                                          <p:spTgt spid="3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2" dur="1000"/>
                                        <p:tgtEl>
                                          <p:spTgt spid="3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5" dur="1000" fill="hold"/>
                                        <p:tgtEl>
                                          <p:spTgt spid="3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6" dur="1000" fill="hold"/>
                                        <p:tgtEl>
                                          <p:spTgt spid="3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7" dur="10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1" dur="10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4" dur="10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7" dur="10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1" dur="1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2" dur="1000" fill="hold"/>
                                        <p:tgtEl>
                                          <p:spTgt spid="3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3" dur="10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6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7" dur="1000" fill="hold"/>
                                        <p:tgtEl>
                                          <p:spTgt spid="3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8" dur="10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9" fill="hold">
                      <p:stCondLst>
                        <p:cond delay="indefinite"/>
                      </p:stCondLst>
                      <p:childTnLst>
                        <p:par>
                          <p:cTn id="12130" fill="hold">
                            <p:stCondLst>
                              <p:cond delay="0"/>
                            </p:stCondLst>
                            <p:childTnLst>
                              <p:par>
                                <p:cTn id="1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3" dur="1000" fill="hold"/>
                                        <p:tgtEl>
                                          <p:spTgt spid="3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4" dur="1000" fill="hold"/>
                                        <p:tgtEl>
                                          <p:spTgt spid="3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35" dur="10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8" dur="1000" fill="hold"/>
                                        <p:tgtEl>
                                          <p:spTgt spid="3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9" dur="1000" fill="hold"/>
                                        <p:tgtEl>
                                          <p:spTgt spid="3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0" dur="10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44" dur="10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8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9" dur="1000" fill="hold"/>
                                        <p:tgtEl>
                                          <p:spTgt spid="3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0" dur="10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3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4" dur="10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5" dur="10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6" fill="hold">
                      <p:stCondLst>
                        <p:cond delay="indefinite"/>
                      </p:stCondLst>
                      <p:childTnLst>
                        <p:par>
                          <p:cTn id="12157" fill="hold">
                            <p:stCondLst>
                              <p:cond delay="0"/>
                            </p:stCondLst>
                            <p:childTnLst>
                              <p:par>
                                <p:cTn id="12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0" dur="80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61" dur="80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2" dur="80"/>
                                        <p:tgtEl>
                                          <p:spTgt spid="30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3" fill="hold">
                            <p:stCondLst>
                              <p:cond delay="1040"/>
                            </p:stCondLst>
                            <p:childTnLst>
                              <p:par>
                                <p:cTn id="12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6" dur="10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7" dur="10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68" dur="10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71" dur="10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2" fill="hold">
                            <p:stCondLst>
                              <p:cond delay="2040"/>
                            </p:stCondLst>
                            <p:childTnLst>
                              <p:par>
                                <p:cTn id="1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75" dur="10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78" dur="10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1" dur="1000"/>
                                        <p:tgtEl>
                                          <p:spTgt spid="3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84" dur="1000"/>
                                        <p:tgtEl>
                                          <p:spTgt spid="3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5" fill="hold">
                      <p:stCondLst>
                        <p:cond delay="indefinite"/>
                      </p:stCondLst>
                      <p:childTnLst>
                        <p:par>
                          <p:cTn id="12186" fill="hold">
                            <p:stCondLst>
                              <p:cond delay="0"/>
                            </p:stCondLst>
                            <p:childTnLst>
                              <p:par>
                                <p:cTn id="12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89" dur="1000"/>
                                        <p:tgtEl>
                                          <p:spTgt spid="3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2" dur="10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5" dur="1000"/>
                                        <p:tgtEl>
                                          <p:spTgt spid="3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8" dur="1000"/>
                                        <p:tgtEl>
                                          <p:spTgt spid="3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1" dur="1000"/>
                                        <p:tgtEl>
                                          <p:spTgt spid="3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4" dur="1000"/>
                                        <p:tgtEl>
                                          <p:spTgt spid="3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8" dur="10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1" dur="10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5" dur="10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6" fill="hold">
                      <p:stCondLst>
                        <p:cond delay="indefinite"/>
                      </p:stCondLst>
                      <p:childTnLst>
                        <p:par>
                          <p:cTn id="12217" fill="hold">
                            <p:stCondLst>
                              <p:cond delay="0"/>
                            </p:stCondLst>
                            <p:childTnLst>
                              <p:par>
                                <p:cTn id="12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0" dur="1000" fill="hold"/>
                                        <p:tgtEl>
                                          <p:spTgt spid="3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1" dur="1000" fill="hold"/>
                                        <p:tgtEl>
                                          <p:spTgt spid="3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2" dur="10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5" dur="10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6" dur="1000" fill="hold"/>
                                        <p:tgtEl>
                                          <p:spTgt spid="3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7" dur="10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1" dur="10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4" dur="1000"/>
                                        <p:tgtEl>
                                          <p:spTgt spid="3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7" dur="1000"/>
                                        <p:tgtEl>
                                          <p:spTgt spid="3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0" dur="1000"/>
                                        <p:tgtEl>
                                          <p:spTgt spid="3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3" dur="10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6" dur="10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9" dur="10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0" fill="hold">
                      <p:stCondLst>
                        <p:cond delay="indefinite"/>
                      </p:stCondLst>
                      <p:childTnLst>
                        <p:par>
                          <p:cTn id="12251" fill="hold">
                            <p:stCondLst>
                              <p:cond delay="0"/>
                            </p:stCondLst>
                            <p:childTnLst>
                              <p:par>
                                <p:cTn id="12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54" dur="80"/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5" dur="80"/>
                                        <p:tgtEl>
                                          <p:spTgt spid="30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6" dur="80"/>
                                        <p:tgtEl>
                                          <p:spTgt spid="30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59" dur="1000"/>
                                        <p:tgtEl>
                                          <p:spTgt spid="3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3" dur="1000" fill="hold"/>
                                        <p:tgtEl>
                                          <p:spTgt spid="3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4" dur="1000" fill="hold"/>
                                        <p:tgtEl>
                                          <p:spTgt spid="3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5" dur="10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9" dur="1000"/>
                                        <p:tgtEl>
                                          <p:spTgt spid="3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2" dur="10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5" dur="1000"/>
                                        <p:tgtEl>
                                          <p:spTgt spid="3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78" dur="1000"/>
                                        <p:tgtEl>
                                          <p:spTgt spid="3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1" dur="1000"/>
                                        <p:tgtEl>
                                          <p:spTgt spid="3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84" dur="10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5" fill="hold">
                      <p:stCondLst>
                        <p:cond delay="indefinite"/>
                      </p:stCondLst>
                      <p:childTnLst>
                        <p:par>
                          <p:cTn id="12286" fill="hold">
                            <p:stCondLst>
                              <p:cond delay="0"/>
                            </p:stCondLst>
                            <p:childTnLst>
                              <p:par>
                                <p:cTn id="12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9" dur="80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0" dur="80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1" dur="80"/>
                                        <p:tgtEl>
                                          <p:spTgt spid="30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2" fill="hold">
                            <p:stCondLst>
                              <p:cond delay="1760"/>
                            </p:stCondLst>
                            <p:childTnLst>
                              <p:par>
                                <p:cTn id="12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5" dur="1000" fill="hold"/>
                                        <p:tgtEl>
                                          <p:spTgt spid="3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6" dur="1000" fill="hold"/>
                                        <p:tgtEl>
                                          <p:spTgt spid="3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97" dur="10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8" fill="hold">
                            <p:stCondLst>
                              <p:cond delay="2760"/>
                            </p:stCondLst>
                            <p:childTnLst>
                              <p:par>
                                <p:cTn id="122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1" dur="80"/>
                                        <p:tgtEl>
                                          <p:spTgt spid="3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2" dur="80"/>
                                        <p:tgtEl>
                                          <p:spTgt spid="3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3" dur="80"/>
                                        <p:tgtEl>
                                          <p:spTgt spid="3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4" fill="hold">
                      <p:stCondLst>
                        <p:cond delay="indefinite"/>
                      </p:stCondLst>
                      <p:childTnLst>
                        <p:par>
                          <p:cTn id="12305" fill="hold">
                            <p:stCondLst>
                              <p:cond delay="0"/>
                            </p:stCondLst>
                            <p:childTnLst>
                              <p:par>
                                <p:cTn id="12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8" dur="10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9" dur="1000" fill="hold"/>
                                        <p:tgtEl>
                                          <p:spTgt spid="3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0" dur="1000" fill="hold"/>
                                        <p:tgtEl>
                                          <p:spTgt spid="3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4" dur="10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5" dur="10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6" dur="10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9" dur="1000" fill="hold"/>
                                        <p:tgtEl>
                                          <p:spTgt spid="3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0" dur="1000" fill="hold"/>
                                        <p:tgtEl>
                                          <p:spTgt spid="3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1" dur="10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5" dur="10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6" dur="10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7" dur="1000" fill="hold"/>
                                        <p:tgtEl>
                                          <p:spTgt spid="3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0" dur="10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1" dur="1000" fill="hold"/>
                                        <p:tgtEl>
                                          <p:spTgt spid="3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2" dur="1000" fill="hold"/>
                                        <p:tgtEl>
                                          <p:spTgt spid="3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5" dur="10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6" dur="1000" fill="hold"/>
                                        <p:tgtEl>
                                          <p:spTgt spid="3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7" dur="1000" fill="hold"/>
                                        <p:tgtEl>
                                          <p:spTgt spid="3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0" dur="10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1" dur="10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2" dur="1000" fill="hold"/>
                                        <p:tgtEl>
                                          <p:spTgt spid="3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5" dur="10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6" dur="10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7" dur="10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0" dur="10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1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2" dur="10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5" dur="10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6" dur="1000" fill="hold"/>
                                        <p:tgtEl>
                                          <p:spTgt spid="3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7" dur="1000" fill="hold"/>
                                        <p:tgtEl>
                                          <p:spTgt spid="3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0" dur="10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1" dur="10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2" dur="10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3" fill="hold">
                      <p:stCondLst>
                        <p:cond delay="indefinite"/>
                      </p:stCondLst>
                      <p:childTnLst>
                        <p:par>
                          <p:cTn id="12364" fill="hold">
                            <p:stCondLst>
                              <p:cond delay="0"/>
                            </p:stCondLst>
                            <p:childTnLst>
                              <p:par>
                                <p:cTn id="12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7" dur="1000" fill="hold"/>
                                        <p:tgtEl>
                                          <p:spTgt spid="3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8" dur="1000" fill="hold"/>
                                        <p:tgtEl>
                                          <p:spTgt spid="3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9" dur="10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2" dur="1000" fill="hold"/>
                                        <p:tgtEl>
                                          <p:spTgt spid="3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3" dur="1000" fill="hold"/>
                                        <p:tgtEl>
                                          <p:spTgt spid="3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4" dur="10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8" dur="10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9" dur="1000" fill="hold"/>
                                        <p:tgtEl>
                                          <p:spTgt spid="3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0" dur="1000"/>
                                        <p:tgtEl>
                                          <p:spTgt spid="3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3" dur="1000" fill="hold"/>
                                        <p:tgtEl>
                                          <p:spTgt spid="3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4" dur="1000" fill="hold"/>
                                        <p:tgtEl>
                                          <p:spTgt spid="3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5" dur="10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9" dur="1000" fill="hold"/>
                                        <p:tgtEl>
                                          <p:spTgt spid="3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0" dur="1000" fill="hold"/>
                                        <p:tgtEl>
                                          <p:spTgt spid="3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1" dur="10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4" dur="10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5" dur="10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6" dur="10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7" fill="hold">
                      <p:stCondLst>
                        <p:cond delay="indefinite"/>
                      </p:stCondLst>
                      <p:childTnLst>
                        <p:par>
                          <p:cTn id="12398" fill="hold">
                            <p:stCondLst>
                              <p:cond delay="0"/>
                            </p:stCondLst>
                            <p:childTnLst>
                              <p:par>
                                <p:cTn id="12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1" dur="20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05" dur="10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08" dur="10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9" fill="hold">
                      <p:stCondLst>
                        <p:cond delay="indefinite"/>
                      </p:stCondLst>
                      <p:childTnLst>
                        <p:par>
                          <p:cTn id="12410" fill="hold">
                            <p:stCondLst>
                              <p:cond delay="0"/>
                            </p:stCondLst>
                            <p:childTnLst>
                              <p:par>
                                <p:cTn id="12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3" dur="10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4" dur="10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5" dur="1000" fill="hold"/>
                                        <p:tgtEl>
                                          <p:spTgt spid="3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19" dur="1000"/>
                                        <p:tgtEl>
                                          <p:spTgt spid="3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22" dur="10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6" dur="20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7" fill="hold">
                      <p:stCondLst>
                        <p:cond delay="indefinite"/>
                      </p:stCondLst>
                      <p:childTnLst>
                        <p:par>
                          <p:cTn id="12428" fill="hold">
                            <p:stCondLst>
                              <p:cond delay="0"/>
                            </p:stCondLst>
                            <p:childTnLst>
                              <p:par>
                                <p:cTn id="12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31" dur="2000"/>
                                        <p:tgtEl>
                                          <p:spTgt spid="3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5" dur="1000"/>
                                        <p:tgtEl>
                                          <p:spTgt spid="3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8" dur="1000"/>
                                        <p:tgtEl>
                                          <p:spTgt spid="3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42" dur="1000"/>
                                        <p:tgtEl>
                                          <p:spTgt spid="3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45" dur="10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6" fill="hold">
                      <p:stCondLst>
                        <p:cond delay="indefinite"/>
                      </p:stCondLst>
                      <p:childTnLst>
                        <p:par>
                          <p:cTn id="12447" fill="hold">
                            <p:stCondLst>
                              <p:cond delay="0"/>
                            </p:stCondLst>
                            <p:childTnLst>
                              <p:par>
                                <p:cTn id="12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50" dur="10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53" dur="10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4" fill="hold">
                      <p:stCondLst>
                        <p:cond delay="indefinite"/>
                      </p:stCondLst>
                      <p:childTnLst>
                        <p:par>
                          <p:cTn id="12455" fill="hold">
                            <p:stCondLst>
                              <p:cond delay="0"/>
                            </p:stCondLst>
                            <p:childTnLst>
                              <p:par>
                                <p:cTn id="124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58" dur="1000"/>
                                        <p:tgtEl>
                                          <p:spTgt spid="3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61" dur="10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64" dur="10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67" dur="1000"/>
                                        <p:tgtEl>
                                          <p:spTgt spid="3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71" dur="20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2" fill="hold">
                      <p:stCondLst>
                        <p:cond delay="indefinite"/>
                      </p:stCondLst>
                      <p:childTnLst>
                        <p:par>
                          <p:cTn id="12473" fill="hold">
                            <p:stCondLst>
                              <p:cond delay="0"/>
                            </p:stCondLst>
                            <p:childTnLst>
                              <p:par>
                                <p:cTn id="12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76" dur="10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0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1" dur="1000" fill="hold"/>
                                        <p:tgtEl>
                                          <p:spTgt spid="3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2" dur="10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86" dur="20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7" fill="hold">
                      <p:stCondLst>
                        <p:cond delay="indefinite"/>
                      </p:stCondLst>
                      <p:childTnLst>
                        <p:par>
                          <p:cTn id="12488" fill="hold">
                            <p:stCondLst>
                              <p:cond delay="0"/>
                            </p:stCondLst>
                            <p:childTnLst>
                              <p:par>
                                <p:cTn id="12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1" dur="10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4" dur="10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8" dur="20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9" fill="hold">
                      <p:stCondLst>
                        <p:cond delay="indefinite"/>
                      </p:stCondLst>
                      <p:childTnLst>
                        <p:par>
                          <p:cTn id="12500" fill="hold">
                            <p:stCondLst>
                              <p:cond delay="0"/>
                            </p:stCondLst>
                            <p:childTnLst>
                              <p:par>
                                <p:cTn id="12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03" dur="1000"/>
                                        <p:tgtEl>
                                          <p:spTgt spid="3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07" dur="20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8" fill="hold">
                      <p:stCondLst>
                        <p:cond delay="indefinite"/>
                      </p:stCondLst>
                      <p:childTnLst>
                        <p:par>
                          <p:cTn id="12509" fill="hold">
                            <p:stCondLst>
                              <p:cond delay="0"/>
                            </p:stCondLst>
                            <p:childTnLst>
                              <p:par>
                                <p:cTn id="12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12" dur="20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15" dur="2000"/>
                                        <p:tgtEl>
                                          <p:spTgt spid="3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6" fill="hold">
                      <p:stCondLst>
                        <p:cond delay="indefinite"/>
                      </p:stCondLst>
                      <p:childTnLst>
                        <p:par>
                          <p:cTn id="12517" fill="hold">
                            <p:stCondLst>
                              <p:cond delay="0"/>
                            </p:stCondLst>
                            <p:childTnLst>
                              <p:par>
                                <p:cTn id="12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20" dur="20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4" dur="1000"/>
                                        <p:tgtEl>
                                          <p:spTgt spid="3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27" dur="10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8" fill="hold">
                      <p:stCondLst>
                        <p:cond delay="indefinite"/>
                      </p:stCondLst>
                      <p:childTnLst>
                        <p:par>
                          <p:cTn id="12529" fill="hold">
                            <p:stCondLst>
                              <p:cond delay="0"/>
                            </p:stCondLst>
                            <p:childTnLst>
                              <p:par>
                                <p:cTn id="12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2" dur="1000"/>
                                        <p:tgtEl>
                                          <p:spTgt spid="3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3" dur="10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4" dur="1000" fill="hold"/>
                                        <p:tgtEl>
                                          <p:spTgt spid="3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38" dur="10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41" dur="1000"/>
                                        <p:tgtEl>
                                          <p:spTgt spid="3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44" dur="10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47" dur="10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51" dur="20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2" fill="hold">
                      <p:stCondLst>
                        <p:cond delay="indefinite"/>
                      </p:stCondLst>
                      <p:childTnLst>
                        <p:par>
                          <p:cTn id="12553" fill="hold">
                            <p:stCondLst>
                              <p:cond delay="0"/>
                            </p:stCondLst>
                            <p:childTnLst>
                              <p:par>
                                <p:cTn id="12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56" dur="20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60" dur="1000"/>
                                        <p:tgtEl>
                                          <p:spTgt spid="3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63" dur="10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67" dur="10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70" dur="10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73" dur="1000"/>
                                        <p:tgtEl>
                                          <p:spTgt spid="3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76" dur="10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80" dur="20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1" fill="hold">
                      <p:stCondLst>
                        <p:cond delay="indefinite"/>
                      </p:stCondLst>
                      <p:childTnLst>
                        <p:par>
                          <p:cTn id="12582" fill="hold">
                            <p:stCondLst>
                              <p:cond delay="0"/>
                            </p:stCondLst>
                            <p:childTnLst>
                              <p:par>
                                <p:cTn id="12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85" dur="20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89" dur="1000"/>
                                        <p:tgtEl>
                                          <p:spTgt spid="3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92" dur="10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3" fill="hold">
                      <p:stCondLst>
                        <p:cond delay="indefinite"/>
                      </p:stCondLst>
                      <p:childTnLst>
                        <p:par>
                          <p:cTn id="12594" fill="hold">
                            <p:stCondLst>
                              <p:cond delay="0"/>
                            </p:stCondLst>
                            <p:childTnLst>
                              <p:par>
                                <p:cTn id="12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7" dur="10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8" dur="1000" fill="hold"/>
                                        <p:tgtEl>
                                          <p:spTgt spid="3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9" dur="1000" fill="hold"/>
                                        <p:tgtEl>
                                          <p:spTgt spid="3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03" dur="10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06" dur="10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09" dur="1000"/>
                                        <p:tgtEl>
                                          <p:spTgt spid="3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12" dur="10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15" dur="1000"/>
                                        <p:tgtEl>
                                          <p:spTgt spid="3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18" dur="1000"/>
                                        <p:tgtEl>
                                          <p:spTgt spid="3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1" dur="1000"/>
                                        <p:tgtEl>
                                          <p:spTgt spid="3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4" dur="1000"/>
                                        <p:tgtEl>
                                          <p:spTgt spid="3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7" dur="10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0" dur="10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3" dur="1000"/>
                                        <p:tgtEl>
                                          <p:spTgt spid="3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6" dur="1000"/>
                                        <p:tgtEl>
                                          <p:spTgt spid="3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9" dur="1000"/>
                                        <p:tgtEl>
                                          <p:spTgt spid="3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2" dur="1000"/>
                                        <p:tgtEl>
                                          <p:spTgt spid="3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5" dur="1000"/>
                                        <p:tgtEl>
                                          <p:spTgt spid="3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48" dur="1000"/>
                                        <p:tgtEl>
                                          <p:spTgt spid="3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52" dur="2000"/>
                                        <p:tgtEl>
                                          <p:spTgt spid="3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3" fill="hold">
                      <p:stCondLst>
                        <p:cond delay="indefinite"/>
                      </p:stCondLst>
                      <p:childTnLst>
                        <p:par>
                          <p:cTn id="12654" fill="hold">
                            <p:stCondLst>
                              <p:cond delay="0"/>
                            </p:stCondLst>
                            <p:childTnLst>
                              <p:par>
                                <p:cTn id="126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57" dur="20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1" dur="1000"/>
                                        <p:tgtEl>
                                          <p:spTgt spid="3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4" dur="1000"/>
                                        <p:tgtEl>
                                          <p:spTgt spid="3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68" dur="1000"/>
                                        <p:tgtEl>
                                          <p:spTgt spid="3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1" dur="10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4" dur="10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7" dur="1000"/>
                                        <p:tgtEl>
                                          <p:spTgt spid="3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0" dur="10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3" dur="1000"/>
                                        <p:tgtEl>
                                          <p:spTgt spid="3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6" dur="1000"/>
                                        <p:tgtEl>
                                          <p:spTgt spid="3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89" dur="1000"/>
                                        <p:tgtEl>
                                          <p:spTgt spid="3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2" dur="10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5" dur="10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98" dur="10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01" dur="10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04" dur="10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07" dur="10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8" fill="hold">
                      <p:stCondLst>
                        <p:cond delay="indefinite"/>
                      </p:stCondLst>
                      <p:childTnLst>
                        <p:par>
                          <p:cTn id="12709" fill="hold">
                            <p:stCondLst>
                              <p:cond delay="0"/>
                            </p:stCondLst>
                            <p:childTnLst>
                              <p:par>
                                <p:cTn id="127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12" dur="10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15" dur="1000"/>
                                        <p:tgtEl>
                                          <p:spTgt spid="3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19" dur="10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22" dur="10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25" dur="10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28" dur="10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31" dur="10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34" dur="10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37" dur="10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40" dur="10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43" dur="10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46" dur="10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49" dur="10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52" dur="1000"/>
                                        <p:tgtEl>
                                          <p:spTgt spid="3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55" dur="10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58" dur="10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62" dur="10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3" fill="hold">
                      <p:stCondLst>
                        <p:cond delay="indefinite"/>
                      </p:stCondLst>
                      <p:childTnLst>
                        <p:par>
                          <p:cTn id="12764" fill="hold">
                            <p:stCondLst>
                              <p:cond delay="0"/>
                            </p:stCondLst>
                            <p:childTnLst>
                              <p:par>
                                <p:cTn id="127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67" dur="20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71" dur="10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74" dur="10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5" fill="hold">
                      <p:stCondLst>
                        <p:cond delay="indefinite"/>
                      </p:stCondLst>
                      <p:childTnLst>
                        <p:par>
                          <p:cTn id="127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9" dur="10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0" dur="10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1" dur="10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85" dur="10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88" dur="10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91" dur="10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94" dur="10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97" dur="10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0" dur="10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3" dur="10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6" dur="10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09" dur="10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12" dur="10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15" dur="10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18" dur="1000"/>
                                        <p:tgtEl>
                                          <p:spTgt spid="3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21" dur="10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24" dur="10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27" dur="1000"/>
                                        <p:tgtEl>
                                          <p:spTgt spid="3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30" dur="1000"/>
                                        <p:tgtEl>
                                          <p:spTgt spid="3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33" dur="1000"/>
                                        <p:tgtEl>
                                          <p:spTgt spid="3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37" dur="20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8" fill="hold">
                      <p:stCondLst>
                        <p:cond delay="indefinite"/>
                      </p:stCondLst>
                      <p:childTnLst>
                        <p:par>
                          <p:cTn id="12839" fill="hold">
                            <p:stCondLst>
                              <p:cond delay="0"/>
                            </p:stCondLst>
                            <p:childTnLst>
                              <p:par>
                                <p:cTn id="12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42" dur="20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46" dur="10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49" dur="10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3" dur="10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6" dur="10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9" dur="10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62" dur="1000"/>
                                        <p:tgtEl>
                                          <p:spTgt spid="3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65" dur="1000"/>
                                        <p:tgtEl>
                                          <p:spTgt spid="3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68" dur="10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71" dur="10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74" dur="1000"/>
                                        <p:tgtEl>
                                          <p:spTgt spid="3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77" dur="10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0" dur="10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3" dur="1000"/>
                                        <p:tgtEl>
                                          <p:spTgt spid="3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6" dur="1000"/>
                                        <p:tgtEl>
                                          <p:spTgt spid="3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89" dur="10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2" dur="10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96" dur="20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7" fill="hold">
                      <p:stCondLst>
                        <p:cond delay="indefinite"/>
                      </p:stCondLst>
                      <p:childTnLst>
                        <p:par>
                          <p:cTn id="12898" fill="hold">
                            <p:stCondLst>
                              <p:cond delay="0"/>
                            </p:stCondLst>
                            <p:childTnLst>
                              <p:par>
                                <p:cTn id="12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01" dur="10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04" dur="1000"/>
                                        <p:tgtEl>
                                          <p:spTgt spid="3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08" dur="10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11" dur="1000"/>
                                        <p:tgtEl>
                                          <p:spTgt spid="3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14" dur="1000"/>
                                        <p:tgtEl>
                                          <p:spTgt spid="3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17" dur="10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0" dur="1000"/>
                                        <p:tgtEl>
                                          <p:spTgt spid="3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3" dur="1000"/>
                                        <p:tgtEl>
                                          <p:spTgt spid="3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6" dur="1000"/>
                                        <p:tgtEl>
                                          <p:spTgt spid="3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29" dur="1000"/>
                                        <p:tgtEl>
                                          <p:spTgt spid="3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32" dur="1000"/>
                                        <p:tgtEl>
                                          <p:spTgt spid="3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35" dur="10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38" dur="10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1" dur="10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4" dur="1000"/>
                                        <p:tgtEl>
                                          <p:spTgt spid="3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47" dur="10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51" dur="20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2268360" y="85896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едельное равновесие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755640" y="1208160"/>
            <a:ext cx="75614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предельной нагрузки (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а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нем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37960" y="1751040"/>
            <a:ext cx="48625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равнение баланса работы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энергии диссипации в пластических шарни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008680" y="1824120"/>
                <a:ext cx="1079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6216480" y="1911240"/>
                <a:ext cx="266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;  </m:t>
                    </m:r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250920" y="3133800"/>
            <a:ext cx="3384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кинематической теореме ТП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6" name=""/>
              <p:cNvSpPr txBox="1"/>
              <p:nvPr/>
            </p:nvSpPr>
            <p:spPr>
              <a:xfrm>
                <a:off x="3608280" y="2916360"/>
                <a:ext cx="26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7" name=""/>
              <p:cNvSpPr txBox="1"/>
              <p:nvPr/>
            </p:nvSpPr>
            <p:spPr>
              <a:xfrm>
                <a:off x="357120" y="2154240"/>
                <a:ext cx="936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8" name=""/>
          <p:cNvSpPr/>
          <p:nvPr/>
        </p:nvSpPr>
        <p:spPr>
          <a:xfrm>
            <a:off x="1174680" y="2184480"/>
            <a:ext cx="50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емещение точки приложения сосредоточенной нагрузк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ъём эпюры перемещений предельного механиз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 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равномерно распределённо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нагрузк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156360" y="2289240"/>
            <a:ext cx="194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 =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flipH="1" flipV="1">
            <a:off x="6829200" y="2636640"/>
            <a:ext cx="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 flipH="1" flipV="1">
            <a:off x="7451640" y="2674800"/>
            <a:ext cx="2160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7405560" y="26956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нутрен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329520" y="2695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онту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6541920" y="28875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шарниров текуче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671400" y="3584520"/>
            <a:ext cx="7704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ямоугольные пластины при равномерно распределённой нагруз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120680" y="4311720"/>
            <a:ext cx="1584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120680" y="415116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120680" y="40798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705040" y="40798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H="1">
            <a:off x="1093320" y="41133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 flipH="1">
            <a:off x="2671920" y="412416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890640" y="4311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890640" y="5319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961920" y="4311720"/>
            <a:ext cx="0" cy="10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936720" y="4280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930240" y="52848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 rot="16200000">
            <a:off x="740160" y="468756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762200" y="393372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1160640" y="4344840"/>
            <a:ext cx="1512720" cy="936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158840" y="4346640"/>
            <a:ext cx="1511280" cy="933480"/>
          </a:xfrm>
          <a:custGeom>
            <a:avLst/>
            <a:gdLst/>
            <a:ahLst/>
            <a:rect l="l" t="t" r="r" b="b"/>
            <a:pathLst>
              <a:path w="952" h="588">
                <a:moveTo>
                  <a:pt x="0" y="0"/>
                </a:moveTo>
                <a:lnTo>
                  <a:pt x="952" y="588"/>
                </a:lnTo>
              </a:path>
            </a:pathLst>
          </a:custGeom>
          <a:noFill/>
          <a:ln w="1908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158840" y="4352760"/>
            <a:ext cx="1511280" cy="927360"/>
          </a:xfrm>
          <a:custGeom>
            <a:avLst/>
            <a:gdLst/>
            <a:ahLst/>
            <a:rect l="l" t="t" r="r" b="b"/>
            <a:pathLst>
              <a:path w="952" h="584">
                <a:moveTo>
                  <a:pt x="0" y="584"/>
                </a:moveTo>
                <a:lnTo>
                  <a:pt x="952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H="1">
            <a:off x="343800" y="4311720"/>
            <a:ext cx="204840" cy="100800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0"/>
                </a:moveTo>
                <a:lnTo>
                  <a:pt x="0" y="317"/>
                </a:lnTo>
                <a:lnTo>
                  <a:pt x="136" y="6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334800" y="431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 flipH="1">
            <a:off x="338040" y="481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485640" y="468000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2079720" y="4308480"/>
            <a:ext cx="622080" cy="1015920"/>
          </a:xfrm>
          <a:custGeom>
            <a:avLst/>
            <a:gdLst/>
            <a:ahLst/>
            <a:rect l="l" t="t" r="r" b="b"/>
            <a:pathLst>
              <a:path w="392" h="640">
                <a:moveTo>
                  <a:pt x="392" y="0"/>
                </a:moveTo>
                <a:lnTo>
                  <a:pt x="0" y="6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2790720" y="4748040"/>
            <a:ext cx="622440" cy="1016280"/>
          </a:xfrm>
          <a:custGeom>
            <a:avLst/>
            <a:gdLst/>
            <a:ahLst/>
            <a:rect l="l" t="t" r="r" b="b"/>
            <a:pathLst>
              <a:path w="392" h="640">
                <a:moveTo>
                  <a:pt x="392" y="0"/>
                </a:move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2705040" y="4311720"/>
            <a:ext cx="695520" cy="434880"/>
          </a:xfrm>
          <a:custGeom>
            <a:avLst/>
            <a:gdLst/>
            <a:ahLst/>
            <a:rect l="l" t="t" r="r" b="b"/>
            <a:pathLst>
              <a:path w="438" h="274">
                <a:moveTo>
                  <a:pt x="0" y="0"/>
                </a:moveTo>
                <a:lnTo>
                  <a:pt x="438" y="274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2089080" y="5319720"/>
            <a:ext cx="865080" cy="546120"/>
          </a:xfrm>
          <a:custGeom>
            <a:avLst/>
            <a:gdLst/>
            <a:ahLst/>
            <a:rect l="l" t="t" r="r" b="b"/>
            <a:pathLst>
              <a:path w="545" h="344">
                <a:moveTo>
                  <a:pt x="0" y="0"/>
                </a:moveTo>
                <a:lnTo>
                  <a:pt x="545" y="344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2959200" y="5484960"/>
            <a:ext cx="127080" cy="8244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lnTo>
                  <a:pt x="80" y="5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2705040" y="5324400"/>
            <a:ext cx="258840" cy="163440"/>
          </a:xfrm>
          <a:custGeom>
            <a:avLst/>
            <a:gdLst/>
            <a:ahLst/>
            <a:rect l="l" t="t" r="r" b="b"/>
            <a:pathLst>
              <a:path w="163" h="103">
                <a:moveTo>
                  <a:pt x="0" y="0"/>
                </a:moveTo>
                <a:lnTo>
                  <a:pt x="163" y="103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2790720" y="4753080"/>
            <a:ext cx="628920" cy="1009440"/>
          </a:xfrm>
          <a:custGeom>
            <a:avLst/>
            <a:gdLst/>
            <a:ahLst/>
            <a:rect l="l" t="t" r="r" b="b"/>
            <a:pathLst>
              <a:path w="396" h="636">
                <a:moveTo>
                  <a:pt x="0" y="636"/>
                </a:moveTo>
                <a:lnTo>
                  <a:pt x="184" y="512"/>
                </a:lnTo>
                <a:lnTo>
                  <a:pt x="3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H="1" rot="1638600">
            <a:off x="2167920" y="4911480"/>
            <a:ext cx="215280" cy="2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2243160" y="4951440"/>
            <a:ext cx="22320" cy="22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406600" y="5151600"/>
            <a:ext cx="38160" cy="123840"/>
          </a:xfrm>
          <a:custGeom>
            <a:avLst/>
            <a:gdLst/>
            <a:ahLst/>
            <a:rect l="l" t="t" r="r" b="b"/>
            <a:pathLst>
              <a:path w="24" h="78">
                <a:moveTo>
                  <a:pt x="24" y="0"/>
                </a:moveTo>
                <a:cubicBezTo>
                  <a:pt x="21" y="6"/>
                  <a:pt x="10" y="23"/>
                  <a:pt x="6" y="36"/>
                </a:cubicBezTo>
                <a:cubicBezTo>
                  <a:pt x="2" y="49"/>
                  <a:pt x="1" y="69"/>
                  <a:pt x="0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2157480" y="503244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2625840" y="5384880"/>
            <a:ext cx="171360" cy="271440"/>
          </a:xfrm>
          <a:custGeom>
            <a:avLst/>
            <a:gdLst/>
            <a:ahLst/>
            <a:rect l="l" t="t" r="r" b="b"/>
            <a:pathLst>
              <a:path w="108" h="171">
                <a:moveTo>
                  <a:pt x="108" y="0"/>
                </a:moveTo>
                <a:lnTo>
                  <a:pt x="0" y="17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2614680" y="5621400"/>
            <a:ext cx="1440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2792520" y="5353200"/>
            <a:ext cx="140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 rot="17994600">
            <a:off x="2491200" y="535104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2955960" y="5548320"/>
            <a:ext cx="138240" cy="324000"/>
          </a:xfrm>
          <a:custGeom>
            <a:avLst/>
            <a:gdLst/>
            <a:ahLst/>
            <a:rect l="l" t="t" r="r" b="b"/>
            <a:pathLst>
              <a:path w="87" h="204">
                <a:moveTo>
                  <a:pt x="87" y="0"/>
                </a:moveTo>
                <a:lnTo>
                  <a:pt x="0" y="20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2933640" y="567216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0" y="0"/>
                </a:moveTo>
                <a:cubicBezTo>
                  <a:pt x="3" y="4"/>
                  <a:pt x="12" y="18"/>
                  <a:pt x="20" y="25"/>
                </a:cubicBezTo>
                <a:cubicBezTo>
                  <a:pt x="28" y="32"/>
                  <a:pt x="42" y="40"/>
                  <a:pt x="48" y="4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 rot="18120000">
            <a:off x="2829600" y="5752080"/>
            <a:ext cx="42840" cy="190440"/>
          </a:xfrm>
          <a:custGeom>
            <a:avLst/>
            <a:gdLst>
              <a:gd name="textAreaLeft" fmla="*/ 27360 w 42840"/>
              <a:gd name="textAreaRight" fmla="*/ 43200 w 42840"/>
              <a:gd name="textAreaTop" fmla="*/ 4680 h 190440"/>
              <a:gd name="textAreaBottom" fmla="*/ 185760 h 1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3027240" y="545004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2671920" y="58323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2933640" y="5670720"/>
            <a:ext cx="4190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347760" y="430524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349200" y="5318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1116000" y="5303880"/>
            <a:ext cx="0" cy="566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2700360" y="5664240"/>
            <a:ext cx="0" cy="206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1116000" y="58611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1913040" y="5870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1116000" y="5870520"/>
            <a:ext cx="1584360" cy="216000"/>
          </a:xfrm>
          <a:custGeom>
            <a:avLst/>
            <a:gdLst/>
            <a:ahLst/>
            <a:rect l="l" t="t" r="r" b="b"/>
            <a:pathLst>
              <a:path w="998" h="136">
                <a:moveTo>
                  <a:pt x="0" y="0"/>
                </a:moveTo>
                <a:lnTo>
                  <a:pt x="499" y="136"/>
                </a:lnTo>
                <a:lnTo>
                  <a:pt x="9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771560" y="607680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278000" y="5942160"/>
            <a:ext cx="490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76200" y="5005440"/>
            <a:ext cx="503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43080" y="4564080"/>
            <a:ext cx="104760" cy="17280"/>
          </a:xfrm>
          <a:custGeom>
            <a:avLst/>
            <a:gdLst/>
            <a:ahLst/>
            <a:rect l="l" t="t" r="r" b="b"/>
            <a:pathLst>
              <a:path w="66" h="11">
                <a:moveTo>
                  <a:pt x="0" y="9"/>
                </a:moveTo>
                <a:cubicBezTo>
                  <a:pt x="5" y="9"/>
                  <a:pt x="22" y="11"/>
                  <a:pt x="33" y="9"/>
                </a:cubicBezTo>
                <a:cubicBezTo>
                  <a:pt x="44" y="7"/>
                  <a:pt x="59" y="2"/>
                  <a:pt x="6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39840" y="5051520"/>
            <a:ext cx="98280" cy="17280"/>
          </a:xfrm>
          <a:custGeom>
            <a:avLst/>
            <a:gdLst/>
            <a:ahLst/>
            <a:rect l="l" t="t" r="r" b="b"/>
            <a:pathLst>
              <a:path w="62" h="11">
                <a:moveTo>
                  <a:pt x="0" y="2"/>
                </a:moveTo>
                <a:cubicBezTo>
                  <a:pt x="5" y="2"/>
                  <a:pt x="23" y="0"/>
                  <a:pt x="33" y="2"/>
                </a:cubicBezTo>
                <a:cubicBezTo>
                  <a:pt x="43" y="4"/>
                  <a:pt x="56" y="9"/>
                  <a:pt x="62" y="1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 rot="17037000">
            <a:off x="1429560" y="5909040"/>
            <a:ext cx="104760" cy="17640"/>
          </a:xfrm>
          <a:custGeom>
            <a:avLst/>
            <a:gdLst/>
            <a:ahLst/>
            <a:rect l="l" t="t" r="r" b="b"/>
            <a:pathLst>
              <a:path w="66" h="11">
                <a:moveTo>
                  <a:pt x="0" y="9"/>
                </a:moveTo>
                <a:cubicBezTo>
                  <a:pt x="5" y="9"/>
                  <a:pt x="22" y="11"/>
                  <a:pt x="33" y="9"/>
                </a:cubicBezTo>
                <a:cubicBezTo>
                  <a:pt x="44" y="7"/>
                  <a:pt x="59" y="2"/>
                  <a:pt x="6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2319480" y="5872320"/>
            <a:ext cx="19080" cy="99720"/>
          </a:xfrm>
          <a:custGeom>
            <a:avLst/>
            <a:gdLst/>
            <a:ahLst/>
            <a:rect l="l" t="t" r="r" b="b"/>
            <a:pathLst>
              <a:path w="12" h="63">
                <a:moveTo>
                  <a:pt x="12" y="63"/>
                </a:moveTo>
                <a:cubicBezTo>
                  <a:pt x="11" y="58"/>
                  <a:pt x="5" y="43"/>
                  <a:pt x="3" y="33"/>
                </a:cubicBezTo>
                <a:cubicBezTo>
                  <a:pt x="1" y="23"/>
                  <a:pt x="1" y="7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2252520" y="5942160"/>
            <a:ext cx="490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372960" y="4390920"/>
            <a:ext cx="503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3" name=""/>
              <p:cNvSpPr txBox="1"/>
              <p:nvPr/>
            </p:nvSpPr>
            <p:spPr>
              <a:xfrm>
                <a:off x="276120" y="5772240"/>
                <a:ext cx="757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76120" y="5326200"/>
                <a:ext cx="766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3570120" y="3867120"/>
                <a:ext cx="1624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δ;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5592600" y="3905280"/>
                <a:ext cx="1954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конт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ут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594400" y="4287960"/>
                <a:ext cx="26146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конт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2 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3564000" y="4327560"/>
                <a:ext cx="16621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утр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 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9" name=""/>
          <p:cNvSpPr/>
          <p:nvPr/>
        </p:nvSpPr>
        <p:spPr>
          <a:xfrm>
            <a:off x="5580000" y="4640400"/>
            <a:ext cx="3384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ичества защемлённых стор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инам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3444840" y="4664160"/>
                <a:ext cx="695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3440160" y="5043600"/>
                <a:ext cx="24811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6067440" y="5091120"/>
                <a:ext cx="27464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2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4227480" y="4775040"/>
                <a:ext cx="142416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 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3448080" y="5497560"/>
                <a:ext cx="2882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6516720" y="5508720"/>
                <a:ext cx="1146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3949560" y="6039000"/>
                <a:ext cx="3044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утр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2" dur="indefinite" restart="never" nodeType="tmRoot">
          <p:childTnLst>
            <p:seq>
              <p:cTn id="12953" dur="indefinite" nodeType="mainSeq">
                <p:childTnLst>
                  <p:par>
                    <p:cTn id="12954" fill="hold">
                      <p:stCondLst>
                        <p:cond delay="0"/>
                      </p:stCondLst>
                      <p:childTnLst>
                        <p:par>
                          <p:cTn id="12955" fill="hold">
                            <p:stCondLst>
                              <p:cond delay="0"/>
                            </p:stCondLst>
                            <p:childTnLst>
                              <p:par>
                                <p:cTn id="129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58" dur="80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59" dur="80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60" dur="80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1" fill="hold">
                      <p:stCondLst>
                        <p:cond delay="indefinite"/>
                      </p:stCondLst>
                      <p:childTnLst>
                        <p:par>
                          <p:cTn id="12962" fill="hold">
                            <p:stCondLst>
                              <p:cond delay="0"/>
                            </p:stCondLst>
                            <p:childTnLst>
                              <p:par>
                                <p:cTn id="129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5" dur="2000" fill="hold"/>
                                        <p:tgtEl>
                                          <p:spTgt spid="3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6" dur="2000" fill="hold"/>
                                        <p:tgtEl>
                                          <p:spTgt spid="3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7" dur="20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1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2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3" dur="1000"/>
                                        <p:tgtEl>
                                          <p:spTgt spid="3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7" dur="10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8" dur="10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9" dur="10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0" fill="hold">
                      <p:stCondLst>
                        <p:cond delay="indefinite"/>
                      </p:stCondLst>
                      <p:childTnLst>
                        <p:par>
                          <p:cTn id="12981" fill="hold">
                            <p:stCondLst>
                              <p:cond delay="0"/>
                            </p:stCondLst>
                            <p:childTnLst>
                              <p:par>
                                <p:cTn id="12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4" dur="10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5" dur="10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86" dur="1000"/>
                                        <p:tgtEl>
                                          <p:spTgt spid="3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90" dur="80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1" dur="80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2" dur="80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3" fill="hold">
                      <p:stCondLst>
                        <p:cond delay="indefinite"/>
                      </p:stCondLst>
                      <p:childTnLst>
                        <p:par>
                          <p:cTn id="12994" fill="hold">
                            <p:stCondLst>
                              <p:cond delay="0"/>
                            </p:stCondLst>
                            <p:childTnLst>
                              <p:par>
                                <p:cTn id="12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97" dur="2000"/>
                                        <p:tgtEl>
                                          <p:spTgt spid="3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1" dur="10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2" dur="10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3" dur="10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7" dur="10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8" dur="10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9" dur="10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3" dur="80"/>
                                        <p:tgtEl>
                                          <p:spTgt spid="3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4" dur="80"/>
                                        <p:tgtEl>
                                          <p:spTgt spid="3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15" dur="80"/>
                                        <p:tgtEl>
                                          <p:spTgt spid="3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6" fill="hold">
                            <p:stCondLst>
                              <p:cond delay="4400"/>
                            </p:stCondLst>
                            <p:childTnLst>
                              <p:par>
                                <p:cTn id="130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19" dur="80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0" dur="80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1" dur="80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2" fill="hold">
                            <p:stCondLst>
                              <p:cond delay="4840"/>
                            </p:stCondLst>
                            <p:childTnLst>
                              <p:par>
                                <p:cTn id="13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5" dur="80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26" dur="80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7" dur="80"/>
                                        <p:tgtEl>
                                          <p:spTgt spid="3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8" fill="hold">
                      <p:stCondLst>
                        <p:cond delay="indefinite"/>
                      </p:stCondLst>
                      <p:childTnLst>
                        <p:par>
                          <p:cTn id="13029" fill="hold">
                            <p:stCondLst>
                              <p:cond delay="0"/>
                            </p:stCondLst>
                            <p:childTnLst>
                              <p:par>
                                <p:cTn id="13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2" dur="80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3" dur="80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34" dur="80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5" fill="hold">
                            <p:stCondLst>
                              <p:cond delay="1120"/>
                            </p:stCondLst>
                            <p:childTnLst>
                              <p:par>
                                <p:cTn id="130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8" dur="10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9" dur="10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40" dur="1000"/>
                                        <p:tgtEl>
                                          <p:spTgt spid="3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1" fill="hold">
                      <p:stCondLst>
                        <p:cond delay="indefinite"/>
                      </p:stCondLst>
                      <p:childTnLst>
                        <p:par>
                          <p:cTn id="13042" fill="hold">
                            <p:stCondLst>
                              <p:cond delay="0"/>
                            </p:stCondLst>
                            <p:childTnLst>
                              <p:par>
                                <p:cTn id="130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5" dur="1000" fill="hold"/>
                                        <p:tgtEl>
                                          <p:spTgt spid="3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6" dur="1000" fill="hold"/>
                                        <p:tgtEl>
                                          <p:spTgt spid="3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7" dur="10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1" dur="2000"/>
                                        <p:tgtEl>
                                          <p:spTgt spid="3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4" dur="2000"/>
                                        <p:tgtEl>
                                          <p:spTgt spid="3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57" dur="2000"/>
                                        <p:tgtEl>
                                          <p:spTgt spid="3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0" dur="2000"/>
                                        <p:tgtEl>
                                          <p:spTgt spid="3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3" dur="2000"/>
                                        <p:tgtEl>
                                          <p:spTgt spid="3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6" dur="2000"/>
                                        <p:tgtEl>
                                          <p:spTgt spid="3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9" dur="2000"/>
                                        <p:tgtEl>
                                          <p:spTgt spid="3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72" dur="2000"/>
                                        <p:tgtEl>
                                          <p:spTgt spid="3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75" dur="10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78" dur="2000"/>
                                        <p:tgtEl>
                                          <p:spTgt spid="3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1" dur="2000"/>
                                        <p:tgtEl>
                                          <p:spTgt spid="3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4" dur="20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87" dur="2000"/>
                                        <p:tgtEl>
                                          <p:spTgt spid="3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91" dur="10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94" dur="10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8" dur="10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2" dur="10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3" dur="10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4" dur="10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7" dur="10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8" dur="10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9" dur="1000"/>
                                        <p:tgtEl>
                                          <p:spTgt spid="3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13" dur="10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6" dur="10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7" dur="10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8" dur="10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1" dur="10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2" dur="10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3" dur="10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6" dur="10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7" dur="10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8" dur="10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2" dur="1000"/>
                                        <p:tgtEl>
                                          <p:spTgt spid="3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3" dur="10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4" dur="10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7" dur="10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8" dur="1000" fill="hold"/>
                                        <p:tgtEl>
                                          <p:spTgt spid="3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9" dur="1000" fill="hold"/>
                                        <p:tgtEl>
                                          <p:spTgt spid="3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43" dur="10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46" dur="10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49" dur="10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52" dur="10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3" fill="hold">
                      <p:stCondLst>
                        <p:cond delay="indefinite"/>
                      </p:stCondLst>
                      <p:childTnLst>
                        <p:par>
                          <p:cTn id="13154" fill="hold">
                            <p:stCondLst>
                              <p:cond delay="0"/>
                            </p:stCondLst>
                            <p:childTnLst>
                              <p:par>
                                <p:cTn id="13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7" dur="10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8" dur="10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9" dur="1000"/>
                                        <p:tgtEl>
                                          <p:spTgt spid="3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0" fill="hold">
                      <p:stCondLst>
                        <p:cond delay="indefinite"/>
                      </p:stCondLst>
                      <p:childTnLst>
                        <p:par>
                          <p:cTn id="13161" fill="hold">
                            <p:stCondLst>
                              <p:cond delay="0"/>
                            </p:stCondLst>
                            <p:childTnLst>
                              <p:par>
                                <p:cTn id="13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4" dur="10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5" dur="10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6" dur="1000"/>
                                        <p:tgtEl>
                                          <p:spTgt spid="3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7" fill="hold">
                      <p:stCondLst>
                        <p:cond delay="indefinite"/>
                      </p:stCondLst>
                      <p:childTnLst>
                        <p:par>
                          <p:cTn id="13168" fill="hold">
                            <p:stCondLst>
                              <p:cond delay="0"/>
                            </p:stCondLst>
                            <p:childTnLst>
                              <p:par>
                                <p:cTn id="13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71" dur="20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75" dur="80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6" dur="80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7" dur="80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8" fill="hold">
                      <p:stCondLst>
                        <p:cond delay="indefinite"/>
                      </p:stCondLst>
                      <p:childTnLst>
                        <p:par>
                          <p:cTn id="13179" fill="hold">
                            <p:stCondLst>
                              <p:cond delay="0"/>
                            </p:stCondLst>
                            <p:childTnLst>
                              <p:par>
                                <p:cTn id="13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2" dur="10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5" dur="1000"/>
                                        <p:tgtEl>
                                          <p:spTgt spid="3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9" dur="10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2" dur="10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6" dur="10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9" dur="10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3" dur="10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6" dur="1000"/>
                                        <p:tgtEl>
                                          <p:spTgt spid="3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7" fill="hold">
                      <p:stCondLst>
                        <p:cond delay="indefinite"/>
                      </p:stCondLst>
                      <p:childTnLst>
                        <p:par>
                          <p:cTn id="13208" fill="hold">
                            <p:stCondLst>
                              <p:cond delay="0"/>
                            </p:stCondLst>
                            <p:childTnLst>
                              <p:par>
                                <p:cTn id="13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1" dur="10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15" dur="500"/>
                                        <p:tgtEl>
                                          <p:spTgt spid="3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6" fill="hold">
                      <p:stCondLst>
                        <p:cond delay="indefinite"/>
                      </p:stCondLst>
                      <p:childTnLst>
                        <p:par>
                          <p:cTn id="13217" fill="hold">
                            <p:stCondLst>
                              <p:cond delay="0"/>
                            </p:stCondLst>
                            <p:childTnLst>
                              <p:par>
                                <p:cTn id="13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20" dur="2000"/>
                                        <p:tgtEl>
                                          <p:spTgt spid="3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1" fill="hold">
                      <p:stCondLst>
                        <p:cond delay="indefinite"/>
                      </p:stCondLst>
                      <p:childTnLst>
                        <p:par>
                          <p:cTn id="13222" fill="hold">
                            <p:stCondLst>
                              <p:cond delay="0"/>
                            </p:stCondLst>
                            <p:childTnLst>
                              <p:par>
                                <p:cTn id="13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5" dur="1000"/>
                                        <p:tgtEl>
                                          <p:spTgt spid="3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8" dur="10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1" dur="10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5" dur="10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8" dur="1000"/>
                                        <p:tgtEl>
                                          <p:spTgt spid="3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42" dur="1000"/>
                                        <p:tgtEl>
                                          <p:spTgt spid="3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45" dur="10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48" dur="1000"/>
                                        <p:tgtEl>
                                          <p:spTgt spid="3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52" dur="10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55" dur="10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58" dur="10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62" dur="1000"/>
                                        <p:tgtEl>
                                          <p:spTgt spid="3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65" dur="1000"/>
                                        <p:tgtEl>
                                          <p:spTgt spid="3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68" dur="10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71" dur="1000"/>
                                        <p:tgtEl>
                                          <p:spTgt spid="3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5" dur="10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6" dur="10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7" dur="10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81" dur="1000"/>
                                        <p:tgtEl>
                                          <p:spTgt spid="3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84" dur="1000"/>
                                        <p:tgtEl>
                                          <p:spTgt spid="3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88" dur="10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2" dur="10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3" dur="10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4" dur="10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7" dur="10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8" dur="10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9" dur="1000"/>
                                        <p:tgtEl>
                                          <p:spTgt spid="3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0" fill="hold">
                      <p:stCondLst>
                        <p:cond delay="indefinite"/>
                      </p:stCondLst>
                      <p:childTnLst>
                        <p:par>
                          <p:cTn id="13301" fill="hold">
                            <p:stCondLst>
                              <p:cond delay="0"/>
                            </p:stCondLst>
                            <p:childTnLst>
                              <p:par>
                                <p:cTn id="13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4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5" dur="10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6" dur="1000"/>
                                        <p:tgtEl>
                                          <p:spTgt spid="3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0" dur="1000" fill="hold"/>
                                        <p:tgtEl>
                                          <p:spTgt spid="3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1" dur="1000" fill="hold"/>
                                        <p:tgtEl>
                                          <p:spTgt spid="3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2" dur="10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3" fill="hold">
                      <p:stCondLst>
                        <p:cond delay="indefinite"/>
                      </p:stCondLst>
                      <p:childTnLst>
                        <p:par>
                          <p:cTn id="13314" fill="hold">
                            <p:stCondLst>
                              <p:cond delay="0"/>
                            </p:stCondLst>
                            <p:childTnLst>
                              <p:par>
                                <p:cTn id="13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17" dur="10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1" dur="20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2" dur="20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3" dur="2000"/>
                                        <p:tgtEl>
                                          <p:spTgt spid="3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4" fill="hold">
                      <p:stCondLst>
                        <p:cond delay="indefinite"/>
                      </p:stCondLst>
                      <p:childTnLst>
                        <p:par>
                          <p:cTn id="13325" fill="hold">
                            <p:stCondLst>
                              <p:cond delay="0"/>
                            </p:stCondLst>
                            <p:childTnLst>
                              <p:par>
                                <p:cTn id="13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8" dur="10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9" dur="10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0" dur="1000"/>
                                        <p:tgtEl>
                                          <p:spTgt spid="3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4" dur="10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5" dur="10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6" dur="10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7" fill="hold">
                      <p:stCondLst>
                        <p:cond delay="indefinite"/>
                      </p:stCondLst>
                      <p:childTnLst>
                        <p:par>
                          <p:cTn id="13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41" dur="20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250920" y="260280"/>
            <a:ext cx="8642160" cy="621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асчёт конструкций с учётом пластических деформаций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физическая нелиней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268360" y="85896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едельное равновесие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755640" y="1208160"/>
            <a:ext cx="75614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предельной нагрузки (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а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плас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нематическим методом Т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237960" y="1751040"/>
            <a:ext cx="48625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Уравнение баланса работы нагруз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 энергии диссипации в пластических шарнир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5008680" y="1824120"/>
                <a:ext cx="1079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6216480" y="1911240"/>
                <a:ext cx="266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де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W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;  </m:t>
                    </m:r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4" name=""/>
          <p:cNvSpPr/>
          <p:nvPr/>
        </p:nvSpPr>
        <p:spPr>
          <a:xfrm>
            <a:off x="250920" y="3133800"/>
            <a:ext cx="3384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 кинематической теореме ТП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3608280" y="2916360"/>
                <a:ext cx="26053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357120" y="2154240"/>
                <a:ext cx="936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7" name=""/>
          <p:cNvSpPr/>
          <p:nvPr/>
        </p:nvSpPr>
        <p:spPr>
          <a:xfrm>
            <a:off x="1174680" y="2184480"/>
            <a:ext cx="504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емещение точки приложения сосредоточенной нагрузк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объём эпюры перемещений предельного механиз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ри 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равномерно распределённо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нагрузке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6156360" y="2289240"/>
            <a:ext cx="194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 = 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 flipH="1" flipV="1">
            <a:off x="6829200" y="2636640"/>
            <a:ext cx="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 flipH="1" flipV="1">
            <a:off x="7451640" y="2674800"/>
            <a:ext cx="2160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7405560" y="269568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нутрен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6329520" y="2695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онтур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6541920" y="28875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шарниров текуче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671400" y="3584520"/>
            <a:ext cx="7704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ямоугольные пластины при равномерно распределённой нагрузк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1120680" y="4311720"/>
            <a:ext cx="158436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1120680" y="415116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1120680" y="40798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2705040" y="40798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 flipH="1">
            <a:off x="1093320" y="411336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H="1">
            <a:off x="2671920" y="412416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890640" y="4311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890640" y="5319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961920" y="4311720"/>
            <a:ext cx="0" cy="1008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936720" y="4280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930240" y="52848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rot="16200000">
            <a:off x="740160" y="468756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1762200" y="393372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1160640" y="4344840"/>
            <a:ext cx="1512720" cy="936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1158840" y="4346640"/>
            <a:ext cx="1511280" cy="933480"/>
          </a:xfrm>
          <a:custGeom>
            <a:avLst/>
            <a:gdLst/>
            <a:ahLst/>
            <a:rect l="l" t="t" r="r" b="b"/>
            <a:pathLst>
              <a:path w="952" h="588">
                <a:moveTo>
                  <a:pt x="0" y="0"/>
                </a:moveTo>
                <a:lnTo>
                  <a:pt x="952" y="588"/>
                </a:lnTo>
              </a:path>
            </a:pathLst>
          </a:custGeom>
          <a:noFill/>
          <a:ln w="1908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1158840" y="4352760"/>
            <a:ext cx="1511280" cy="927360"/>
          </a:xfrm>
          <a:custGeom>
            <a:avLst/>
            <a:gdLst/>
            <a:ahLst/>
            <a:rect l="l" t="t" r="r" b="b"/>
            <a:pathLst>
              <a:path w="952" h="584">
                <a:moveTo>
                  <a:pt x="0" y="584"/>
                </a:moveTo>
                <a:lnTo>
                  <a:pt x="952" y="0"/>
                </a:lnTo>
              </a:path>
            </a:pathLst>
          </a:custGeom>
          <a:noFill/>
          <a:ln w="1908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 flipH="1">
            <a:off x="343800" y="4311720"/>
            <a:ext cx="204840" cy="1008000"/>
          </a:xfrm>
          <a:custGeom>
            <a:avLst/>
            <a:gdLst/>
            <a:ahLst/>
            <a:rect l="l" t="t" r="r" b="b"/>
            <a:pathLst>
              <a:path w="136" h="635">
                <a:moveTo>
                  <a:pt x="136" y="0"/>
                </a:moveTo>
                <a:lnTo>
                  <a:pt x="0" y="317"/>
                </a:lnTo>
                <a:lnTo>
                  <a:pt x="136" y="63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334800" y="431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 flipH="1">
            <a:off x="338040" y="481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485640" y="468000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2079720" y="4308480"/>
            <a:ext cx="622080" cy="1015920"/>
          </a:xfrm>
          <a:custGeom>
            <a:avLst/>
            <a:gdLst/>
            <a:ahLst/>
            <a:rect l="l" t="t" r="r" b="b"/>
            <a:pathLst>
              <a:path w="392" h="640">
                <a:moveTo>
                  <a:pt x="392" y="0"/>
                </a:moveTo>
                <a:lnTo>
                  <a:pt x="0" y="64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2790720" y="4748040"/>
            <a:ext cx="622440" cy="1016280"/>
          </a:xfrm>
          <a:custGeom>
            <a:avLst/>
            <a:gdLst/>
            <a:ahLst/>
            <a:rect l="l" t="t" r="r" b="b"/>
            <a:pathLst>
              <a:path w="392" h="640">
                <a:moveTo>
                  <a:pt x="392" y="0"/>
                </a:move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2705040" y="4311720"/>
            <a:ext cx="695520" cy="434880"/>
          </a:xfrm>
          <a:custGeom>
            <a:avLst/>
            <a:gdLst/>
            <a:ahLst/>
            <a:rect l="l" t="t" r="r" b="b"/>
            <a:pathLst>
              <a:path w="438" h="274">
                <a:moveTo>
                  <a:pt x="0" y="0"/>
                </a:moveTo>
                <a:lnTo>
                  <a:pt x="438" y="274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>
            <a:off x="2089080" y="5319720"/>
            <a:ext cx="865080" cy="546120"/>
          </a:xfrm>
          <a:custGeom>
            <a:avLst/>
            <a:gdLst/>
            <a:ahLst/>
            <a:rect l="l" t="t" r="r" b="b"/>
            <a:pathLst>
              <a:path w="545" h="344">
                <a:moveTo>
                  <a:pt x="0" y="0"/>
                </a:moveTo>
                <a:lnTo>
                  <a:pt x="545" y="344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2959200" y="5484960"/>
            <a:ext cx="127080" cy="8244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lnTo>
                  <a:pt x="80" y="52"/>
                </a:lnTo>
              </a:path>
            </a:pathLst>
          </a:custGeom>
          <a:noFill/>
          <a:ln w="126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2705040" y="5324400"/>
            <a:ext cx="258840" cy="163440"/>
          </a:xfrm>
          <a:custGeom>
            <a:avLst/>
            <a:gdLst/>
            <a:ahLst/>
            <a:rect l="l" t="t" r="r" b="b"/>
            <a:pathLst>
              <a:path w="163" h="103">
                <a:moveTo>
                  <a:pt x="0" y="0"/>
                </a:moveTo>
                <a:lnTo>
                  <a:pt x="163" y="103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2790720" y="4753080"/>
            <a:ext cx="628920" cy="1009440"/>
          </a:xfrm>
          <a:custGeom>
            <a:avLst/>
            <a:gdLst/>
            <a:ahLst/>
            <a:rect l="l" t="t" r="r" b="b"/>
            <a:pathLst>
              <a:path w="396" h="636">
                <a:moveTo>
                  <a:pt x="0" y="636"/>
                </a:moveTo>
                <a:lnTo>
                  <a:pt x="184" y="512"/>
                </a:lnTo>
                <a:lnTo>
                  <a:pt x="3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H="1" rot="1638600">
            <a:off x="2167920" y="4911480"/>
            <a:ext cx="215280" cy="21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2243160" y="4951440"/>
            <a:ext cx="22320" cy="22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2406600" y="5151600"/>
            <a:ext cx="38160" cy="123840"/>
          </a:xfrm>
          <a:custGeom>
            <a:avLst/>
            <a:gdLst/>
            <a:ahLst/>
            <a:rect l="l" t="t" r="r" b="b"/>
            <a:pathLst>
              <a:path w="24" h="78">
                <a:moveTo>
                  <a:pt x="24" y="0"/>
                </a:moveTo>
                <a:cubicBezTo>
                  <a:pt x="21" y="6"/>
                  <a:pt x="10" y="23"/>
                  <a:pt x="6" y="36"/>
                </a:cubicBezTo>
                <a:cubicBezTo>
                  <a:pt x="2" y="49"/>
                  <a:pt x="1" y="69"/>
                  <a:pt x="0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2157480" y="503244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2625840" y="5384880"/>
            <a:ext cx="171360" cy="271440"/>
          </a:xfrm>
          <a:custGeom>
            <a:avLst/>
            <a:gdLst/>
            <a:ahLst/>
            <a:rect l="l" t="t" r="r" b="b"/>
            <a:pathLst>
              <a:path w="108" h="171">
                <a:moveTo>
                  <a:pt x="108" y="0"/>
                </a:moveTo>
                <a:lnTo>
                  <a:pt x="0" y="171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2614680" y="5621400"/>
            <a:ext cx="1440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2792520" y="5353200"/>
            <a:ext cx="140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rot="17994600">
            <a:off x="2491200" y="5351040"/>
            <a:ext cx="288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2955960" y="5548320"/>
            <a:ext cx="138240" cy="324000"/>
          </a:xfrm>
          <a:custGeom>
            <a:avLst/>
            <a:gdLst/>
            <a:ahLst/>
            <a:rect l="l" t="t" r="r" b="b"/>
            <a:pathLst>
              <a:path w="87" h="204">
                <a:moveTo>
                  <a:pt x="87" y="0"/>
                </a:moveTo>
                <a:lnTo>
                  <a:pt x="0" y="20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2933640" y="5672160"/>
            <a:ext cx="76320" cy="69840"/>
          </a:xfrm>
          <a:custGeom>
            <a:avLst/>
            <a:gdLst/>
            <a:ahLst/>
            <a:rect l="l" t="t" r="r" b="b"/>
            <a:pathLst>
              <a:path w="48" h="44">
                <a:moveTo>
                  <a:pt x="0" y="0"/>
                </a:moveTo>
                <a:cubicBezTo>
                  <a:pt x="3" y="4"/>
                  <a:pt x="12" y="18"/>
                  <a:pt x="20" y="25"/>
                </a:cubicBezTo>
                <a:cubicBezTo>
                  <a:pt x="28" y="32"/>
                  <a:pt x="42" y="40"/>
                  <a:pt x="48" y="4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rot="18120000">
            <a:off x="2829600" y="5752080"/>
            <a:ext cx="42840" cy="190440"/>
          </a:xfrm>
          <a:custGeom>
            <a:avLst/>
            <a:gdLst>
              <a:gd name="textAreaLeft" fmla="*/ 27360 w 42840"/>
              <a:gd name="textAreaRight" fmla="*/ 43200 w 42840"/>
              <a:gd name="textAreaTop" fmla="*/ 4680 h 190440"/>
              <a:gd name="textAreaBottom" fmla="*/ 185760 h 19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3027240" y="545004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2671920" y="5832360"/>
            <a:ext cx="360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2933640" y="5670720"/>
            <a:ext cx="4190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347760" y="430524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349200" y="53182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1116000" y="5303880"/>
            <a:ext cx="0" cy="566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2700360" y="5664240"/>
            <a:ext cx="0" cy="206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1116000" y="58611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1913040" y="5870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1116000" y="5870520"/>
            <a:ext cx="1584360" cy="216000"/>
          </a:xfrm>
          <a:custGeom>
            <a:avLst/>
            <a:gdLst/>
            <a:ahLst/>
            <a:rect l="l" t="t" r="r" b="b"/>
            <a:pathLst>
              <a:path w="998" h="136">
                <a:moveTo>
                  <a:pt x="0" y="0"/>
                </a:moveTo>
                <a:lnTo>
                  <a:pt x="499" y="136"/>
                </a:lnTo>
                <a:lnTo>
                  <a:pt x="9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771560" y="6076800"/>
            <a:ext cx="2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278000" y="5942160"/>
            <a:ext cx="4903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376200" y="5005440"/>
            <a:ext cx="503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43080" y="4564080"/>
            <a:ext cx="104760" cy="17280"/>
          </a:xfrm>
          <a:custGeom>
            <a:avLst/>
            <a:gdLst/>
            <a:ahLst/>
            <a:rect l="l" t="t" r="r" b="b"/>
            <a:pathLst>
              <a:path w="66" h="11">
                <a:moveTo>
                  <a:pt x="0" y="9"/>
                </a:moveTo>
                <a:cubicBezTo>
                  <a:pt x="5" y="9"/>
                  <a:pt x="22" y="11"/>
                  <a:pt x="33" y="9"/>
                </a:cubicBezTo>
                <a:cubicBezTo>
                  <a:pt x="44" y="7"/>
                  <a:pt x="59" y="2"/>
                  <a:pt x="6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339840" y="5051520"/>
            <a:ext cx="98280" cy="17280"/>
          </a:xfrm>
          <a:custGeom>
            <a:avLst/>
            <a:gdLst/>
            <a:ahLst/>
            <a:rect l="l" t="t" r="r" b="b"/>
            <a:pathLst>
              <a:path w="62" h="11">
                <a:moveTo>
                  <a:pt x="0" y="2"/>
                </a:moveTo>
                <a:cubicBezTo>
                  <a:pt x="5" y="2"/>
                  <a:pt x="23" y="0"/>
                  <a:pt x="33" y="2"/>
                </a:cubicBezTo>
                <a:cubicBezTo>
                  <a:pt x="43" y="4"/>
                  <a:pt x="56" y="9"/>
                  <a:pt x="62" y="1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rot="17037000">
            <a:off x="1429560" y="5909040"/>
            <a:ext cx="104760" cy="17640"/>
          </a:xfrm>
          <a:custGeom>
            <a:avLst/>
            <a:gdLst/>
            <a:ahLst/>
            <a:rect l="l" t="t" r="r" b="b"/>
            <a:pathLst>
              <a:path w="66" h="11">
                <a:moveTo>
                  <a:pt x="0" y="9"/>
                </a:moveTo>
                <a:cubicBezTo>
                  <a:pt x="5" y="9"/>
                  <a:pt x="22" y="11"/>
                  <a:pt x="33" y="9"/>
                </a:cubicBezTo>
                <a:cubicBezTo>
                  <a:pt x="44" y="7"/>
                  <a:pt x="59" y="2"/>
                  <a:pt x="66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319480" y="5872320"/>
            <a:ext cx="19080" cy="99720"/>
          </a:xfrm>
          <a:custGeom>
            <a:avLst/>
            <a:gdLst/>
            <a:ahLst/>
            <a:rect l="l" t="t" r="r" b="b"/>
            <a:pathLst>
              <a:path w="12" h="63">
                <a:moveTo>
                  <a:pt x="12" y="63"/>
                </a:moveTo>
                <a:cubicBezTo>
                  <a:pt x="11" y="58"/>
                  <a:pt x="5" y="43"/>
                  <a:pt x="3" y="33"/>
                </a:cubicBezTo>
                <a:cubicBezTo>
                  <a:pt x="1" y="23"/>
                  <a:pt x="1" y="7"/>
                  <a:pt x="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252520" y="5942160"/>
            <a:ext cx="4906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372960" y="4390920"/>
            <a:ext cx="503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к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2" name=""/>
              <p:cNvSpPr txBox="1"/>
              <p:nvPr/>
            </p:nvSpPr>
            <p:spPr>
              <a:xfrm>
                <a:off x="276120" y="5772240"/>
                <a:ext cx="7574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3" name=""/>
              <p:cNvSpPr txBox="1"/>
              <p:nvPr/>
            </p:nvSpPr>
            <p:spPr>
              <a:xfrm>
                <a:off x="276120" y="5326200"/>
                <a:ext cx="766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4" name=""/>
              <p:cNvSpPr txBox="1"/>
              <p:nvPr/>
            </p:nvSpPr>
            <p:spPr>
              <a:xfrm>
                <a:off x="3570120" y="3867120"/>
                <a:ext cx="1624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δ;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5" name=""/>
              <p:cNvSpPr txBox="1"/>
              <p:nvPr/>
            </p:nvSpPr>
            <p:spPr>
              <a:xfrm>
                <a:off x="5592600" y="3905280"/>
                <a:ext cx="19544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конт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утр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6" name=""/>
              <p:cNvSpPr txBox="1"/>
              <p:nvPr/>
            </p:nvSpPr>
            <p:spPr>
              <a:xfrm>
                <a:off x="5594400" y="4287960"/>
                <a:ext cx="26146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конт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1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2 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17" name=""/>
          <p:cNvSpPr/>
          <p:nvPr/>
        </p:nvSpPr>
        <p:spPr>
          <a:xfrm>
            <a:off x="5580000" y="4637160"/>
            <a:ext cx="3384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ичества защемлённых стор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линам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460680" y="4308480"/>
                <a:ext cx="1841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внутр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 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3567240" y="4835520"/>
                <a:ext cx="16556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q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0" name=""/>
          <p:cNvSpPr/>
          <p:nvPr/>
        </p:nvSpPr>
        <p:spPr>
          <a:xfrm>
            <a:off x="6642000" y="513720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7781760" y="5132520"/>
            <a:ext cx="99252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>
            <a:off x="7781760" y="5886360"/>
            <a:ext cx="99252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6647040" y="588960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5524560" y="588636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4417920" y="588960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298680" y="588960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6622920" y="5138640"/>
            <a:ext cx="0" cy="64764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>
            <a:off x="3282840" y="5883120"/>
            <a:ext cx="0" cy="64800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7765920" y="5132520"/>
            <a:ext cx="0" cy="64764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8786880" y="5129280"/>
            <a:ext cx="0" cy="64764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4402080" y="5889600"/>
            <a:ext cx="0" cy="64764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5423040" y="5883120"/>
            <a:ext cx="0" cy="64800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7765920" y="5877000"/>
            <a:ext cx="0" cy="64764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H="1">
            <a:off x="4374720" y="5870520"/>
            <a:ext cx="107964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H="1">
            <a:off x="3250800" y="5870520"/>
            <a:ext cx="104292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H="1">
            <a:off x="7738920" y="5870520"/>
            <a:ext cx="104328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7740360" y="6550200"/>
            <a:ext cx="104292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5527800" y="5138640"/>
            <a:ext cx="992160" cy="6476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5513400" y="5870520"/>
            <a:ext cx="100800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>
            <a:off x="6635880" y="5870520"/>
            <a:ext cx="100800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6634080" y="6553080"/>
            <a:ext cx="1008000" cy="0"/>
          </a:xfrm>
          <a:prstGeom prst="line">
            <a:avLst/>
          </a:prstGeom>
          <a:ln w="5724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5784840" y="513252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6896160" y="513252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8010360" y="513252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3517920" y="588960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4664160" y="588960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5778360" y="588960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6902280" y="588960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>
            <a:off x="8023320" y="5889600"/>
            <a:ext cx="503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=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5516640" y="5361120"/>
            <a:ext cx="10335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6810480" y="5307120"/>
            <a:ext cx="67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>
            <a:off x="7943760" y="607680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3432240" y="607680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4600440" y="607212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5699160" y="607392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6816600" y="607392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7931160" y="5305320"/>
            <a:ext cx="673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2430360" y="6313320"/>
            <a:ext cx="962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5570640" y="5300640"/>
                <a:ext cx="8920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6659640" y="5310360"/>
                <a:ext cx="9554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812000" y="5295960"/>
                <a:ext cx="9367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3276720" y="6053040"/>
                <a:ext cx="1008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ξ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4427640" y="6110280"/>
                <a:ext cx="936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46880" y="6072120"/>
                <a:ext cx="934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6678720" y="6072120"/>
                <a:ext cx="9363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7764480" y="60768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ξ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ξ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1130400" y="5329080"/>
            <a:ext cx="1296720" cy="503280"/>
          </a:xfrm>
          <a:prstGeom prst="rect">
            <a:avLst/>
          </a:prstGeom>
          <a:solidFill>
            <a:srgbClr val="dae9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8" name=""/>
              <p:cNvSpPr txBox="1"/>
              <p:nvPr/>
            </p:nvSpPr>
            <p:spPr>
              <a:xfrm>
                <a:off x="1168560" y="5299200"/>
                <a:ext cx="12236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ξ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2" dur="indefinite" restart="never" nodeType="tmRoot">
          <p:childTnLst>
            <p:seq>
              <p:cTn id="13343" dur="indefinite" nodeType="mainSeq">
                <p:childTnLst>
                  <p:par>
                    <p:cTn id="13344" fill="hold">
                      <p:stCondLst>
                        <p:cond delay="0"/>
                      </p:stCondLst>
                      <p:childTnLst>
                        <p:par>
                          <p:cTn id="13345" fill="hold">
                            <p:stCondLst>
                              <p:cond delay="0"/>
                            </p:stCondLst>
                            <p:childTnLst>
                              <p:par>
                                <p:cTn id="13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8" dur="500"/>
                                        <p:tgtEl>
                                          <p:spTgt spid="3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9" fill="hold">
                      <p:stCondLst>
                        <p:cond delay="indefinite"/>
                      </p:stCondLst>
                      <p:childTnLst>
                        <p:par>
                          <p:cTn id="13350" fill="hold">
                            <p:stCondLst>
                              <p:cond delay="0"/>
                            </p:stCondLst>
                            <p:childTnLst>
                              <p:par>
                                <p:cTn id="13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53" dur="2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7" dur="1000" fill="hold"/>
                                        <p:tgtEl>
                                          <p:spTgt spid="3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8" dur="1000" fill="hold"/>
                                        <p:tgtEl>
                                          <p:spTgt spid="3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9" dur="1000"/>
                                        <p:tgtEl>
                                          <p:spTgt spid="3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0" fill="hold">
                      <p:stCondLst>
                        <p:cond delay="indefinite"/>
                      </p:stCondLst>
                      <p:childTnLst>
                        <p:par>
                          <p:cTn id="13361" fill="hold">
                            <p:stCondLst>
                              <p:cond delay="0"/>
                            </p:stCondLst>
                            <p:childTnLst>
                              <p:par>
                                <p:cTn id="13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4" dur="10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7" dur="1000"/>
                                        <p:tgtEl>
                                          <p:spTgt spid="3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8" fill="hold">
                      <p:stCondLst>
                        <p:cond delay="indefinite"/>
                      </p:stCondLst>
                      <p:childTnLst>
                        <p:par>
                          <p:cTn id="13369" fill="hold">
                            <p:stCondLst>
                              <p:cond delay="0"/>
                            </p:stCondLst>
                            <p:childTnLst>
                              <p:par>
                                <p:cTn id="13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72" dur="10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75" dur="1000"/>
                                        <p:tgtEl>
                                          <p:spTgt spid="3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79" dur="1000"/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82" dur="1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85" dur="1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89" dur="1000"/>
                                        <p:tgtEl>
                                          <p:spTgt spid="3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92" dur="10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95" dur="1000"/>
                                        <p:tgtEl>
                                          <p:spTgt spid="3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98" dur="1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02" dur="10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05" dur="1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08" dur="1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11" dur="10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15" dur="1000"/>
                                        <p:tgtEl>
                                          <p:spTgt spid="3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18" dur="1000"/>
                                        <p:tgtEl>
                                          <p:spTgt spid="3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21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24" dur="1000"/>
                                        <p:tgtEl>
                                          <p:spTgt spid="3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27" dur="1000"/>
                                        <p:tgtEl>
                                          <p:spTgt spid="3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31" dur="10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34" dur="1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37" dur="10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41" dur="10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44" dur="10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47" dur="10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50" dur="10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54" dur="1000"/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57" dur="10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60" dur="10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63" dur="10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66" dur="1000"/>
                                        <p:tgtEl>
                                          <p:spTgt spid="3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7" fill="hold">
                      <p:stCondLst>
                        <p:cond delay="indefinite"/>
                      </p:stCondLst>
                      <p:childTnLst>
                        <p:par>
                          <p:cTn id="13468" fill="hold">
                            <p:stCondLst>
                              <p:cond delay="0"/>
                            </p:stCondLst>
                            <p:childTnLst>
                              <p:par>
                                <p:cTn id="13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1" dur="1000" fill="hold"/>
                                        <p:tgtEl>
                                          <p:spTgt spid="3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2" dur="1000" fill="hold"/>
                                        <p:tgtEl>
                                          <p:spTgt spid="3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3" dur="1000"/>
                                        <p:tgtEl>
                                          <p:spTgt spid="3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7" dur="1000" fill="hold"/>
                                        <p:tgtEl>
                                          <p:spTgt spid="3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8" dur="1000" fill="hold"/>
                                        <p:tgtEl>
                                          <p:spTgt spid="3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9" dur="1000"/>
                                        <p:tgtEl>
                                          <p:spTgt spid="3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3" dur="1000" fill="hold"/>
                                        <p:tgtEl>
                                          <p:spTgt spid="3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4" dur="1000" fill="hold"/>
                                        <p:tgtEl>
                                          <p:spTgt spid="3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5" dur="10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9" dur="1000" fill="hold"/>
                                        <p:tgtEl>
                                          <p:spTgt spid="3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0" dur="1000" fill="hold"/>
                                        <p:tgtEl>
                                          <p:spTgt spid="3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1" dur="1000"/>
                                        <p:tgtEl>
                                          <p:spTgt spid="3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5" dur="1000" fill="hold"/>
                                        <p:tgtEl>
                                          <p:spTgt spid="3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6" dur="1000" fill="hold"/>
                                        <p:tgtEl>
                                          <p:spTgt spid="3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7" dur="10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1" dur="1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2" dur="1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3" dur="10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7" dur="1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8" dur="1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9" dur="1000"/>
                                        <p:tgtEl>
                                          <p:spTgt spid="3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3" dur="10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4" dur="1000" fill="hold"/>
                                        <p:tgtEl>
                                          <p:spTgt spid="3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5" dur="10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6" fill="hold">
                      <p:stCondLst>
                        <p:cond delay="indefinite"/>
                      </p:stCondLst>
                      <p:childTnLst>
                        <p:par>
                          <p:cTn id="13517" fill="hold">
                            <p:stCondLst>
                              <p:cond delay="0"/>
                            </p:stCondLst>
                            <p:childTnLst>
                              <p:par>
                                <p:cTn id="13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19" dur="1000"/>
                                        <p:tgtEl>
                                          <p:spTgt spid="3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23" dur="1000"/>
                                        <p:tgtEl>
                                          <p:spTgt spid="3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26" dur="1000"/>
                                        <p:tgtEl>
                                          <p:spTgt spid="3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0" dur="1000"/>
                                        <p:tgtEl>
                                          <p:spTgt spid="3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33" dur="10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37" dur="1000"/>
                                        <p:tgtEl>
                                          <p:spTgt spid="3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40" dur="1000"/>
                                        <p:tgtEl>
                                          <p:spTgt spid="3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4" dur="1000"/>
                                        <p:tgtEl>
                                          <p:spTgt spid="3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47" dur="10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1" dur="10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54" dur="1000"/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58" dur="1000"/>
                                        <p:tgtEl>
                                          <p:spTgt spid="3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61" dur="1000"/>
                                        <p:tgtEl>
                                          <p:spTgt spid="3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65" dur="1000"/>
                                        <p:tgtEl>
                                          <p:spTgt spid="3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68" dur="1000"/>
                                        <p:tgtEl>
                                          <p:spTgt spid="3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2" dur="1000"/>
                                        <p:tgtEl>
                                          <p:spTgt spid="3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en-US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26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 Какие системы называются нелинейно деформируемыми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 Виды нелинейностей, влияющих на поведение деформируемых систем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2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 Чем различаются процессы деформирования систем с мягкой и жёс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линейностями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 Чем обусловлена физическая нелинейность (ФН)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3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Примеры расчётных мод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линейного деформирования материалов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4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 В чём сущность геометрической нелинейности (ГН)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5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Примеры проявления Г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деформировании некоторых типов стержневых конструкций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6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 Что такое конструктивная нелинейность (КН)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7 )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аков общий признак КН?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7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 Что называется «расчётом по деформированной схеме»?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7 )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 Характерные случаи проявления конструктивной нелинейности в рабо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роительных конструкций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7, 8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  Как классифицируются задачи расчёта нелинейно деформируемых систем по вид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елинейностей?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9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Какие виды и сочетания нелинейностей наиболее актуаль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ля строительных конструкций?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9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Методы расчёта нелинейно деформируемых систем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9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Понятие об упругопластическом деформировании стержневых систем в случа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тяжения/сжатия и изгиба элементов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0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en-US" sz="5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13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едельное состояние се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 изгибе (пластический шарнир)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3 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Расчёты физически нелинейно деформируемых систем методом преде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вновесия: основная идея определения предельной (разрушающей) нагрузки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4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. Статическая, кинематическая и обобщающая (двойственная) теоремы те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едельного равновесия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5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. Применение методов теории предельного равновесия для определения пред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грузок балок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7</a:t>
            </a:r>
            <a:r>
              <a:rPr b="1" lang="en-US" sz="5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en-US" sz="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20 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м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1, 22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и пластин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23</a:t>
            </a:r>
            <a:r>
              <a:rPr b="1" lang="en-US" sz="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–</a:t>
            </a:r>
            <a:r>
              <a:rPr b="1" lang="en-US" sz="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25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– общие представления.     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395280" y="63216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1040" y="260280"/>
            <a:ext cx="8569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Физическ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словленная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физико-механическими свойствами материал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описываемыми законом Г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9960" y="1270080"/>
            <a:ext cx="1957320" cy="14032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70040" y="2449440"/>
            <a:ext cx="3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5760" y="2587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0880" y="26496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960" y="92376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754440" y="1160640"/>
                <a:ext cx="33130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54440" y="1709640"/>
                <a:ext cx="3313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7093080" y="1206360"/>
            <a:ext cx="126720" cy="943200"/>
          </a:xfrm>
          <a:custGeom>
            <a:avLst/>
            <a:gdLst>
              <a:gd name="textAreaLeft" fmla="*/ 0 w 126720"/>
              <a:gd name="textAreaRight" fmla="*/ 45720 w 126720"/>
              <a:gd name="textAreaTop" fmla="*/ 24480 h 943200"/>
              <a:gd name="textAreaBottom" fmla="*/ 91872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1080" y="1477800"/>
            <a:ext cx="17636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н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я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де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4640" y="1558800"/>
            <a:ext cx="1936800" cy="1116000"/>
          </a:xfrm>
          <a:custGeom>
            <a:avLst/>
            <a:gdLst/>
            <a:ahLst/>
            <a:rect l="l" t="t" r="r" b="b"/>
            <a:pathLst>
              <a:path w="1220" h="661">
                <a:moveTo>
                  <a:pt x="0" y="661"/>
                </a:moveTo>
                <a:cubicBezTo>
                  <a:pt x="3" y="623"/>
                  <a:pt x="17" y="496"/>
                  <a:pt x="24" y="430"/>
                </a:cubicBezTo>
                <a:cubicBezTo>
                  <a:pt x="31" y="364"/>
                  <a:pt x="37" y="295"/>
                  <a:pt x="45" y="265"/>
                </a:cubicBezTo>
                <a:cubicBezTo>
                  <a:pt x="53" y="235"/>
                  <a:pt x="64" y="250"/>
                  <a:pt x="73" y="247"/>
                </a:cubicBezTo>
                <a:cubicBezTo>
                  <a:pt x="82" y="244"/>
                  <a:pt x="88" y="247"/>
                  <a:pt x="102" y="247"/>
                </a:cubicBezTo>
                <a:cubicBezTo>
                  <a:pt x="116" y="247"/>
                  <a:pt x="142" y="247"/>
                  <a:pt x="156" y="247"/>
                </a:cubicBezTo>
                <a:cubicBezTo>
                  <a:pt x="170" y="247"/>
                  <a:pt x="177" y="247"/>
                  <a:pt x="186" y="244"/>
                </a:cubicBezTo>
                <a:cubicBezTo>
                  <a:pt x="195" y="241"/>
                  <a:pt x="189" y="242"/>
                  <a:pt x="209" y="231"/>
                </a:cubicBezTo>
                <a:cubicBezTo>
                  <a:pt x="229" y="220"/>
                  <a:pt x="264" y="199"/>
                  <a:pt x="303" y="178"/>
                </a:cubicBezTo>
                <a:cubicBezTo>
                  <a:pt x="342" y="157"/>
                  <a:pt x="391" y="131"/>
                  <a:pt x="445" y="107"/>
                </a:cubicBezTo>
                <a:cubicBezTo>
                  <a:pt x="499" y="83"/>
                  <a:pt x="570" y="52"/>
                  <a:pt x="629" y="35"/>
                </a:cubicBezTo>
                <a:cubicBezTo>
                  <a:pt x="688" y="18"/>
                  <a:pt x="748" y="13"/>
                  <a:pt x="801" y="7"/>
                </a:cubicBezTo>
                <a:cubicBezTo>
                  <a:pt x="854" y="1"/>
                  <a:pt x="899" y="0"/>
                  <a:pt x="948" y="1"/>
                </a:cubicBezTo>
                <a:cubicBezTo>
                  <a:pt x="997" y="2"/>
                  <a:pt x="1052" y="4"/>
                  <a:pt x="1097" y="11"/>
                </a:cubicBezTo>
                <a:cubicBezTo>
                  <a:pt x="1142" y="18"/>
                  <a:pt x="1195" y="39"/>
                  <a:pt x="122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1240" y="1155600"/>
            <a:ext cx="1230480" cy="863640"/>
          </a:xfrm>
          <a:custGeom>
            <a:avLst/>
            <a:gdLst/>
            <a:ahLst/>
            <a:rect l="l" t="t" r="r" b="b"/>
            <a:pathLst>
              <a:path w="775" h="349">
                <a:moveTo>
                  <a:pt x="0" y="349"/>
                </a:moveTo>
                <a:cubicBezTo>
                  <a:pt x="5" y="338"/>
                  <a:pt x="13" y="305"/>
                  <a:pt x="28" y="284"/>
                </a:cubicBezTo>
                <a:cubicBezTo>
                  <a:pt x="43" y="263"/>
                  <a:pt x="60" y="246"/>
                  <a:pt x="88" y="224"/>
                </a:cubicBezTo>
                <a:cubicBezTo>
                  <a:pt x="116" y="202"/>
                  <a:pt x="155" y="176"/>
                  <a:pt x="196" y="152"/>
                </a:cubicBezTo>
                <a:cubicBezTo>
                  <a:pt x="237" y="128"/>
                  <a:pt x="287" y="99"/>
                  <a:pt x="334" y="77"/>
                </a:cubicBezTo>
                <a:cubicBezTo>
                  <a:pt x="381" y="55"/>
                  <a:pt x="432" y="36"/>
                  <a:pt x="478" y="23"/>
                </a:cubicBezTo>
                <a:cubicBezTo>
                  <a:pt x="524" y="10"/>
                  <a:pt x="570" y="4"/>
                  <a:pt x="610" y="2"/>
                </a:cubicBezTo>
                <a:cubicBezTo>
                  <a:pt x="650" y="0"/>
                  <a:pt x="691" y="5"/>
                  <a:pt x="718" y="8"/>
                </a:cubicBezTo>
                <a:cubicBezTo>
                  <a:pt x="745" y="11"/>
                  <a:pt x="763" y="20"/>
                  <a:pt x="775" y="2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640" y="2279520"/>
            <a:ext cx="939960" cy="395280"/>
          </a:xfrm>
          <a:custGeom>
            <a:avLst/>
            <a:gdLst/>
            <a:ahLst/>
            <a:rect l="l" t="t" r="r" b="b"/>
            <a:pathLst>
              <a:path w="592" h="281">
                <a:moveTo>
                  <a:pt x="0" y="281"/>
                </a:moveTo>
                <a:cubicBezTo>
                  <a:pt x="7" y="270"/>
                  <a:pt x="25" y="235"/>
                  <a:pt x="43" y="212"/>
                </a:cubicBezTo>
                <a:cubicBezTo>
                  <a:pt x="61" y="189"/>
                  <a:pt x="80" y="166"/>
                  <a:pt x="106" y="143"/>
                </a:cubicBezTo>
                <a:cubicBezTo>
                  <a:pt x="132" y="120"/>
                  <a:pt x="162" y="95"/>
                  <a:pt x="199" y="74"/>
                </a:cubicBezTo>
                <a:cubicBezTo>
                  <a:pt x="236" y="53"/>
                  <a:pt x="281" y="32"/>
                  <a:pt x="325" y="20"/>
                </a:cubicBezTo>
                <a:cubicBezTo>
                  <a:pt x="369" y="8"/>
                  <a:pt x="419" y="4"/>
                  <a:pt x="463" y="2"/>
                </a:cubicBezTo>
                <a:cubicBezTo>
                  <a:pt x="507" y="0"/>
                  <a:pt x="565" y="7"/>
                  <a:pt x="59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4640" y="2301840"/>
            <a:ext cx="1785960" cy="360360"/>
          </a:xfrm>
          <a:custGeom>
            <a:avLst/>
            <a:gdLst/>
            <a:ahLst/>
            <a:rect l="l" t="t" r="r" b="b"/>
            <a:pathLst>
              <a:path w="1125" h="244">
                <a:moveTo>
                  <a:pt x="0" y="244"/>
                </a:moveTo>
                <a:cubicBezTo>
                  <a:pt x="31" y="240"/>
                  <a:pt x="119" y="231"/>
                  <a:pt x="186" y="222"/>
                </a:cubicBezTo>
                <a:cubicBezTo>
                  <a:pt x="253" y="213"/>
                  <a:pt x="330" y="200"/>
                  <a:pt x="399" y="189"/>
                </a:cubicBezTo>
                <a:cubicBezTo>
                  <a:pt x="468" y="178"/>
                  <a:pt x="536" y="166"/>
                  <a:pt x="598" y="153"/>
                </a:cubicBezTo>
                <a:cubicBezTo>
                  <a:pt x="660" y="140"/>
                  <a:pt x="715" y="126"/>
                  <a:pt x="774" y="111"/>
                </a:cubicBezTo>
                <a:cubicBezTo>
                  <a:pt x="833" y="96"/>
                  <a:pt x="893" y="81"/>
                  <a:pt x="951" y="63"/>
                </a:cubicBezTo>
                <a:cubicBezTo>
                  <a:pt x="1009" y="45"/>
                  <a:pt x="1089" y="13"/>
                  <a:pt x="112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32732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5240" y="2031840"/>
            <a:ext cx="17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етон, древес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73320" y="2170080"/>
            <a:ext cx="154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лимеры    (резина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10160" y="2282760"/>
            <a:ext cx="3852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лучае ЛНС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):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7418520" y="2205000"/>
                <a:ext cx="136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490760" y="1216080"/>
            <a:ext cx="1338120" cy="468360"/>
          </a:xfrm>
          <a:custGeom>
            <a:avLst/>
            <a:gdLst/>
            <a:ahLst/>
            <a:rect l="l" t="t" r="r" b="b"/>
            <a:pathLst>
              <a:path w="843" h="285">
                <a:moveTo>
                  <a:pt x="0" y="285"/>
                </a:moveTo>
                <a:cubicBezTo>
                  <a:pt x="20" y="277"/>
                  <a:pt x="75" y="254"/>
                  <a:pt x="120" y="240"/>
                </a:cubicBezTo>
                <a:cubicBezTo>
                  <a:pt x="165" y="226"/>
                  <a:pt x="205" y="216"/>
                  <a:pt x="267" y="204"/>
                </a:cubicBezTo>
                <a:cubicBezTo>
                  <a:pt x="329" y="192"/>
                  <a:pt x="427" y="183"/>
                  <a:pt x="490" y="168"/>
                </a:cubicBezTo>
                <a:cubicBezTo>
                  <a:pt x="553" y="153"/>
                  <a:pt x="602" y="134"/>
                  <a:pt x="645" y="117"/>
                </a:cubicBezTo>
                <a:cubicBezTo>
                  <a:pt x="688" y="100"/>
                  <a:pt x="717" y="85"/>
                  <a:pt x="750" y="66"/>
                </a:cubicBezTo>
                <a:cubicBezTo>
                  <a:pt x="783" y="47"/>
                  <a:pt x="824" y="14"/>
                  <a:pt x="843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56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48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56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1040" y="260280"/>
            <a:ext cx="8569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Физическ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словленная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физико-механическими свойствами материала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 описываемыми законом Г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251000"/>
            <a:ext cx="1381320" cy="828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7960" y="1889280"/>
            <a:ext cx="360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16160" y="205740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04800" y="2055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6920" y="981000"/>
            <a:ext cx="3776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54440" y="1160640"/>
                <a:ext cx="33130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754440" y="1709640"/>
                <a:ext cx="3313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7093080" y="1206360"/>
            <a:ext cx="126720" cy="943200"/>
          </a:xfrm>
          <a:custGeom>
            <a:avLst/>
            <a:gdLst>
              <a:gd name="textAreaLeft" fmla="*/ 0 w 126720"/>
              <a:gd name="textAreaRight" fmla="*/ 45720 w 126720"/>
              <a:gd name="textAreaTop" fmla="*/ 24480 h 943200"/>
              <a:gd name="textAreaBottom" fmla="*/ 91872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1477800"/>
            <a:ext cx="17636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нс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пря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де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7120" y="1395360"/>
            <a:ext cx="1160640" cy="674640"/>
          </a:xfrm>
          <a:custGeom>
            <a:avLst/>
            <a:gdLst/>
            <a:ahLst/>
            <a:rect l="l" t="t" r="r" b="b"/>
            <a:pathLst>
              <a:path w="1220" h="661">
                <a:moveTo>
                  <a:pt x="0" y="661"/>
                </a:moveTo>
                <a:cubicBezTo>
                  <a:pt x="3" y="623"/>
                  <a:pt x="17" y="496"/>
                  <a:pt x="24" y="430"/>
                </a:cubicBezTo>
                <a:cubicBezTo>
                  <a:pt x="31" y="364"/>
                  <a:pt x="37" y="295"/>
                  <a:pt x="45" y="265"/>
                </a:cubicBezTo>
                <a:cubicBezTo>
                  <a:pt x="53" y="235"/>
                  <a:pt x="64" y="250"/>
                  <a:pt x="73" y="247"/>
                </a:cubicBezTo>
                <a:cubicBezTo>
                  <a:pt x="82" y="244"/>
                  <a:pt x="88" y="247"/>
                  <a:pt x="102" y="247"/>
                </a:cubicBezTo>
                <a:cubicBezTo>
                  <a:pt x="116" y="247"/>
                  <a:pt x="142" y="247"/>
                  <a:pt x="156" y="247"/>
                </a:cubicBezTo>
                <a:cubicBezTo>
                  <a:pt x="170" y="247"/>
                  <a:pt x="177" y="247"/>
                  <a:pt x="186" y="244"/>
                </a:cubicBezTo>
                <a:cubicBezTo>
                  <a:pt x="195" y="241"/>
                  <a:pt x="189" y="242"/>
                  <a:pt x="209" y="231"/>
                </a:cubicBezTo>
                <a:cubicBezTo>
                  <a:pt x="229" y="220"/>
                  <a:pt x="264" y="199"/>
                  <a:pt x="303" y="178"/>
                </a:cubicBezTo>
                <a:cubicBezTo>
                  <a:pt x="342" y="157"/>
                  <a:pt x="391" y="131"/>
                  <a:pt x="445" y="107"/>
                </a:cubicBezTo>
                <a:cubicBezTo>
                  <a:pt x="499" y="83"/>
                  <a:pt x="570" y="52"/>
                  <a:pt x="629" y="35"/>
                </a:cubicBezTo>
                <a:cubicBezTo>
                  <a:pt x="688" y="18"/>
                  <a:pt x="748" y="13"/>
                  <a:pt x="801" y="7"/>
                </a:cubicBezTo>
                <a:cubicBezTo>
                  <a:pt x="854" y="1"/>
                  <a:pt x="899" y="0"/>
                  <a:pt x="948" y="1"/>
                </a:cubicBezTo>
                <a:cubicBezTo>
                  <a:pt x="997" y="2"/>
                  <a:pt x="1052" y="4"/>
                  <a:pt x="1097" y="11"/>
                </a:cubicBezTo>
                <a:cubicBezTo>
                  <a:pt x="1142" y="18"/>
                  <a:pt x="1195" y="39"/>
                  <a:pt x="1220" y="4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10160" y="2282760"/>
            <a:ext cx="3852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лучае ЛНС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):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418520" y="2205000"/>
                <a:ext cx="136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801720" y="2768760"/>
            <a:ext cx="75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 Narrow"/>
              </a:rPr>
              <a:t>Расчётные модели нелинейного деформирования матери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5360" y="3154320"/>
            <a:ext cx="3097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тепенной зако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7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.Б. Бюльфинге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693</a:t>
            </a: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7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5960" y="3849840"/>
            <a:ext cx="1454040" cy="90000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92480" y="4519440"/>
            <a:ext cx="3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1400" y="469728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1560" y="4726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7480" y="35132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0920" y="3948120"/>
            <a:ext cx="1140120" cy="801720"/>
          </a:xfrm>
          <a:custGeom>
            <a:avLst/>
            <a:gdLst/>
            <a:ahLst/>
            <a:rect l="l" t="t" r="r" b="b"/>
            <a:pathLst>
              <a:path w="489" h="505">
                <a:moveTo>
                  <a:pt x="6" y="505"/>
                </a:moveTo>
                <a:cubicBezTo>
                  <a:pt x="6" y="490"/>
                  <a:pt x="0" y="451"/>
                  <a:pt x="9" y="412"/>
                </a:cubicBezTo>
                <a:cubicBezTo>
                  <a:pt x="18" y="373"/>
                  <a:pt x="32" y="316"/>
                  <a:pt x="61" y="272"/>
                </a:cubicBezTo>
                <a:cubicBezTo>
                  <a:pt x="90" y="228"/>
                  <a:pt x="134" y="184"/>
                  <a:pt x="181" y="148"/>
                </a:cubicBezTo>
                <a:cubicBezTo>
                  <a:pt x="228" y="112"/>
                  <a:pt x="290" y="81"/>
                  <a:pt x="341" y="56"/>
                </a:cubicBezTo>
                <a:cubicBezTo>
                  <a:pt x="392" y="31"/>
                  <a:pt x="458" y="12"/>
                  <a:pt x="4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08160" y="4284720"/>
                <a:ext cx="965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836880" y="4637160"/>
            <a:ext cx="1309680" cy="62064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87880" y="5006880"/>
            <a:ext cx="36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5180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17800" y="5226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738000" y="5841360"/>
            <a:ext cx="361800" cy="720720"/>
          </a:xfrm>
          <a:custGeom>
            <a:avLst/>
            <a:gdLst/>
            <a:ahLst/>
            <a:rect l="l" t="t" r="r" b="b"/>
            <a:pathLst>
              <a:path w="489" h="505">
                <a:moveTo>
                  <a:pt x="6" y="505"/>
                </a:moveTo>
                <a:cubicBezTo>
                  <a:pt x="6" y="490"/>
                  <a:pt x="0" y="451"/>
                  <a:pt x="9" y="412"/>
                </a:cubicBezTo>
                <a:cubicBezTo>
                  <a:pt x="18" y="373"/>
                  <a:pt x="32" y="316"/>
                  <a:pt x="61" y="272"/>
                </a:cubicBezTo>
                <a:cubicBezTo>
                  <a:pt x="90" y="228"/>
                  <a:pt x="134" y="184"/>
                  <a:pt x="181" y="148"/>
                </a:cubicBezTo>
                <a:cubicBezTo>
                  <a:pt x="228" y="112"/>
                  <a:pt x="290" y="81"/>
                  <a:pt x="341" y="56"/>
                </a:cubicBezTo>
                <a:cubicBezTo>
                  <a:pt x="392" y="31"/>
                  <a:pt x="458" y="12"/>
                  <a:pt x="4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60840" y="3992400"/>
                <a:ext cx="16905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73120" y="5046840"/>
            <a:ext cx="877680" cy="504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9520" y="533232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53928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720" y="5529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5800" y="47419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120" y="5168880"/>
            <a:ext cx="666720" cy="370080"/>
          </a:xfrm>
          <a:custGeom>
            <a:avLst/>
            <a:gdLst/>
            <a:ahLst/>
            <a:rect l="l" t="t" r="r" b="b"/>
            <a:pathLst>
              <a:path w="489" h="505">
                <a:moveTo>
                  <a:pt x="6" y="505"/>
                </a:moveTo>
                <a:cubicBezTo>
                  <a:pt x="6" y="490"/>
                  <a:pt x="0" y="451"/>
                  <a:pt x="9" y="412"/>
                </a:cubicBezTo>
                <a:cubicBezTo>
                  <a:pt x="18" y="373"/>
                  <a:pt x="32" y="316"/>
                  <a:pt x="61" y="272"/>
                </a:cubicBezTo>
                <a:cubicBezTo>
                  <a:pt x="90" y="228"/>
                  <a:pt x="134" y="184"/>
                  <a:pt x="181" y="148"/>
                </a:cubicBezTo>
                <a:cubicBezTo>
                  <a:pt x="228" y="112"/>
                  <a:pt x="290" y="81"/>
                  <a:pt x="341" y="56"/>
                </a:cubicBezTo>
                <a:cubicBezTo>
                  <a:pt x="392" y="31"/>
                  <a:pt x="458" y="12"/>
                  <a:pt x="48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400" y="5884920"/>
            <a:ext cx="878040" cy="504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70160" y="617076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62406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4680" y="6357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720" y="5570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84400" y="5041800"/>
            <a:ext cx="878040" cy="505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0800" y="532764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360" y="53881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65320" y="55245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27080" y="47372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75040" y="5880240"/>
            <a:ext cx="877680" cy="504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81440" y="616572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62355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5960" y="63579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8000" y="55656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95560" y="5101920"/>
            <a:ext cx="64764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75040" y="6091200"/>
            <a:ext cx="763560" cy="290520"/>
          </a:xfrm>
          <a:custGeom>
            <a:avLst/>
            <a:gdLst/>
            <a:ahLst/>
            <a:rect l="l" t="t" r="r" b="b"/>
            <a:pathLst>
              <a:path w="481" h="183">
                <a:moveTo>
                  <a:pt x="0" y="183"/>
                </a:moveTo>
                <a:lnTo>
                  <a:pt x="1" y="0"/>
                </a:lnTo>
                <a:lnTo>
                  <a:pt x="4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720" y="5934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219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521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00320" y="5781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1760" y="6019920"/>
            <a:ext cx="75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35200" y="5867280"/>
            <a:ext cx="3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50920" y="6068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54560" y="3156120"/>
            <a:ext cx="20872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араболическ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183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Ф.И. Герстнер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1756</a:t>
            </a: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8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44800" y="4686480"/>
            <a:ext cx="982800" cy="558720"/>
          </a:xfrm>
          <a:custGeom>
            <a:avLst/>
            <a:gdLst/>
            <a:ahLst/>
            <a:rect l="l" t="t" r="r" b="b"/>
            <a:pathLst>
              <a:path w="619" h="510">
                <a:moveTo>
                  <a:pt x="0" y="510"/>
                </a:moveTo>
                <a:cubicBezTo>
                  <a:pt x="15" y="484"/>
                  <a:pt x="57" y="404"/>
                  <a:pt x="91" y="354"/>
                </a:cubicBezTo>
                <a:cubicBezTo>
                  <a:pt x="125" y="304"/>
                  <a:pt x="163" y="253"/>
                  <a:pt x="205" y="210"/>
                </a:cubicBezTo>
                <a:cubicBezTo>
                  <a:pt x="247" y="167"/>
                  <a:pt x="294" y="127"/>
                  <a:pt x="343" y="96"/>
                </a:cubicBezTo>
                <a:cubicBezTo>
                  <a:pt x="392" y="65"/>
                  <a:pt x="453" y="40"/>
                  <a:pt x="499" y="24"/>
                </a:cubicBezTo>
                <a:cubicBezTo>
                  <a:pt x="545" y="8"/>
                  <a:pt x="594" y="5"/>
                  <a:pt x="61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64000" y="5927760"/>
                <a:ext cx="1887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;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ω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203640" y="5532480"/>
            <a:ext cx="25923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Модель А.А. Ильюш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958)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911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429264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1800" y="321300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21300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0720" y="3184560"/>
            <a:ext cx="32940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Идеализированные диаграм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70800" y="3830760"/>
            <a:ext cx="878040" cy="5047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77200" y="411624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4211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1720" y="43084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70800" y="4041720"/>
            <a:ext cx="763560" cy="290520"/>
          </a:xfrm>
          <a:custGeom>
            <a:avLst/>
            <a:gdLst/>
            <a:ahLst/>
            <a:rect l="l" t="t" r="r" b="b"/>
            <a:pathLst>
              <a:path w="481" h="183">
                <a:moveTo>
                  <a:pt x="0" y="183"/>
                </a:moveTo>
                <a:lnTo>
                  <a:pt x="1" y="0"/>
                </a:lnTo>
                <a:lnTo>
                  <a:pt x="48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0960" y="3817800"/>
            <a:ext cx="38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7040" y="40194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3833640"/>
            <a:ext cx="877680" cy="505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26320" y="411948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86280" y="4221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311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4048200"/>
            <a:ext cx="772920" cy="287280"/>
          </a:xfrm>
          <a:custGeom>
            <a:avLst/>
            <a:gdLst/>
            <a:ahLst/>
            <a:rect l="l" t="t" r="r" b="b"/>
            <a:pathLst>
              <a:path w="487" h="181">
                <a:moveTo>
                  <a:pt x="0" y="181"/>
                </a:moveTo>
                <a:lnTo>
                  <a:pt x="123" y="0"/>
                </a:lnTo>
                <a:lnTo>
                  <a:pt x="48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80080" y="3821040"/>
            <a:ext cx="3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96160" y="40226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46920" y="4044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99200" y="4025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56120" y="35290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00880" y="35146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2600" y="3505320"/>
            <a:ext cx="123192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андт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37320" y="4425840"/>
            <a:ext cx="137484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де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руг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с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7880" y="3511440"/>
            <a:ext cx="130968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а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ен-Вен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73880" y="4425840"/>
            <a:ext cx="137484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де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ёстк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с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64240" y="5148360"/>
            <a:ext cx="3294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Модели с упрочнение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26040" y="5557680"/>
            <a:ext cx="878040" cy="505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32440" y="584352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86280" y="5913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06960" y="6035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26040" y="5549760"/>
            <a:ext cx="857520" cy="509760"/>
          </a:xfrm>
          <a:custGeom>
            <a:avLst/>
            <a:gdLst/>
            <a:ahLst/>
            <a:rect l="l" t="t" r="r" b="b"/>
            <a:pathLst>
              <a:path w="540" h="321">
                <a:moveTo>
                  <a:pt x="0" y="321"/>
                </a:moveTo>
                <a:lnTo>
                  <a:pt x="123" y="140"/>
                </a:lnTo>
                <a:lnTo>
                  <a:pt x="54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86560" y="5545080"/>
            <a:ext cx="3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02280" y="5746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53040" y="5769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05680" y="5749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75480" y="5557680"/>
            <a:ext cx="878040" cy="505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1880" y="5843520"/>
            <a:ext cx="36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35720" y="59133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0" y="60357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75480" y="5524560"/>
            <a:ext cx="711360" cy="534960"/>
          </a:xfrm>
          <a:custGeom>
            <a:avLst/>
            <a:gdLst/>
            <a:ahLst/>
            <a:rect l="l" t="t" r="r" b="b"/>
            <a:pathLst>
              <a:path w="448" h="337">
                <a:moveTo>
                  <a:pt x="0" y="337"/>
                </a:moveTo>
                <a:lnTo>
                  <a:pt x="1" y="154"/>
                </a:lnTo>
                <a:lnTo>
                  <a:pt x="44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5545080"/>
            <a:ext cx="388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1720" y="57466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6000" y="6093000"/>
            <a:ext cx="13557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руг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с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80360" y="6093000"/>
            <a:ext cx="13557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Жёстк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ластиче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54680" y="52484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4400" y="525456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30880" y="5589720"/>
            <a:ext cx="658800" cy="172800"/>
          </a:xfrm>
          <a:custGeom>
            <a:avLst/>
            <a:gdLst/>
            <a:ahLst/>
            <a:rect l="l" t="t" r="r" b="b"/>
            <a:pathLst>
              <a:path w="415" h="109">
                <a:moveTo>
                  <a:pt x="0" y="109"/>
                </a:moveTo>
                <a:cubicBezTo>
                  <a:pt x="12" y="103"/>
                  <a:pt x="46" y="83"/>
                  <a:pt x="75" y="71"/>
                </a:cubicBezTo>
                <a:cubicBezTo>
                  <a:pt x="104" y="59"/>
                  <a:pt x="138" y="48"/>
                  <a:pt x="175" y="39"/>
                </a:cubicBezTo>
                <a:cubicBezTo>
                  <a:pt x="212" y="30"/>
                  <a:pt x="255" y="21"/>
                  <a:pt x="295" y="15"/>
                </a:cubicBezTo>
                <a:cubicBezTo>
                  <a:pt x="335" y="9"/>
                  <a:pt x="390" y="3"/>
                  <a:pt x="41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78720" y="5575320"/>
            <a:ext cx="708120" cy="187200"/>
          </a:xfrm>
          <a:custGeom>
            <a:avLst/>
            <a:gdLst/>
            <a:ahLst/>
            <a:rect l="l" t="t" r="r" b="b"/>
            <a:pathLst>
              <a:path w="446" h="118">
                <a:moveTo>
                  <a:pt x="0" y="118"/>
                </a:moveTo>
                <a:cubicBezTo>
                  <a:pt x="14" y="110"/>
                  <a:pt x="55" y="85"/>
                  <a:pt x="86" y="72"/>
                </a:cubicBezTo>
                <a:cubicBezTo>
                  <a:pt x="117" y="59"/>
                  <a:pt x="149" y="49"/>
                  <a:pt x="186" y="40"/>
                </a:cubicBezTo>
                <a:cubicBezTo>
                  <a:pt x="223" y="31"/>
                  <a:pt x="263" y="23"/>
                  <a:pt x="306" y="16"/>
                </a:cubicBezTo>
                <a:cubicBezTo>
                  <a:pt x="349" y="9"/>
                  <a:pt x="417" y="3"/>
                  <a:pt x="44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1001880"/>
            <a:ext cx="358560" cy="7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074600"/>
            <a:ext cx="35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074600"/>
            <a:ext cx="216000" cy="935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2960" y="200016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353960"/>
            <a:ext cx="2160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14335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6200" y="995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5760" y="1139760"/>
            <a:ext cx="34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1880" y="1330200"/>
            <a:ext cx="14292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55880" y="1886040"/>
            <a:ext cx="360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59000" y="968400"/>
            <a:ext cx="393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7320" y="107460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" y="20098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7400" y="1074600"/>
            <a:ext cx="0" cy="93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65080" y="104940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8960" y="198108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1387440"/>
            <a:ext cx="34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3120" y="1074600"/>
            <a:ext cx="144360" cy="1079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" y="214956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61840" y="212580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85960" y="200988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46000" y="1890720"/>
            <a:ext cx="360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3680" y="2386080"/>
            <a:ext cx="993600" cy="353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4600" y="2381400"/>
            <a:ext cx="347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547640" y="2306520"/>
                <a:ext cx="15256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 rot="17123400">
            <a:off x="724680" y="1854720"/>
            <a:ext cx="1081080" cy="107640"/>
          </a:xfrm>
          <a:prstGeom prst="rightArrow">
            <a:avLst>
              <a:gd name="adj1" fmla="val 49454"/>
              <a:gd name="adj2" fmla="val 1179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7838000">
            <a:off x="2753640" y="2261520"/>
            <a:ext cx="287280" cy="108000"/>
          </a:xfrm>
          <a:prstGeom prst="rightArrow">
            <a:avLst>
              <a:gd name="adj1" fmla="val 51176"/>
              <a:gd name="adj2" fmla="val 774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1197000"/>
            <a:ext cx="936720" cy="287280"/>
          </a:xfrm>
          <a:custGeom>
            <a:avLst/>
            <a:gdLst/>
            <a:ahLst/>
            <a:rect l="l" t="t" r="r" b="b"/>
            <a:pathLst>
              <a:path w="590" h="181">
                <a:moveTo>
                  <a:pt x="0" y="181"/>
                </a:moveTo>
                <a:cubicBezTo>
                  <a:pt x="23" y="172"/>
                  <a:pt x="84" y="143"/>
                  <a:pt x="136" y="128"/>
                </a:cubicBezTo>
                <a:cubicBezTo>
                  <a:pt x="188" y="113"/>
                  <a:pt x="254" y="102"/>
                  <a:pt x="310" y="89"/>
                </a:cubicBezTo>
                <a:cubicBezTo>
                  <a:pt x="366" y="76"/>
                  <a:pt x="428" y="65"/>
                  <a:pt x="475" y="50"/>
                </a:cubicBezTo>
                <a:cubicBezTo>
                  <a:pt x="522" y="35"/>
                  <a:pt x="566" y="10"/>
                  <a:pt x="59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40"/>
                            </p:stCondLst>
                            <p:childTnLst>
                              <p:par>
                                <p:cTn id="8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240"/>
                            </p:stCondLst>
                            <p:childTnLst>
                              <p:par>
                                <p:cTn id="8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4240"/>
                            </p:stCondLst>
                            <p:childTnLst>
                              <p:par>
                                <p:cTn id="8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440"/>
                            </p:stCondLst>
                            <p:childTnLst>
                              <p:par>
                                <p:cTn id="8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440"/>
                            </p:stCondLst>
                            <p:childTnLst>
                              <p:par>
                                <p:cTn id="8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9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400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000"/>
                            </p:stCondLst>
                            <p:childTnLst>
                              <p:par>
                                <p:cTn id="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4000"/>
                            </p:stCondLst>
                            <p:childTnLst>
                              <p:par>
                                <p:cTn id="9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1040" y="260280"/>
            <a:ext cx="8569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еометрическ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бусловленная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большими перемещ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значительным формоизменен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4880" y="20239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нзор деформа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8120" y="2387520"/>
                <a:ext cx="25401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/2</m:t>
                              </m:r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ε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016600" y="1484280"/>
            <a:ext cx="3587760" cy="3384720"/>
          </a:xfrm>
          <a:prstGeom prst="rect">
            <a:avLst/>
          </a:prstGeom>
          <a:solidFill>
            <a:srgbClr val="ffe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157560" y="1487520"/>
                <a:ext cx="5400720" cy="33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v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w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v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w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y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zz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z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v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z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w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r>
                                              <m:t xml:space="preserve">z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z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222120" y="34639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ейные деформ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68240" y="3801960"/>
                <a:ext cx="18716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y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z</m:t>
                                </m:r>
                              </m:sub>
                            </m:sSub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584360" y="5114880"/>
            <a:ext cx="35892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84360" y="518796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55640" y="5187960"/>
            <a:ext cx="216000" cy="834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65440" y="61610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55640" y="5460840"/>
            <a:ext cx="216000" cy="14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90840" y="5533920"/>
            <a:ext cx="358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0720" y="52815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09720" y="5440320"/>
            <a:ext cx="14616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89120" y="5187960"/>
            <a:ext cx="144360" cy="979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39880" y="63039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60400" y="542124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89120" y="5738760"/>
            <a:ext cx="144360" cy="11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8120" y="58006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59040" y="5753160"/>
            <a:ext cx="105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0640" y="5811840"/>
            <a:ext cx="1429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0400" y="568152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40280" y="5254560"/>
            <a:ext cx="1695240" cy="11080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25720" y="631044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25880" y="63388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70160" y="60246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89240" y="5996160"/>
            <a:ext cx="53640" cy="5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74840" y="61642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86000" y="613584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17680" y="5178600"/>
            <a:ext cx="0" cy="841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16000" y="592452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6600" y="501804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62440" y="620568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044960" y="5216400"/>
            <a:ext cx="1541520" cy="11368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9506600">
            <a:off x="5491800" y="495720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46400" y="5470560"/>
            <a:ext cx="1616040" cy="890640"/>
          </a:xfrm>
          <a:custGeom>
            <a:avLst/>
            <a:gdLst/>
            <a:ahLst/>
            <a:rect l="l" t="t" r="r" b="b"/>
            <a:pathLst>
              <a:path w="876" h="474">
                <a:moveTo>
                  <a:pt x="0" y="474"/>
                </a:moveTo>
                <a:cubicBezTo>
                  <a:pt x="24" y="457"/>
                  <a:pt x="99" y="404"/>
                  <a:pt x="147" y="372"/>
                </a:cubicBezTo>
                <a:cubicBezTo>
                  <a:pt x="195" y="340"/>
                  <a:pt x="235" y="312"/>
                  <a:pt x="288" y="279"/>
                </a:cubicBezTo>
                <a:cubicBezTo>
                  <a:pt x="341" y="246"/>
                  <a:pt x="404" y="206"/>
                  <a:pt x="465" y="174"/>
                </a:cubicBezTo>
                <a:cubicBezTo>
                  <a:pt x="526" y="142"/>
                  <a:pt x="585" y="113"/>
                  <a:pt x="654" y="84"/>
                </a:cubicBezTo>
                <a:cubicBezTo>
                  <a:pt x="723" y="55"/>
                  <a:pt x="830" y="17"/>
                  <a:pt x="876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20308200">
            <a:off x="4917960" y="5552640"/>
            <a:ext cx="12970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Н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стя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98880" y="57117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75120" y="63453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38520" y="6346800"/>
            <a:ext cx="720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0,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40280" y="5002200"/>
            <a:ext cx="1415880" cy="1359000"/>
          </a:xfrm>
          <a:custGeom>
            <a:avLst/>
            <a:gdLst/>
            <a:ahLst/>
            <a:rect l="l" t="t" r="r" b="b"/>
            <a:pathLst>
              <a:path w="892" h="856">
                <a:moveTo>
                  <a:pt x="0" y="856"/>
                </a:moveTo>
                <a:cubicBezTo>
                  <a:pt x="28" y="833"/>
                  <a:pt x="109" y="769"/>
                  <a:pt x="169" y="720"/>
                </a:cubicBezTo>
                <a:cubicBezTo>
                  <a:pt x="229" y="671"/>
                  <a:pt x="299" y="615"/>
                  <a:pt x="361" y="561"/>
                </a:cubicBezTo>
                <a:cubicBezTo>
                  <a:pt x="423" y="507"/>
                  <a:pt x="481" y="455"/>
                  <a:pt x="541" y="396"/>
                </a:cubicBezTo>
                <a:cubicBezTo>
                  <a:pt x="601" y="337"/>
                  <a:pt x="666" y="273"/>
                  <a:pt x="724" y="207"/>
                </a:cubicBezTo>
                <a:cubicBezTo>
                  <a:pt x="782" y="141"/>
                  <a:pt x="857" y="43"/>
                  <a:pt x="892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637800">
            <a:off x="4214160" y="4984920"/>
            <a:ext cx="1033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Н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ж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54840" y="5084640"/>
            <a:ext cx="35892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954840" y="5157720"/>
            <a:ext cx="35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6120" y="5157720"/>
            <a:ext cx="216000" cy="835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7134120" y="58478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6120" y="5365800"/>
            <a:ext cx="216000" cy="142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61320" y="5438880"/>
            <a:ext cx="358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81960" y="515772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954840" y="5342040"/>
            <a:ext cx="1429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89760" y="5157720"/>
            <a:ext cx="28728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956280" y="61977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30880" y="53262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99120" y="5568840"/>
            <a:ext cx="266760" cy="2127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48360" y="5680080"/>
            <a:ext cx="358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65880" y="5661000"/>
            <a:ext cx="1051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216920" y="5691240"/>
            <a:ext cx="1425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130880" y="556092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75560" y="585144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99320" y="582300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78800" y="599112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02560" y="596736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6320" y="585144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40480" y="573876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0160" y="518652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90680" y="515772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01680" y="54975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17680" y="602136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98840" y="5900760"/>
            <a:ext cx="1296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Ф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атери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1200" y="1112760"/>
            <a:ext cx="8642520" cy="36828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50000">
                <a:srgbClr val="ffffd9"/>
              </a:gs>
              <a:gs pos="100000">
                <a:srgbClr val="ffe6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ущность ГН</a:t>
            </a:r>
            <a:r>
              <a:rPr b="1" lang="en-US" sz="2100" spc="-1" strike="noStrike">
                <a:solidFill>
                  <a:srgbClr val="990033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– непропорциональность деформаций и перемещ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720"/>
                            </p:stCondLst>
                            <p:childTnLst>
                              <p:par>
                                <p:cTn id="1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800"/>
                            </p:stCondLst>
                            <p:childTnLst>
                              <p:par>
                                <p:cTn id="1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1040" y="260280"/>
            <a:ext cx="8569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еометрическ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бусловленная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большими перемещениям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значительным формоизменением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2473200"/>
            <a:ext cx="71280" cy="28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5640" y="24732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5640" y="26161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26892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63640" y="26892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55640" y="2851200"/>
            <a:ext cx="10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23960" y="281304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28360" y="281772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35080" y="26161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5640" y="261612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198520"/>
            <a:ext cx="825480" cy="417600"/>
          </a:xfrm>
          <a:custGeom>
            <a:avLst/>
            <a:gdLst/>
            <a:ahLst/>
            <a:rect l="l" t="t" r="r" b="b"/>
            <a:pathLst>
              <a:path w="520" h="263">
                <a:moveTo>
                  <a:pt x="0" y="263"/>
                </a:moveTo>
                <a:cubicBezTo>
                  <a:pt x="21" y="262"/>
                  <a:pt x="80" y="262"/>
                  <a:pt x="124" y="255"/>
                </a:cubicBezTo>
                <a:cubicBezTo>
                  <a:pt x="168" y="248"/>
                  <a:pt x="221" y="236"/>
                  <a:pt x="265" y="219"/>
                </a:cubicBezTo>
                <a:cubicBezTo>
                  <a:pt x="309" y="202"/>
                  <a:pt x="357" y="177"/>
                  <a:pt x="391" y="153"/>
                </a:cubicBezTo>
                <a:cubicBezTo>
                  <a:pt x="425" y="129"/>
                  <a:pt x="450" y="101"/>
                  <a:pt x="472" y="75"/>
                </a:cubicBezTo>
                <a:cubicBezTo>
                  <a:pt x="494" y="49"/>
                  <a:pt x="510" y="16"/>
                  <a:pt x="52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 rot="17070000">
            <a:off x="1438200" y="2053440"/>
            <a:ext cx="28764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32" y="4225"/>
                </a:moveTo>
                <a:arcTo wR="10800" hR="10800" stAng="-8550041" swAng="12310169"/>
                <a:lnTo>
                  <a:pt x="10800" y="10800"/>
                </a:lnTo>
                <a:close/>
              </a:path>
              <a:path fill="none" w="21600" h="21600">
                <a:moveTo>
                  <a:pt x="2232" y="4225"/>
                </a:moveTo>
                <a:arcTo wR="10800" hR="10800" stAng="-8550041" swAng="12310169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87520" y="17953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755280" y="1700280"/>
            <a:ext cx="82692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55640" y="170028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55640" y="1704960"/>
            <a:ext cx="179280" cy="301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1050480" y="2209680"/>
            <a:ext cx="179640" cy="3016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0400" y="19540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1200" y="1112760"/>
            <a:ext cx="8642520" cy="368280"/>
          </a:xfrm>
          <a:prstGeom prst="rect">
            <a:avLst/>
          </a:prstGeom>
          <a:gradFill rotWithShape="0">
            <a:gsLst>
              <a:gs pos="0">
                <a:srgbClr val="ffe6b3"/>
              </a:gs>
              <a:gs pos="50000">
                <a:srgbClr val="ffffd9"/>
              </a:gs>
              <a:gs pos="100000">
                <a:srgbClr val="ffe6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ущность ГН</a:t>
            </a:r>
            <a:r>
              <a:rPr b="1" lang="en-US" sz="2100" spc="-1" strike="noStrike">
                <a:solidFill>
                  <a:srgbClr val="990033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– непропорциональность деформаций и перемещ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81120" y="219852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70200" y="217476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440" y="261612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66960" y="2587680"/>
            <a:ext cx="54000" cy="5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0240" y="226548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93960" y="2198520"/>
            <a:ext cx="0" cy="41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24000" y="1484280"/>
            <a:ext cx="16560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ривизна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 уравнени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70040" y="1720800"/>
                <a:ext cx="849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271600" y="2459160"/>
                <a:ext cx="13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ρl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2360" y="3022560"/>
            <a:ext cx="367200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еаризованн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33640" y="3662280"/>
            <a:ext cx="2212920" cy="136692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80920" y="490680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58680" y="3376440"/>
            <a:ext cx="4366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4920" y="487188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48040" y="501156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17640" y="5019840"/>
            <a:ext cx="549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147680" y="3943440"/>
            <a:ext cx="1825560" cy="10778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717200">
            <a:off x="1879920" y="444924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19240" y="50054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967120" y="3943440"/>
            <a:ext cx="0" cy="10810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128600" y="393696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12760" y="39146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49480" y="3919680"/>
            <a:ext cx="42840" cy="428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84160" y="3807000"/>
            <a:ext cx="2541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62080" y="3821040"/>
            <a:ext cx="1816200" cy="1193760"/>
          </a:xfrm>
          <a:custGeom>
            <a:avLst/>
            <a:gdLst/>
            <a:ahLst/>
            <a:rect l="l" t="t" r="r" b="b"/>
            <a:pathLst>
              <a:path w="1144" h="752">
                <a:moveTo>
                  <a:pt x="0" y="752"/>
                </a:moveTo>
                <a:cubicBezTo>
                  <a:pt x="35" y="731"/>
                  <a:pt x="130" y="673"/>
                  <a:pt x="208" y="624"/>
                </a:cubicBezTo>
                <a:cubicBezTo>
                  <a:pt x="286" y="575"/>
                  <a:pt x="373" y="521"/>
                  <a:pt x="468" y="461"/>
                </a:cubicBezTo>
                <a:cubicBezTo>
                  <a:pt x="563" y="401"/>
                  <a:pt x="700" y="315"/>
                  <a:pt x="780" y="263"/>
                </a:cubicBezTo>
                <a:cubicBezTo>
                  <a:pt x="860" y="211"/>
                  <a:pt x="899" y="184"/>
                  <a:pt x="945" y="152"/>
                </a:cubicBezTo>
                <a:cubicBezTo>
                  <a:pt x="991" y="120"/>
                  <a:pt x="1023" y="96"/>
                  <a:pt x="1056" y="71"/>
                </a:cubicBezTo>
                <a:cubicBezTo>
                  <a:pt x="1089" y="46"/>
                  <a:pt x="1126" y="15"/>
                  <a:pt x="114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30400" y="3827520"/>
            <a:ext cx="1834920" cy="101520"/>
          </a:xfrm>
          <a:custGeom>
            <a:avLst/>
            <a:gdLst/>
            <a:ahLst/>
            <a:rect l="l" t="t" r="r" b="b"/>
            <a:pathLst>
              <a:path w="1156" h="64">
                <a:moveTo>
                  <a:pt x="1156" y="64"/>
                </a:moveTo>
                <a:lnTo>
                  <a:pt x="1156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112760" y="38005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49480" y="38052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975960" y="3739680"/>
            <a:ext cx="14292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6600" y="3579840"/>
            <a:ext cx="758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33640" y="5318280"/>
            <a:ext cx="2212920" cy="100620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79480" y="619452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4080" y="5235480"/>
            <a:ext cx="4366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4920" y="6167520"/>
            <a:ext cx="360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48040" y="63072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17640" y="6315120"/>
            <a:ext cx="549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,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147680" y="5616720"/>
            <a:ext cx="1825560" cy="6998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20382000">
            <a:off x="1908360" y="5916240"/>
            <a:ext cx="503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19240" y="6300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68560" y="5614920"/>
            <a:ext cx="0" cy="7192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128600" y="5614920"/>
            <a:ext cx="1835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2760" y="559260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62080" y="5533920"/>
            <a:ext cx="1816200" cy="776520"/>
          </a:xfrm>
          <a:custGeom>
            <a:avLst/>
            <a:gdLst/>
            <a:ahLst/>
            <a:rect l="l" t="t" r="r" b="b"/>
            <a:pathLst>
              <a:path w="1144" h="489">
                <a:moveTo>
                  <a:pt x="0" y="489"/>
                </a:moveTo>
                <a:cubicBezTo>
                  <a:pt x="35" y="475"/>
                  <a:pt x="131" y="437"/>
                  <a:pt x="208" y="406"/>
                </a:cubicBezTo>
                <a:cubicBezTo>
                  <a:pt x="285" y="375"/>
                  <a:pt x="375" y="340"/>
                  <a:pt x="459" y="306"/>
                </a:cubicBezTo>
                <a:cubicBezTo>
                  <a:pt x="543" y="272"/>
                  <a:pt x="643" y="232"/>
                  <a:pt x="711" y="204"/>
                </a:cubicBezTo>
                <a:cubicBezTo>
                  <a:pt x="779" y="176"/>
                  <a:pt x="814" y="159"/>
                  <a:pt x="867" y="135"/>
                </a:cubicBezTo>
                <a:cubicBezTo>
                  <a:pt x="920" y="111"/>
                  <a:pt x="980" y="85"/>
                  <a:pt x="1026" y="63"/>
                </a:cubicBezTo>
                <a:cubicBezTo>
                  <a:pt x="1072" y="41"/>
                  <a:pt x="1120" y="13"/>
                  <a:pt x="114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30400" y="5524560"/>
            <a:ext cx="1834920" cy="101520"/>
          </a:xfrm>
          <a:custGeom>
            <a:avLst/>
            <a:gdLst/>
            <a:ahLst/>
            <a:rect l="l" t="t" r="r" b="b"/>
            <a:pathLst>
              <a:path w="1156" h="64">
                <a:moveTo>
                  <a:pt x="1156" y="64"/>
                </a:moveTo>
                <a:lnTo>
                  <a:pt x="1156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2760" y="55040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49480" y="5508720"/>
            <a:ext cx="42840" cy="428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5084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70000" y="5084640"/>
            <a:ext cx="574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Ф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19611600">
            <a:off x="1921320" y="4076280"/>
            <a:ext cx="547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142600">
            <a:off x="1932480" y="5601960"/>
            <a:ext cx="547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49480" y="5597640"/>
            <a:ext cx="42840" cy="428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59280" y="23828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9360" y="2598840"/>
            <a:ext cx="28908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9360" y="2598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88000" y="2598840"/>
            <a:ext cx="21600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88000" y="2598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91320" y="23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34080" y="238284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762080" y="238284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727520" y="2560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871880" y="2560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57840" y="25560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95920" y="23544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57840" y="23922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238752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4680" y="25448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54720" y="24876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59280" y="2133720"/>
            <a:ext cx="2425680" cy="863640"/>
          </a:xfrm>
          <a:custGeom>
            <a:avLst/>
            <a:gdLst/>
            <a:ahLst/>
            <a:rect l="l" t="t" r="r" b="b"/>
            <a:pathLst>
              <a:path w="1528" h="544">
                <a:moveTo>
                  <a:pt x="0" y="152"/>
                </a:moveTo>
                <a:cubicBezTo>
                  <a:pt x="39" y="138"/>
                  <a:pt x="152" y="89"/>
                  <a:pt x="236" y="65"/>
                </a:cubicBezTo>
                <a:cubicBezTo>
                  <a:pt x="320" y="41"/>
                  <a:pt x="415" y="18"/>
                  <a:pt x="504" y="9"/>
                </a:cubicBezTo>
                <a:cubicBezTo>
                  <a:pt x="593" y="0"/>
                  <a:pt x="690" y="2"/>
                  <a:pt x="768" y="9"/>
                </a:cubicBezTo>
                <a:cubicBezTo>
                  <a:pt x="846" y="16"/>
                  <a:pt x="908" y="31"/>
                  <a:pt x="972" y="53"/>
                </a:cubicBezTo>
                <a:cubicBezTo>
                  <a:pt x="1036" y="75"/>
                  <a:pt x="1101" y="110"/>
                  <a:pt x="1152" y="141"/>
                </a:cubicBezTo>
                <a:cubicBezTo>
                  <a:pt x="1203" y="172"/>
                  <a:pt x="1237" y="201"/>
                  <a:pt x="1280" y="241"/>
                </a:cubicBezTo>
                <a:cubicBezTo>
                  <a:pt x="1323" y="281"/>
                  <a:pt x="1367" y="331"/>
                  <a:pt x="1408" y="381"/>
                </a:cubicBezTo>
                <a:cubicBezTo>
                  <a:pt x="1449" y="431"/>
                  <a:pt x="1503" y="510"/>
                  <a:pt x="1528" y="5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6000" y="23828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835520" y="1781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08440" y="15033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61240" y="22240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5390640" y="2209320"/>
            <a:ext cx="17640" cy="17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39220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86320" y="235908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67240" y="21765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40200" y="26128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835160" y="276228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817880" y="2728800"/>
            <a:ext cx="5364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381640" y="2736720"/>
            <a:ext cx="54000" cy="65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79880" y="25304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82720" y="2205000"/>
            <a:ext cx="196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546880" y="2205000"/>
            <a:ext cx="0" cy="15876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18240" y="2416320"/>
            <a:ext cx="635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49760" y="2281320"/>
            <a:ext cx="246240" cy="210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38760" y="3359160"/>
                <a:ext cx="3133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 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'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 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284720" y="3043080"/>
            <a:ext cx="4174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ражение кривизны через проги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73600" y="4275000"/>
            <a:ext cx="36716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неаризованна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висим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7439040" y="4243320"/>
                <a:ext cx="13381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3995640" y="4513320"/>
            <a:ext cx="48974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ценка: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2 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1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943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 (~ 5,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17920" y="5394240"/>
            <a:ext cx="71640" cy="287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89560" y="53942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263080" y="5383080"/>
            <a:ext cx="71280" cy="287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253360" y="5392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460760" y="5502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218440" y="5494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24480" y="5551560"/>
            <a:ext cx="3705120" cy="623880"/>
          </a:xfrm>
          <a:custGeom>
            <a:avLst/>
            <a:gdLst/>
            <a:ahLst/>
            <a:rect l="l" t="t" r="r" b="b"/>
            <a:pathLst>
              <a:path w="2334" h="393">
                <a:moveTo>
                  <a:pt x="0" y="10"/>
                </a:moveTo>
                <a:cubicBezTo>
                  <a:pt x="41" y="33"/>
                  <a:pt x="152" y="104"/>
                  <a:pt x="239" y="149"/>
                </a:cubicBezTo>
                <a:cubicBezTo>
                  <a:pt x="326" y="194"/>
                  <a:pt x="421" y="244"/>
                  <a:pt x="521" y="280"/>
                </a:cubicBezTo>
                <a:cubicBezTo>
                  <a:pt x="621" y="316"/>
                  <a:pt x="729" y="347"/>
                  <a:pt x="839" y="366"/>
                </a:cubicBezTo>
                <a:cubicBezTo>
                  <a:pt x="949" y="385"/>
                  <a:pt x="1069" y="393"/>
                  <a:pt x="1181" y="393"/>
                </a:cubicBezTo>
                <a:cubicBezTo>
                  <a:pt x="1293" y="393"/>
                  <a:pt x="1402" y="385"/>
                  <a:pt x="1511" y="366"/>
                </a:cubicBezTo>
                <a:cubicBezTo>
                  <a:pt x="1620" y="346"/>
                  <a:pt x="1737" y="311"/>
                  <a:pt x="1835" y="275"/>
                </a:cubicBezTo>
                <a:cubicBezTo>
                  <a:pt x="1933" y="240"/>
                  <a:pt x="2016" y="199"/>
                  <a:pt x="2099" y="153"/>
                </a:cubicBezTo>
                <a:cubicBezTo>
                  <a:pt x="2182" y="107"/>
                  <a:pt x="2285" y="32"/>
                  <a:pt x="233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33840" y="5554800"/>
            <a:ext cx="3691080" cy="630000"/>
          </a:xfrm>
          <a:custGeom>
            <a:avLst/>
            <a:gdLst/>
            <a:ahLst/>
            <a:rect l="l" t="t" r="r" b="b"/>
            <a:pathLst>
              <a:path w="2325" h="397">
                <a:moveTo>
                  <a:pt x="0" y="14"/>
                </a:moveTo>
                <a:cubicBezTo>
                  <a:pt x="38" y="36"/>
                  <a:pt x="145" y="105"/>
                  <a:pt x="230" y="150"/>
                </a:cubicBezTo>
                <a:cubicBezTo>
                  <a:pt x="315" y="195"/>
                  <a:pt x="412" y="246"/>
                  <a:pt x="512" y="283"/>
                </a:cubicBezTo>
                <a:cubicBezTo>
                  <a:pt x="612" y="319"/>
                  <a:pt x="720" y="351"/>
                  <a:pt x="830" y="370"/>
                </a:cubicBezTo>
                <a:cubicBezTo>
                  <a:pt x="940" y="389"/>
                  <a:pt x="1060" y="397"/>
                  <a:pt x="1172" y="397"/>
                </a:cubicBezTo>
                <a:cubicBezTo>
                  <a:pt x="1284" y="397"/>
                  <a:pt x="1393" y="389"/>
                  <a:pt x="1502" y="370"/>
                </a:cubicBezTo>
                <a:cubicBezTo>
                  <a:pt x="1611" y="350"/>
                  <a:pt x="1728" y="314"/>
                  <a:pt x="1826" y="278"/>
                </a:cubicBezTo>
                <a:cubicBezTo>
                  <a:pt x="1924" y="242"/>
                  <a:pt x="2007" y="201"/>
                  <a:pt x="2090" y="155"/>
                </a:cubicBezTo>
                <a:cubicBezTo>
                  <a:pt x="2173" y="108"/>
                  <a:pt x="2276" y="32"/>
                  <a:pt x="2325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33840" y="5553000"/>
            <a:ext cx="3697200" cy="806400"/>
          </a:xfrm>
          <a:custGeom>
            <a:avLst/>
            <a:gdLst/>
            <a:ahLst/>
            <a:rect l="l" t="t" r="r" b="b"/>
            <a:pathLst>
              <a:path w="2329" h="508">
                <a:moveTo>
                  <a:pt x="0" y="9"/>
                </a:moveTo>
                <a:cubicBezTo>
                  <a:pt x="50" y="34"/>
                  <a:pt x="176" y="107"/>
                  <a:pt x="300" y="165"/>
                </a:cubicBezTo>
                <a:cubicBezTo>
                  <a:pt x="424" y="223"/>
                  <a:pt x="611" y="307"/>
                  <a:pt x="744" y="357"/>
                </a:cubicBezTo>
                <a:cubicBezTo>
                  <a:pt x="877" y="407"/>
                  <a:pt x="1007" y="441"/>
                  <a:pt x="1098" y="465"/>
                </a:cubicBezTo>
                <a:cubicBezTo>
                  <a:pt x="1189" y="489"/>
                  <a:pt x="1227" y="496"/>
                  <a:pt x="1290" y="501"/>
                </a:cubicBezTo>
                <a:cubicBezTo>
                  <a:pt x="1353" y="506"/>
                  <a:pt x="1411" y="508"/>
                  <a:pt x="1476" y="495"/>
                </a:cubicBezTo>
                <a:cubicBezTo>
                  <a:pt x="1541" y="482"/>
                  <a:pt x="1589" y="469"/>
                  <a:pt x="1680" y="423"/>
                </a:cubicBezTo>
                <a:cubicBezTo>
                  <a:pt x="1771" y="377"/>
                  <a:pt x="1914" y="290"/>
                  <a:pt x="2022" y="219"/>
                </a:cubicBezTo>
                <a:cubicBezTo>
                  <a:pt x="2130" y="148"/>
                  <a:pt x="2265" y="46"/>
                  <a:pt x="23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15120" y="605628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531120" y="6103800"/>
            <a:ext cx="144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46760" y="610380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62760" y="6070680"/>
            <a:ext cx="144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78760" y="5989680"/>
            <a:ext cx="144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00960" y="580068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03640" y="162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ольшие прогибы ба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54520" y="5157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формации гибких ни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920"/>
                            </p:stCondLst>
                            <p:childTnLst>
                              <p:par>
                                <p:cTn id="16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2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3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4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4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800"/>
                            </p:stCondLst>
                            <p:childTnLst>
                              <p:par>
                                <p:cTn id="1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800"/>
                            </p:stCondLst>
                            <p:childTnLst>
                              <p:par>
                                <p:cTn id="18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6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240"/>
                            </p:stCondLst>
                            <p:childTnLst>
                              <p:par>
                                <p:cTn id="201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5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6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7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9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4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5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6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880"/>
                            </p:stCondLst>
                            <p:childTnLst>
                              <p:par>
                                <p:cTn id="20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9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4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1040" y="260280"/>
            <a:ext cx="85694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нструктивн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бусловленная изменением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расчётной схемы сооруж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роцессе его деформ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структурными изменениями – включением или выключением связ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м их по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изменением координат точек сооружения за счёт и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счёте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по деформированной схеме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8360" y="2239920"/>
            <a:ext cx="8207280" cy="588240"/>
          </a:xfrm>
          <a:prstGeom prst="rect">
            <a:avLst/>
          </a:prstGeom>
          <a:solidFill>
            <a:srgbClr val="ffd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ий признак конструктивной нелиней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составлении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уравнений равновес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итываются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еремещ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98560" y="2730600"/>
            <a:ext cx="712944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торые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посредственно входить в статические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расчёт по деформированной сх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исывать условия (изменения связей),  учитывае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записи уравнений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449400">
            <a:off x="361440" y="3097080"/>
            <a:ext cx="517680" cy="1214640"/>
          </a:xfrm>
          <a:custGeom>
            <a:avLst/>
            <a:gdLst>
              <a:gd name="textAreaLeft" fmla="*/ 69120 w 517680"/>
              <a:gd name="textAreaRight" fmla="*/ 448560 w 517680"/>
              <a:gd name="textAreaTop" fmla="*/ 267840 h 1214640"/>
              <a:gd name="textAreaBottom" fmla="*/ 88920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35" stAng="-5400000" swAng="-5400000"/>
                <a:lnTo>
                  <a:pt x="0" y="11041"/>
                </a:lnTo>
                <a:arcTo wR="21600" hR="9535" stAng="10800000" swAng="-2516757"/>
                <a:lnTo>
                  <a:pt x="12077" y="20623"/>
                </a:lnTo>
                <a:lnTo>
                  <a:pt x="21600" y="19823"/>
                </a:lnTo>
                <a:lnTo>
                  <a:pt x="12077" y="17069"/>
                </a:lnTo>
                <a:lnTo>
                  <a:pt x="12077" y="18093"/>
                </a:lnTo>
                <a:arcTo wR="21600" hR="9535" stAng="8283243" swAng="2396587"/>
                <a:lnTo>
                  <a:pt x="67" y="10288"/>
                </a:lnTo>
                <a:arcTo wR="21600" hR="9535" stAng="-10679830" swAng="5279830"/>
                <a:close/>
              </a:path>
              <a:path fill="darkenLess" w="21600" h="21600">
                <a:moveTo>
                  <a:pt x="21600" y="0"/>
                </a:moveTo>
                <a:arcTo wR="21600" hR="9535" stAng="-5400000" swAng="-5400000"/>
                <a:lnTo>
                  <a:pt x="0" y="9535"/>
                </a:lnTo>
                <a:arcTo wR="21600" hR="9535" stAng="10800000" swAng="-120170"/>
                <a:lnTo>
                  <a:pt x="67" y="10288"/>
                </a:lnTo>
                <a:arcTo wR="21600" hR="9535" stAng="-10679830" swAng="527983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09520" y="4522680"/>
            <a:ext cx="7164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181160" y="45226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81160" y="466560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79360" y="481968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92400" y="4675320"/>
            <a:ext cx="0" cy="57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181160" y="5203800"/>
            <a:ext cx="10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149480" y="516564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154240" y="517032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60600" y="495936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081160" y="45133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022480" y="43876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77920" y="4668840"/>
            <a:ext cx="100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177920" y="4667400"/>
            <a:ext cx="907920" cy="293400"/>
          </a:xfrm>
          <a:custGeom>
            <a:avLst/>
            <a:gdLst/>
            <a:ahLst/>
            <a:rect l="l" t="t" r="r" b="b"/>
            <a:pathLst>
              <a:path w="572" h="185">
                <a:moveTo>
                  <a:pt x="0" y="1"/>
                </a:moveTo>
                <a:cubicBezTo>
                  <a:pt x="12" y="2"/>
                  <a:pt x="29" y="0"/>
                  <a:pt x="71" y="5"/>
                </a:cubicBezTo>
                <a:cubicBezTo>
                  <a:pt x="113" y="10"/>
                  <a:pt x="193" y="16"/>
                  <a:pt x="252" y="33"/>
                </a:cubicBezTo>
                <a:cubicBezTo>
                  <a:pt x="311" y="50"/>
                  <a:pt x="375" y="80"/>
                  <a:pt x="428" y="105"/>
                </a:cubicBezTo>
                <a:cubicBezTo>
                  <a:pt x="481" y="130"/>
                  <a:pt x="542" y="168"/>
                  <a:pt x="572" y="18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82960" y="4965840"/>
            <a:ext cx="0" cy="142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076480" y="5054760"/>
            <a:ext cx="1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050560" y="50166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160720" y="5024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17880" y="5056200"/>
            <a:ext cx="180720" cy="74520"/>
          </a:xfrm>
          <a:custGeom>
            <a:avLst/>
            <a:gdLst/>
            <a:ahLst/>
            <a:rect l="l" t="t" r="r" b="b"/>
            <a:pathLst>
              <a:path w="114" h="47">
                <a:moveTo>
                  <a:pt x="0" y="0"/>
                </a:moveTo>
                <a:cubicBezTo>
                  <a:pt x="2" y="5"/>
                  <a:pt x="4" y="23"/>
                  <a:pt x="14" y="31"/>
                </a:cubicBezTo>
                <a:cubicBezTo>
                  <a:pt x="24" y="39"/>
                  <a:pt x="45" y="47"/>
                  <a:pt x="62" y="47"/>
                </a:cubicBezTo>
                <a:cubicBezTo>
                  <a:pt x="79" y="47"/>
                  <a:pt x="103" y="36"/>
                  <a:pt x="114" y="33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33440" y="4960800"/>
            <a:ext cx="4208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179360" y="43160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967680" y="4493160"/>
            <a:ext cx="396360" cy="350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91" y="133"/>
                </a:moveTo>
                <a:arcTo wR="10800" hR="10800" stAng="-4859561" swAng="9151544"/>
                <a:lnTo>
                  <a:pt x="10800" y="10800"/>
                </a:lnTo>
                <a:close/>
              </a:path>
              <a:path fill="none" w="21600" h="21600">
                <a:moveTo>
                  <a:pt x="12491" y="133"/>
                </a:moveTo>
                <a:arcTo wR="10800" hR="10800" stAng="-4859561" swAng="915154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6840" y="4087800"/>
            <a:ext cx="4921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39760" y="4425840"/>
            <a:ext cx="3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27040" y="4530600"/>
            <a:ext cx="4921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3520" y="5013360"/>
            <a:ext cx="936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4160" y="5359320"/>
            <a:ext cx="1746000" cy="327600"/>
          </a:xfrm>
          <a:prstGeom prst="rect">
            <a:avLst/>
          </a:prstGeom>
          <a:solidFill>
            <a:srgbClr val="ffd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 – 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079360" y="49608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85480" y="46656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86080" y="46656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359080" y="4640400"/>
            <a:ext cx="6516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52600" y="4935600"/>
            <a:ext cx="6516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33520" y="466560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181160" y="5950080"/>
            <a:ext cx="1278000" cy="5428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27000" y="637056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60640" y="64674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90760" y="634032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22400" y="57214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200240" y="6046560"/>
            <a:ext cx="1081080" cy="431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20286600">
            <a:off x="1873080" y="605124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06360" y="5810400"/>
            <a:ext cx="1054080" cy="672840"/>
          </a:xfrm>
          <a:custGeom>
            <a:avLst/>
            <a:gdLst/>
            <a:ahLst/>
            <a:rect l="l" t="t" r="r" b="b"/>
            <a:pathLst>
              <a:path w="664" h="424">
                <a:moveTo>
                  <a:pt x="0" y="424"/>
                </a:moveTo>
                <a:cubicBezTo>
                  <a:pt x="15" y="418"/>
                  <a:pt x="46" y="405"/>
                  <a:pt x="84" y="388"/>
                </a:cubicBezTo>
                <a:cubicBezTo>
                  <a:pt x="122" y="371"/>
                  <a:pt x="177" y="347"/>
                  <a:pt x="228" y="320"/>
                </a:cubicBezTo>
                <a:cubicBezTo>
                  <a:pt x="279" y="293"/>
                  <a:pt x="339" y="262"/>
                  <a:pt x="392" y="228"/>
                </a:cubicBezTo>
                <a:cubicBezTo>
                  <a:pt x="445" y="194"/>
                  <a:pt x="499" y="154"/>
                  <a:pt x="544" y="116"/>
                </a:cubicBezTo>
                <a:cubicBezTo>
                  <a:pt x="589" y="78"/>
                  <a:pt x="639" y="24"/>
                  <a:pt x="66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9063200">
            <a:off x="1765080" y="57589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59280" y="4448160"/>
            <a:ext cx="7128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30560" y="444816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048280" y="4437000"/>
            <a:ext cx="7128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38560" y="4446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102120" y="45561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003640" y="4548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74840" y="4605480"/>
            <a:ext cx="1835280" cy="257040"/>
          </a:xfrm>
          <a:custGeom>
            <a:avLst/>
            <a:gdLst/>
            <a:ahLst/>
            <a:rect l="l" t="t" r="r" b="b"/>
            <a:pathLst>
              <a:path w="1156" h="162">
                <a:moveTo>
                  <a:pt x="0" y="0"/>
                </a:moveTo>
                <a:lnTo>
                  <a:pt x="574" y="162"/>
                </a:lnTo>
                <a:lnTo>
                  <a:pt x="1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48200" y="48211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184560" y="45910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52920" y="4576680"/>
            <a:ext cx="19080" cy="142920"/>
          </a:xfrm>
          <a:custGeom>
            <a:avLst/>
            <a:gdLst/>
            <a:ahLst/>
            <a:rect l="l" t="t" r="r" b="b"/>
            <a:pathLst>
              <a:path w="12" h="90">
                <a:moveTo>
                  <a:pt x="12" y="0"/>
                </a:moveTo>
                <a:cubicBezTo>
                  <a:pt x="11" y="8"/>
                  <a:pt x="11" y="33"/>
                  <a:pt x="9" y="48"/>
                </a:cubicBezTo>
                <a:cubicBezTo>
                  <a:pt x="7" y="63"/>
                  <a:pt x="2" y="81"/>
                  <a:pt x="0" y="9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459320" y="4581360"/>
            <a:ext cx="17280" cy="162000"/>
          </a:xfrm>
          <a:custGeom>
            <a:avLst/>
            <a:gdLst/>
            <a:ahLst/>
            <a:rect l="l" t="t" r="r" b="b"/>
            <a:pathLst>
              <a:path w="11" h="102">
                <a:moveTo>
                  <a:pt x="4" y="0"/>
                </a:moveTo>
                <a:cubicBezTo>
                  <a:pt x="3" y="8"/>
                  <a:pt x="0" y="31"/>
                  <a:pt x="1" y="48"/>
                </a:cubicBezTo>
                <a:cubicBezTo>
                  <a:pt x="2" y="65"/>
                  <a:pt x="9" y="91"/>
                  <a:pt x="11" y="10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627360" y="450864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79960" y="451332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70160" y="4605480"/>
            <a:ext cx="1835280" cy="539640"/>
          </a:xfrm>
          <a:custGeom>
            <a:avLst/>
            <a:gdLst/>
            <a:ahLst/>
            <a:rect l="l" t="t" r="r" b="b"/>
            <a:pathLst>
              <a:path w="1156" h="162">
                <a:moveTo>
                  <a:pt x="0" y="0"/>
                </a:moveTo>
                <a:lnTo>
                  <a:pt x="574" y="162"/>
                </a:lnTo>
                <a:lnTo>
                  <a:pt x="1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043520" y="510840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65480" y="4605480"/>
            <a:ext cx="1835280" cy="257040"/>
          </a:xfrm>
          <a:custGeom>
            <a:avLst/>
            <a:gdLst/>
            <a:ahLst/>
            <a:rect l="l" t="t" r="r" b="b"/>
            <a:pathLst>
              <a:path w="1156" h="162">
                <a:moveTo>
                  <a:pt x="0" y="0"/>
                </a:moveTo>
                <a:lnTo>
                  <a:pt x="574" y="162"/>
                </a:lnTo>
                <a:lnTo>
                  <a:pt x="1156" y="0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81320" y="51786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09960" y="55911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00360" y="4745160"/>
            <a:ext cx="49320" cy="102960"/>
          </a:xfrm>
          <a:custGeom>
            <a:avLst/>
            <a:gdLst/>
            <a:ahLst/>
            <a:rect l="l" t="t" r="r" b="b"/>
            <a:pathLst>
              <a:path w="31" h="65">
                <a:moveTo>
                  <a:pt x="31" y="0"/>
                </a:moveTo>
                <a:cubicBezTo>
                  <a:pt x="28" y="6"/>
                  <a:pt x="20" y="27"/>
                  <a:pt x="15" y="38"/>
                </a:cubicBezTo>
                <a:cubicBezTo>
                  <a:pt x="10" y="49"/>
                  <a:pt x="3" y="60"/>
                  <a:pt x="0" y="65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483080" y="4767120"/>
            <a:ext cx="46080" cy="104760"/>
          </a:xfrm>
          <a:custGeom>
            <a:avLst/>
            <a:gdLst/>
            <a:ahLst/>
            <a:rect l="l" t="t" r="r" b="b"/>
            <a:pathLst>
              <a:path w="29" h="66">
                <a:moveTo>
                  <a:pt x="0" y="0"/>
                </a:moveTo>
                <a:cubicBezTo>
                  <a:pt x="1" y="7"/>
                  <a:pt x="3" y="28"/>
                  <a:pt x="8" y="39"/>
                </a:cubicBezTo>
                <a:cubicBezTo>
                  <a:pt x="13" y="50"/>
                  <a:pt x="25" y="60"/>
                  <a:pt x="29" y="66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7760" y="4797360"/>
            <a:ext cx="92160" cy="212760"/>
          </a:xfrm>
          <a:custGeom>
            <a:avLst/>
            <a:gdLst/>
            <a:ahLst/>
            <a:rect l="l" t="t" r="r" b="b"/>
            <a:pathLst>
              <a:path w="58" h="134">
                <a:moveTo>
                  <a:pt x="30" y="0"/>
                </a:moveTo>
                <a:cubicBezTo>
                  <a:pt x="34" y="5"/>
                  <a:pt x="54" y="15"/>
                  <a:pt x="56" y="30"/>
                </a:cubicBezTo>
                <a:cubicBezTo>
                  <a:pt x="58" y="45"/>
                  <a:pt x="49" y="73"/>
                  <a:pt x="40" y="90"/>
                </a:cubicBezTo>
                <a:cubicBezTo>
                  <a:pt x="31" y="107"/>
                  <a:pt x="8" y="125"/>
                  <a:pt x="0" y="13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444920" y="4824360"/>
            <a:ext cx="100080" cy="212760"/>
          </a:xfrm>
          <a:custGeom>
            <a:avLst/>
            <a:gdLst/>
            <a:ahLst/>
            <a:rect l="l" t="t" r="r" b="b"/>
            <a:pathLst>
              <a:path w="58" h="134">
                <a:moveTo>
                  <a:pt x="30" y="0"/>
                </a:moveTo>
                <a:cubicBezTo>
                  <a:pt x="34" y="5"/>
                  <a:pt x="54" y="15"/>
                  <a:pt x="56" y="30"/>
                </a:cubicBezTo>
                <a:cubicBezTo>
                  <a:pt x="58" y="45"/>
                  <a:pt x="49" y="73"/>
                  <a:pt x="40" y="90"/>
                </a:cubicBezTo>
                <a:cubicBezTo>
                  <a:pt x="31" y="107"/>
                  <a:pt x="8" y="125"/>
                  <a:pt x="0" y="13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354480" y="4906800"/>
            <a:ext cx="358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79840" y="4913280"/>
            <a:ext cx="358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70440" y="50324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177440" y="5187960"/>
            <a:ext cx="777960" cy="536400"/>
          </a:xfrm>
          <a:custGeom>
            <a:avLst/>
            <a:gdLst/>
            <a:ahLst/>
            <a:rect l="l" t="t" r="r" b="b"/>
            <a:pathLst>
              <a:path w="412" h="240">
                <a:moveTo>
                  <a:pt x="412" y="0"/>
                </a:moveTo>
                <a:cubicBezTo>
                  <a:pt x="387" y="7"/>
                  <a:pt x="304" y="22"/>
                  <a:pt x="260" y="36"/>
                </a:cubicBezTo>
                <a:cubicBezTo>
                  <a:pt x="216" y="50"/>
                  <a:pt x="180" y="65"/>
                  <a:pt x="148" y="84"/>
                </a:cubicBezTo>
                <a:cubicBezTo>
                  <a:pt x="116" y="103"/>
                  <a:pt x="93" y="122"/>
                  <a:pt x="68" y="148"/>
                </a:cubicBezTo>
                <a:cubicBezTo>
                  <a:pt x="43" y="174"/>
                  <a:pt x="14" y="221"/>
                  <a:pt x="0" y="24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38760" y="5789520"/>
            <a:ext cx="287280" cy="82800"/>
          </a:xfrm>
          <a:custGeom>
            <a:avLst/>
            <a:gdLst/>
            <a:ahLst/>
            <a:rect l="l" t="t" r="r" b="b"/>
            <a:pathLst>
              <a:path w="181" h="46">
                <a:moveTo>
                  <a:pt x="0" y="0"/>
                </a:moveTo>
                <a:lnTo>
                  <a:pt x="90" y="46"/>
                </a:lnTo>
                <a:lnTo>
                  <a:pt x="18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0480" y="5753160"/>
            <a:ext cx="432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819320" y="5753160"/>
            <a:ext cx="428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984920" y="585144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13200" y="626436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44960" y="5830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126040" y="5595480"/>
            <a:ext cx="357120" cy="19548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473720" y="5586120"/>
            <a:ext cx="365040" cy="204840"/>
          </a:xfrm>
          <a:prstGeom prst="line">
            <a:avLst/>
          </a:prstGeom>
          <a:ln w="38160">
            <a:solidFill>
              <a:srgbClr val="33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03720" y="542448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2160" y="54500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3070080" y="5952960"/>
                <a:ext cx="16369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4081320" y="4888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728880" y="4976640"/>
            <a:ext cx="347760" cy="271800"/>
          </a:xfrm>
          <a:custGeom>
            <a:avLst/>
            <a:gdLst/>
            <a:ahLst/>
            <a:rect l="l" t="t" r="r" b="b"/>
            <a:pathLst>
              <a:path w="219" h="171">
                <a:moveTo>
                  <a:pt x="219" y="0"/>
                </a:moveTo>
                <a:cubicBezTo>
                  <a:pt x="204" y="4"/>
                  <a:pt x="155" y="12"/>
                  <a:pt x="126" y="27"/>
                </a:cubicBezTo>
                <a:cubicBezTo>
                  <a:pt x="97" y="42"/>
                  <a:pt x="66" y="66"/>
                  <a:pt x="45" y="90"/>
                </a:cubicBezTo>
                <a:cubicBezTo>
                  <a:pt x="24" y="114"/>
                  <a:pt x="9" y="154"/>
                  <a:pt x="0" y="17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46360" y="5214960"/>
            <a:ext cx="2955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98400">
            <a:off x="2975400" y="5067720"/>
            <a:ext cx="108000" cy="1233360"/>
          </a:xfrm>
          <a:prstGeom prst="downArrow">
            <a:avLst>
              <a:gd name="adj1" fmla="val 42157"/>
              <a:gd name="adj2" fmla="val 141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22960" y="5975280"/>
            <a:ext cx="216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22960" y="5975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29520" y="482292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329520" y="480852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324480" y="4827600"/>
            <a:ext cx="376200" cy="1136520"/>
          </a:xfrm>
          <a:custGeom>
            <a:avLst/>
            <a:gdLst/>
            <a:ahLst/>
            <a:rect l="l" t="t" r="r" b="b"/>
            <a:pathLst>
              <a:path w="237" h="672">
                <a:moveTo>
                  <a:pt x="3" y="672"/>
                </a:moveTo>
                <a:cubicBezTo>
                  <a:pt x="4" y="655"/>
                  <a:pt x="0" y="623"/>
                  <a:pt x="9" y="570"/>
                </a:cubicBezTo>
                <a:cubicBezTo>
                  <a:pt x="18" y="517"/>
                  <a:pt x="33" y="425"/>
                  <a:pt x="57" y="354"/>
                </a:cubicBezTo>
                <a:cubicBezTo>
                  <a:pt x="81" y="283"/>
                  <a:pt x="123" y="203"/>
                  <a:pt x="153" y="144"/>
                </a:cubicBezTo>
                <a:cubicBezTo>
                  <a:pt x="183" y="85"/>
                  <a:pt x="219" y="30"/>
                  <a:pt x="23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03920" y="44514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51640" y="41972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61280" y="48369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80000" y="4968720"/>
            <a:ext cx="792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6264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70480" y="5203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84800" y="5400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38720" y="56037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6470640" y="4608360"/>
            <a:ext cx="73080" cy="323640"/>
          </a:xfrm>
          <a:custGeom>
            <a:avLst/>
            <a:gdLst>
              <a:gd name="textAreaLeft" fmla="*/ 0 w 73080"/>
              <a:gd name="textAreaRight" fmla="*/ 26280 w 73080"/>
              <a:gd name="textAreaTop" fmla="*/ 8280 h 323640"/>
              <a:gd name="textAreaBottom" fmla="*/ 31536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330960" y="446580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 rot="4689600">
            <a:off x="6153120" y="5807880"/>
            <a:ext cx="352440" cy="34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65" y="0"/>
                </a:moveTo>
                <a:arcTo wR="10800" hR="10800" stAng="-5379311" swAng="9671294"/>
                <a:lnTo>
                  <a:pt x="10800" y="10800"/>
                </a:lnTo>
                <a:close/>
              </a:path>
              <a:path fill="none" w="21600" h="21600">
                <a:moveTo>
                  <a:pt x="10865" y="0"/>
                </a:moveTo>
                <a:arcTo wR="10800" hR="10800" stAng="-5379311" swAng="9671294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92800" y="5732640"/>
            <a:ext cx="3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3520" y="6154560"/>
            <a:ext cx="4921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07040" y="5794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545160" y="48340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400800" y="5973840"/>
            <a:ext cx="433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786720" y="4833720"/>
            <a:ext cx="0" cy="1144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48560" y="593712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54680" y="480204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42080" y="5224320"/>
            <a:ext cx="235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970680" y="4527720"/>
            <a:ext cx="1890720" cy="767160"/>
          </a:xfrm>
          <a:prstGeom prst="rect">
            <a:avLst/>
          </a:prstGeom>
          <a:solidFill>
            <a:srgbClr val="ffd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ql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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F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l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34280" y="5411880"/>
            <a:ext cx="1278000" cy="9363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80120" y="622620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19880" y="63230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543880" y="619596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175520" y="51703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346880" y="5411880"/>
            <a:ext cx="1005120" cy="92232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95600">
            <a:off x="7696080" y="5424120"/>
            <a:ext cx="69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50120" y="5632560"/>
            <a:ext cx="1060560" cy="704880"/>
          </a:xfrm>
          <a:custGeom>
            <a:avLst/>
            <a:gdLst/>
            <a:ahLst/>
            <a:rect l="l" t="t" r="r" b="b"/>
            <a:pathLst>
              <a:path w="668" h="444">
                <a:moveTo>
                  <a:pt x="0" y="444"/>
                </a:moveTo>
                <a:cubicBezTo>
                  <a:pt x="16" y="430"/>
                  <a:pt x="58" y="393"/>
                  <a:pt x="96" y="360"/>
                </a:cubicBezTo>
                <a:cubicBezTo>
                  <a:pt x="134" y="327"/>
                  <a:pt x="183" y="284"/>
                  <a:pt x="228" y="248"/>
                </a:cubicBezTo>
                <a:cubicBezTo>
                  <a:pt x="273" y="212"/>
                  <a:pt x="317" y="177"/>
                  <a:pt x="368" y="144"/>
                </a:cubicBezTo>
                <a:cubicBezTo>
                  <a:pt x="419" y="111"/>
                  <a:pt x="486" y="72"/>
                  <a:pt x="536" y="48"/>
                </a:cubicBezTo>
                <a:cubicBezTo>
                  <a:pt x="586" y="24"/>
                  <a:pt x="640" y="10"/>
                  <a:pt x="66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9819200">
            <a:off x="7969320" y="57402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fill="hold">
                      <p:stCondLst>
                        <p:cond delay="0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6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7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8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040"/>
                            </p:stCondLst>
                            <p:childTnLst>
                              <p:par>
                                <p:cTn id="2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2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3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4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4120"/>
                            </p:stCondLst>
                            <p:childTnLst>
                              <p:par>
                                <p:cTn id="2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8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9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0" dur="8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5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6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7" dur="8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2320"/>
                            </p:stCondLst>
                            <p:childTnLst>
                              <p:par>
                                <p:cTn id="2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1" dur="8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3" dur="8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8" dur="8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0" dur="8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240"/>
                            </p:stCondLst>
                            <p:childTnLst>
                              <p:par>
                                <p:cTn id="2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4" dur="8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5" dur="8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6" dur="8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4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5" dur="8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6" dur="8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7" dur="8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2760"/>
                            </p:stCondLst>
                            <p:childTnLst>
                              <p:par>
                                <p:cTn id="2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1" dur="8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2" dur="8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3" dur="8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8" dur="8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9" dur="8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0" dur="8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840"/>
                            </p:stCondLst>
                            <p:childTnLst>
                              <p:par>
                                <p:cTn id="22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4" dur="8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5" dur="8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6" dur="8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0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0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5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4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9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4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2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2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5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8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1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4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0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2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5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3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6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9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3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0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6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11040" y="260280"/>
            <a:ext cx="8569440" cy="19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нструктивная нелиней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 нелинейность зависим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, обусловленная изменением </a:t>
            </a: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расчётной схемы сооружен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роцессе его деформ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структурными изменениями – включением или выключением связ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ением их поло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изменением координат точек сооружения за счёт их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расчёте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по деформированной схеме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8360" y="2239920"/>
            <a:ext cx="8207280" cy="588240"/>
          </a:xfrm>
          <a:prstGeom prst="rect">
            <a:avLst/>
          </a:prstGeom>
          <a:solidFill>
            <a:srgbClr val="ffd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ий признак конструктивной нелиней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составлении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уравнений равновес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учитываются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еремещ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98560" y="2730600"/>
            <a:ext cx="712944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торые могу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посредственно входить в статические урав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расчёт по деформированной схем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исывать условия (изменения связей),  учитываем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записи уравнений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1407600">
            <a:off x="527040" y="3587400"/>
            <a:ext cx="287280" cy="706320"/>
          </a:xfrm>
          <a:custGeom>
            <a:avLst/>
            <a:gdLst>
              <a:gd name="textAreaLeft" fmla="*/ 38520 w 287280"/>
              <a:gd name="textAreaRight" fmla="*/ 248760 w 287280"/>
              <a:gd name="textAreaTop" fmla="*/ 142200 h 706320"/>
              <a:gd name="textAreaBottom" fmla="*/ 513000 h 70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3" stAng="-5400000" swAng="-5400000"/>
                <a:lnTo>
                  <a:pt x="0" y="11335"/>
                </a:lnTo>
                <a:arcTo wR="21600" hR="8703" stAng="10800000" swAng="-2508208"/>
                <a:lnTo>
                  <a:pt x="12727" y="20832"/>
                </a:lnTo>
                <a:lnTo>
                  <a:pt x="21600" y="18721"/>
                </a:lnTo>
                <a:lnTo>
                  <a:pt x="12727" y="15074"/>
                </a:lnTo>
                <a:lnTo>
                  <a:pt x="12727" y="16637"/>
                </a:lnTo>
                <a:arcTo wR="21600" hR="8703" stAng="8291792" swAng="2296591"/>
                <a:lnTo>
                  <a:pt x="248" y="10019"/>
                </a:lnTo>
                <a:arcTo wR="21600" hR="8703" stAng="-10588383" swAng="5188383"/>
                <a:close/>
              </a:path>
              <a:path fill="darkenLess" w="21600" h="21600">
                <a:moveTo>
                  <a:pt x="21600" y="0"/>
                </a:moveTo>
                <a:arcTo wR="21600" hR="8703" stAng="-5400000" swAng="-5400000"/>
                <a:lnTo>
                  <a:pt x="0" y="8703"/>
                </a:lnTo>
                <a:arcTo wR="21600" hR="8703" stAng="10800000" swAng="-211617"/>
                <a:lnTo>
                  <a:pt x="248" y="10019"/>
                </a:lnTo>
                <a:arcTo wR="21600" hR="8703" stAng="-10588383" swAng="5188383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4437000"/>
            <a:ext cx="71280" cy="28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5280" y="4437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5280" y="4579920"/>
            <a:ext cx="2087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00000" y="40766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85920" y="4581000"/>
            <a:ext cx="209052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5280" y="4583160"/>
            <a:ext cx="2082960" cy="109440"/>
          </a:xfrm>
          <a:custGeom>
            <a:avLst/>
            <a:gdLst/>
            <a:ahLst/>
            <a:rect l="l" t="t" r="r" b="b"/>
            <a:pathLst>
              <a:path w="1312" h="69">
                <a:moveTo>
                  <a:pt x="0" y="0"/>
                </a:moveTo>
                <a:cubicBezTo>
                  <a:pt x="20" y="1"/>
                  <a:pt x="67" y="1"/>
                  <a:pt x="120" y="5"/>
                </a:cubicBezTo>
                <a:cubicBezTo>
                  <a:pt x="173" y="9"/>
                  <a:pt x="250" y="18"/>
                  <a:pt x="316" y="25"/>
                </a:cubicBezTo>
                <a:cubicBezTo>
                  <a:pt x="382" y="32"/>
                  <a:pt x="445" y="42"/>
                  <a:pt x="516" y="49"/>
                </a:cubicBezTo>
                <a:cubicBezTo>
                  <a:pt x="587" y="56"/>
                  <a:pt x="668" y="62"/>
                  <a:pt x="740" y="65"/>
                </a:cubicBezTo>
                <a:cubicBezTo>
                  <a:pt x="812" y="68"/>
                  <a:pt x="880" y="69"/>
                  <a:pt x="948" y="65"/>
                </a:cubicBezTo>
                <a:cubicBezTo>
                  <a:pt x="1016" y="61"/>
                  <a:pt x="1087" y="51"/>
                  <a:pt x="1148" y="41"/>
                </a:cubicBezTo>
                <a:cubicBezTo>
                  <a:pt x="1209" y="31"/>
                  <a:pt x="1278" y="12"/>
                  <a:pt x="1312" y="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226880" y="472284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835280" y="456876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30720" y="5072040"/>
            <a:ext cx="216000" cy="193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6560" y="482292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79600" y="5181480"/>
            <a:ext cx="1616040" cy="119088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4000" y="6251400"/>
            <a:ext cx="207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135160" y="622152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38120" y="489420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6880" y="6048000"/>
            <a:ext cx="663480" cy="3128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20050800">
            <a:off x="704880" y="5873400"/>
            <a:ext cx="7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862360" y="4987800"/>
            <a:ext cx="1846080" cy="238320"/>
          </a:xfrm>
          <a:custGeom>
            <a:avLst/>
            <a:gdLst/>
            <a:ahLst/>
            <a:rect l="l" t="t" r="r" b="b"/>
            <a:pathLst>
              <a:path w="1163" h="150">
                <a:moveTo>
                  <a:pt x="0" y="0"/>
                </a:moveTo>
                <a:cubicBezTo>
                  <a:pt x="20" y="2"/>
                  <a:pt x="75" y="4"/>
                  <a:pt x="119" y="13"/>
                </a:cubicBezTo>
                <a:cubicBezTo>
                  <a:pt x="163" y="22"/>
                  <a:pt x="210" y="36"/>
                  <a:pt x="263" y="53"/>
                </a:cubicBezTo>
                <a:cubicBezTo>
                  <a:pt x="316" y="70"/>
                  <a:pt x="376" y="98"/>
                  <a:pt x="435" y="113"/>
                </a:cubicBezTo>
                <a:cubicBezTo>
                  <a:pt x="494" y="128"/>
                  <a:pt x="558" y="140"/>
                  <a:pt x="615" y="145"/>
                </a:cubicBezTo>
                <a:cubicBezTo>
                  <a:pt x="672" y="150"/>
                  <a:pt x="724" y="149"/>
                  <a:pt x="775" y="145"/>
                </a:cubicBezTo>
                <a:cubicBezTo>
                  <a:pt x="826" y="141"/>
                  <a:pt x="879" y="129"/>
                  <a:pt x="923" y="118"/>
                </a:cubicBezTo>
                <a:cubicBezTo>
                  <a:pt x="967" y="107"/>
                  <a:pt x="999" y="95"/>
                  <a:pt x="1039" y="78"/>
                </a:cubicBezTo>
                <a:cubicBezTo>
                  <a:pt x="1079" y="61"/>
                  <a:pt x="1137" y="27"/>
                  <a:pt x="1163" y="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789280" y="4221000"/>
            <a:ext cx="71280" cy="28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860560" y="42210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95760" y="4843440"/>
            <a:ext cx="7128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862360" y="48466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32120" y="43290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03760" y="4896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62360" y="4987800"/>
            <a:ext cx="1834920" cy="1800"/>
          </a:xfrm>
          <a:custGeom>
            <a:avLst/>
            <a:gdLst/>
            <a:ahLst/>
            <a:rect l="l" t="t" r="r" b="b"/>
            <a:pathLst>
              <a:path w="1156" h="1">
                <a:moveTo>
                  <a:pt x="0" y="0"/>
                </a:moveTo>
                <a:lnTo>
                  <a:pt x="115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62360" y="49816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90600" y="4587840"/>
            <a:ext cx="1800" cy="136440"/>
          </a:xfrm>
          <a:custGeom>
            <a:avLst/>
            <a:gdLst/>
            <a:ahLst/>
            <a:rect l="l" t="t" r="r" b="b"/>
            <a:pathLst>
              <a:path w="4" h="64">
                <a:moveTo>
                  <a:pt x="0" y="0"/>
                </a:moveTo>
                <a:cubicBezTo>
                  <a:pt x="0" y="11"/>
                  <a:pt x="3" y="51"/>
                  <a:pt x="4" y="6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900520" y="4378320"/>
            <a:ext cx="911160" cy="53964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51120" y="4699080"/>
            <a:ext cx="163440" cy="19044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0" y="0"/>
                </a:moveTo>
                <a:cubicBezTo>
                  <a:pt x="9" y="8"/>
                  <a:pt x="34" y="28"/>
                  <a:pt x="51" y="48"/>
                </a:cubicBezTo>
                <a:cubicBezTo>
                  <a:pt x="68" y="68"/>
                  <a:pt x="92" y="105"/>
                  <a:pt x="103" y="12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41960" y="5186520"/>
            <a:ext cx="295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991040" y="50133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991040" y="5013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07200" y="3965400"/>
            <a:ext cx="2872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872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06960" y="4257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46760" y="6367320"/>
            <a:ext cx="23796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39040" y="4317840"/>
            <a:ext cx="826920" cy="8319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5013360"/>
            <a:ext cx="207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521400" y="51228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294680" y="4997520"/>
            <a:ext cx="349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299280" y="41497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561000" y="4777920"/>
            <a:ext cx="506520" cy="3524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9500600">
            <a:off x="6670440" y="48286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51800" y="5711760"/>
            <a:ext cx="438120" cy="531720"/>
          </a:xfrm>
          <a:custGeom>
            <a:avLst/>
            <a:gdLst/>
            <a:ahLst/>
            <a:rect l="l" t="t" r="r" b="b"/>
            <a:pathLst>
              <a:path w="276" h="335">
                <a:moveTo>
                  <a:pt x="0" y="335"/>
                </a:moveTo>
                <a:cubicBezTo>
                  <a:pt x="13" y="324"/>
                  <a:pt x="51" y="295"/>
                  <a:pt x="75" y="272"/>
                </a:cubicBezTo>
                <a:cubicBezTo>
                  <a:pt x="99" y="249"/>
                  <a:pt x="124" y="222"/>
                  <a:pt x="147" y="194"/>
                </a:cubicBezTo>
                <a:cubicBezTo>
                  <a:pt x="170" y="166"/>
                  <a:pt x="192" y="136"/>
                  <a:pt x="213" y="104"/>
                </a:cubicBezTo>
                <a:cubicBezTo>
                  <a:pt x="234" y="72"/>
                  <a:pt x="263" y="22"/>
                  <a:pt x="276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rot="18102600">
            <a:off x="1495440" y="53337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11280" y="4775040"/>
            <a:ext cx="216000" cy="7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11280" y="47750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14600" y="45594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47322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81120" y="454356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32000" y="4881600"/>
            <a:ext cx="21564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332000" y="48816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371600" y="4737240"/>
            <a:ext cx="144360" cy="14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950760" y="4587840"/>
            <a:ext cx="42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4284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3364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33200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2568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1612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90656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10996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0652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1460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49160" y="43340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96720" y="4581360"/>
            <a:ext cx="2087640" cy="247680"/>
          </a:xfrm>
          <a:custGeom>
            <a:avLst/>
            <a:gdLst/>
            <a:ahLst/>
            <a:rect l="l" t="t" r="r" b="b"/>
            <a:pathLst>
              <a:path w="1315" h="156">
                <a:moveTo>
                  <a:pt x="0" y="0"/>
                </a:moveTo>
                <a:cubicBezTo>
                  <a:pt x="20" y="2"/>
                  <a:pt x="76" y="0"/>
                  <a:pt x="120" y="12"/>
                </a:cubicBezTo>
                <a:cubicBezTo>
                  <a:pt x="164" y="24"/>
                  <a:pt x="222" y="57"/>
                  <a:pt x="263" y="71"/>
                </a:cubicBezTo>
                <a:cubicBezTo>
                  <a:pt x="304" y="85"/>
                  <a:pt x="332" y="94"/>
                  <a:pt x="367" y="99"/>
                </a:cubicBezTo>
                <a:cubicBezTo>
                  <a:pt x="402" y="104"/>
                  <a:pt x="434" y="105"/>
                  <a:pt x="471" y="103"/>
                </a:cubicBezTo>
                <a:cubicBezTo>
                  <a:pt x="508" y="101"/>
                  <a:pt x="552" y="88"/>
                  <a:pt x="591" y="86"/>
                </a:cubicBezTo>
                <a:cubicBezTo>
                  <a:pt x="630" y="84"/>
                  <a:pt x="668" y="87"/>
                  <a:pt x="707" y="94"/>
                </a:cubicBezTo>
                <a:cubicBezTo>
                  <a:pt x="746" y="101"/>
                  <a:pt x="784" y="120"/>
                  <a:pt x="827" y="130"/>
                </a:cubicBezTo>
                <a:cubicBezTo>
                  <a:pt x="870" y="140"/>
                  <a:pt x="921" y="152"/>
                  <a:pt x="967" y="154"/>
                </a:cubicBezTo>
                <a:cubicBezTo>
                  <a:pt x="1013" y="156"/>
                  <a:pt x="1061" y="153"/>
                  <a:pt x="1103" y="142"/>
                </a:cubicBezTo>
                <a:cubicBezTo>
                  <a:pt x="1145" y="131"/>
                  <a:pt x="1184" y="111"/>
                  <a:pt x="1219" y="90"/>
                </a:cubicBezTo>
                <a:cubicBezTo>
                  <a:pt x="1254" y="69"/>
                  <a:pt x="1295" y="33"/>
                  <a:pt x="1315" y="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4581360"/>
            <a:ext cx="2082960" cy="162000"/>
          </a:xfrm>
          <a:custGeom>
            <a:avLst/>
            <a:gdLst/>
            <a:ahLst/>
            <a:rect l="l" t="t" r="r" b="b"/>
            <a:pathLst>
              <a:path w="1312" h="69">
                <a:moveTo>
                  <a:pt x="0" y="0"/>
                </a:moveTo>
                <a:cubicBezTo>
                  <a:pt x="20" y="1"/>
                  <a:pt x="67" y="1"/>
                  <a:pt x="120" y="5"/>
                </a:cubicBezTo>
                <a:cubicBezTo>
                  <a:pt x="173" y="9"/>
                  <a:pt x="250" y="18"/>
                  <a:pt x="316" y="25"/>
                </a:cubicBezTo>
                <a:cubicBezTo>
                  <a:pt x="382" y="32"/>
                  <a:pt x="445" y="42"/>
                  <a:pt x="516" y="49"/>
                </a:cubicBezTo>
                <a:cubicBezTo>
                  <a:pt x="587" y="56"/>
                  <a:pt x="668" y="62"/>
                  <a:pt x="740" y="65"/>
                </a:cubicBezTo>
                <a:cubicBezTo>
                  <a:pt x="812" y="68"/>
                  <a:pt x="880" y="69"/>
                  <a:pt x="948" y="65"/>
                </a:cubicBezTo>
                <a:cubicBezTo>
                  <a:pt x="1016" y="61"/>
                  <a:pt x="1087" y="51"/>
                  <a:pt x="1148" y="41"/>
                </a:cubicBezTo>
                <a:cubicBezTo>
                  <a:pt x="1209" y="31"/>
                  <a:pt x="1278" y="12"/>
                  <a:pt x="1312" y="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955800" y="5878080"/>
            <a:ext cx="663480" cy="31284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3400" y="6348240"/>
            <a:ext cx="4320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35280" y="45687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35280" y="45687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612800" y="5848200"/>
            <a:ext cx="42840" cy="428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644480" y="5206680"/>
            <a:ext cx="376560" cy="64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630680" y="518328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30680" y="5183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34000" y="4967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00520" y="51404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00520" y="49514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86360" y="4484520"/>
            <a:ext cx="3474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8620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37032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56076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5912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5280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14324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33404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3708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3400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76640" y="4741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62360" y="4984920"/>
            <a:ext cx="1839960" cy="96840"/>
          </a:xfrm>
          <a:custGeom>
            <a:avLst/>
            <a:gdLst/>
            <a:ahLst/>
            <a:rect l="l" t="t" r="r" b="b"/>
            <a:pathLst>
              <a:path w="1159" h="61">
                <a:moveTo>
                  <a:pt x="0" y="2"/>
                </a:moveTo>
                <a:cubicBezTo>
                  <a:pt x="18" y="3"/>
                  <a:pt x="67" y="2"/>
                  <a:pt x="105" y="7"/>
                </a:cubicBezTo>
                <a:cubicBezTo>
                  <a:pt x="144" y="12"/>
                  <a:pt x="193" y="25"/>
                  <a:pt x="231" y="31"/>
                </a:cubicBezTo>
                <a:cubicBezTo>
                  <a:pt x="269" y="37"/>
                  <a:pt x="298" y="39"/>
                  <a:pt x="331" y="40"/>
                </a:cubicBezTo>
                <a:cubicBezTo>
                  <a:pt x="364" y="41"/>
                  <a:pt x="398" y="38"/>
                  <a:pt x="431" y="34"/>
                </a:cubicBezTo>
                <a:cubicBezTo>
                  <a:pt x="464" y="30"/>
                  <a:pt x="496" y="22"/>
                  <a:pt x="527" y="16"/>
                </a:cubicBezTo>
                <a:cubicBezTo>
                  <a:pt x="558" y="10"/>
                  <a:pt x="587" y="0"/>
                  <a:pt x="619" y="0"/>
                </a:cubicBezTo>
                <a:cubicBezTo>
                  <a:pt x="651" y="0"/>
                  <a:pt x="680" y="7"/>
                  <a:pt x="719" y="16"/>
                </a:cubicBezTo>
                <a:cubicBezTo>
                  <a:pt x="758" y="25"/>
                  <a:pt x="809" y="45"/>
                  <a:pt x="851" y="52"/>
                </a:cubicBezTo>
                <a:cubicBezTo>
                  <a:pt x="893" y="59"/>
                  <a:pt x="932" y="61"/>
                  <a:pt x="970" y="60"/>
                </a:cubicBezTo>
                <a:cubicBezTo>
                  <a:pt x="1008" y="58"/>
                  <a:pt x="1048" y="49"/>
                  <a:pt x="1079" y="41"/>
                </a:cubicBezTo>
                <a:cubicBezTo>
                  <a:pt x="1110" y="32"/>
                  <a:pt x="1142" y="16"/>
                  <a:pt x="1159" y="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01960" y="5445000"/>
            <a:ext cx="1760400" cy="92880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646360" y="6253200"/>
            <a:ext cx="208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602240" y="6222960"/>
            <a:ext cx="4204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913120" y="5799240"/>
            <a:ext cx="303120" cy="557280"/>
          </a:xfrm>
          <a:prstGeom prst="line">
            <a:avLst/>
          </a:prstGeom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rot="17906400">
            <a:off x="2860560" y="59432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86120" y="63500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3640" y="5767560"/>
            <a:ext cx="42840" cy="4284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738600" y="5516280"/>
            <a:ext cx="7794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762280" y="51595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1800" y="5786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06920" y="576756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803760" y="513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30720" y="4967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11320" y="4352760"/>
            <a:ext cx="330480" cy="371520"/>
          </a:xfrm>
          <a:custGeom>
            <a:avLst/>
            <a:gdLst/>
            <a:ahLst/>
            <a:rect l="l" t="t" r="r" b="b"/>
            <a:pathLst>
              <a:path w="208" h="214">
                <a:moveTo>
                  <a:pt x="0" y="2"/>
                </a:moveTo>
                <a:cubicBezTo>
                  <a:pt x="14" y="3"/>
                  <a:pt x="60" y="0"/>
                  <a:pt x="84" y="10"/>
                </a:cubicBezTo>
                <a:cubicBezTo>
                  <a:pt x="108" y="20"/>
                  <a:pt x="129" y="36"/>
                  <a:pt x="144" y="62"/>
                </a:cubicBezTo>
                <a:cubicBezTo>
                  <a:pt x="159" y="88"/>
                  <a:pt x="161" y="141"/>
                  <a:pt x="172" y="166"/>
                </a:cubicBezTo>
                <a:cubicBezTo>
                  <a:pt x="183" y="191"/>
                  <a:pt x="201" y="204"/>
                  <a:pt x="208" y="214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00560" y="4791240"/>
            <a:ext cx="431640" cy="341280"/>
          </a:xfrm>
          <a:custGeom>
            <a:avLst/>
            <a:gdLst/>
            <a:ahLst/>
            <a:rect l="l" t="t" r="r" b="b"/>
            <a:pathLst>
              <a:path w="272" h="100">
                <a:moveTo>
                  <a:pt x="0" y="0"/>
                </a:moveTo>
                <a:cubicBezTo>
                  <a:pt x="7" y="6"/>
                  <a:pt x="21" y="28"/>
                  <a:pt x="44" y="36"/>
                </a:cubicBezTo>
                <a:cubicBezTo>
                  <a:pt x="67" y="44"/>
                  <a:pt x="105" y="44"/>
                  <a:pt x="136" y="48"/>
                </a:cubicBezTo>
                <a:cubicBezTo>
                  <a:pt x="167" y="52"/>
                  <a:pt x="205" y="51"/>
                  <a:pt x="228" y="60"/>
                </a:cubicBezTo>
                <a:cubicBezTo>
                  <a:pt x="251" y="69"/>
                  <a:pt x="263" y="92"/>
                  <a:pt x="272" y="10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68480" y="4981680"/>
            <a:ext cx="1846440" cy="309600"/>
          </a:xfrm>
          <a:custGeom>
            <a:avLst/>
            <a:gdLst/>
            <a:ahLst/>
            <a:rect l="l" t="t" r="r" b="b"/>
            <a:pathLst>
              <a:path w="1163" h="150">
                <a:moveTo>
                  <a:pt x="0" y="0"/>
                </a:moveTo>
                <a:cubicBezTo>
                  <a:pt x="20" y="2"/>
                  <a:pt x="75" y="4"/>
                  <a:pt x="119" y="13"/>
                </a:cubicBezTo>
                <a:cubicBezTo>
                  <a:pt x="163" y="22"/>
                  <a:pt x="210" y="36"/>
                  <a:pt x="263" y="53"/>
                </a:cubicBezTo>
                <a:cubicBezTo>
                  <a:pt x="316" y="70"/>
                  <a:pt x="376" y="98"/>
                  <a:pt x="435" y="113"/>
                </a:cubicBezTo>
                <a:cubicBezTo>
                  <a:pt x="494" y="128"/>
                  <a:pt x="558" y="140"/>
                  <a:pt x="615" y="145"/>
                </a:cubicBezTo>
                <a:cubicBezTo>
                  <a:pt x="672" y="150"/>
                  <a:pt x="724" y="149"/>
                  <a:pt x="775" y="145"/>
                </a:cubicBezTo>
                <a:cubicBezTo>
                  <a:pt x="826" y="141"/>
                  <a:pt x="879" y="129"/>
                  <a:pt x="923" y="118"/>
                </a:cubicBezTo>
                <a:cubicBezTo>
                  <a:pt x="967" y="107"/>
                  <a:pt x="999" y="95"/>
                  <a:pt x="1039" y="78"/>
                </a:cubicBezTo>
                <a:cubicBezTo>
                  <a:pt x="1079" y="61"/>
                  <a:pt x="1137" y="27"/>
                  <a:pt x="1163" y="1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789280" y="4219560"/>
            <a:ext cx="71280" cy="287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860560" y="42195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832120" y="432756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03760" y="489420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00520" y="4376880"/>
            <a:ext cx="911160" cy="539640"/>
          </a:xfrm>
          <a:custGeom>
            <a:avLst/>
            <a:gdLst/>
            <a:ahLst/>
            <a:rect l="l" t="t" r="r" b="b"/>
            <a:pathLst>
              <a:path w="574" h="340">
                <a:moveTo>
                  <a:pt x="0" y="0"/>
                </a:moveTo>
                <a:lnTo>
                  <a:pt x="574" y="3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869080" y="5013360"/>
            <a:ext cx="215640" cy="71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869080" y="50133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102280" y="4437000"/>
            <a:ext cx="868320" cy="576360"/>
          </a:xfrm>
          <a:custGeom>
            <a:avLst/>
            <a:gdLst/>
            <a:ahLst/>
            <a:rect l="l" t="t" r="r" b="b"/>
            <a:pathLst>
              <a:path w="771" h="453">
                <a:moveTo>
                  <a:pt x="0" y="453"/>
                </a:moveTo>
                <a:lnTo>
                  <a:pt x="0" y="0"/>
                </a:lnTo>
                <a:lnTo>
                  <a:pt x="771" y="0"/>
                </a:lnTo>
                <a:lnTo>
                  <a:pt x="771" y="45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322960" y="4257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38960" y="4257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54600" y="4257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70600" y="42577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095800" y="4437000"/>
            <a:ext cx="868320" cy="576360"/>
          </a:xfrm>
          <a:custGeom>
            <a:avLst/>
            <a:gdLst/>
            <a:ahLst/>
            <a:rect l="l" t="t" r="r" b="b"/>
            <a:pathLst>
              <a:path w="771" h="453">
                <a:moveTo>
                  <a:pt x="0" y="453"/>
                </a:moveTo>
                <a:lnTo>
                  <a:pt x="0" y="0"/>
                </a:lnTo>
                <a:lnTo>
                  <a:pt x="771" y="0"/>
                </a:lnTo>
                <a:lnTo>
                  <a:pt x="771" y="45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059440" y="4432320"/>
            <a:ext cx="42840" cy="577800"/>
          </a:xfrm>
          <a:custGeom>
            <a:avLst/>
            <a:gdLst/>
            <a:ahLst/>
            <a:rect l="l" t="t" r="r" b="b"/>
            <a:pathLst>
              <a:path w="41" h="364">
                <a:moveTo>
                  <a:pt x="37" y="364"/>
                </a:moveTo>
                <a:cubicBezTo>
                  <a:pt x="36" y="357"/>
                  <a:pt x="38" y="347"/>
                  <a:pt x="33" y="324"/>
                </a:cubicBezTo>
                <a:cubicBezTo>
                  <a:pt x="28" y="301"/>
                  <a:pt x="14" y="258"/>
                  <a:pt x="9" y="228"/>
                </a:cubicBezTo>
                <a:cubicBezTo>
                  <a:pt x="4" y="198"/>
                  <a:pt x="0" y="173"/>
                  <a:pt x="1" y="144"/>
                </a:cubicBezTo>
                <a:cubicBezTo>
                  <a:pt x="2" y="115"/>
                  <a:pt x="10" y="76"/>
                  <a:pt x="17" y="52"/>
                </a:cubicBezTo>
                <a:cubicBezTo>
                  <a:pt x="24" y="28"/>
                  <a:pt x="36" y="11"/>
                  <a:pt x="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965200" y="4430880"/>
            <a:ext cx="42840" cy="577800"/>
          </a:xfrm>
          <a:custGeom>
            <a:avLst/>
            <a:gdLst/>
            <a:ahLst/>
            <a:rect l="l" t="t" r="r" b="b"/>
            <a:pathLst>
              <a:path w="41" h="364">
                <a:moveTo>
                  <a:pt x="37" y="364"/>
                </a:moveTo>
                <a:cubicBezTo>
                  <a:pt x="36" y="357"/>
                  <a:pt x="38" y="347"/>
                  <a:pt x="33" y="324"/>
                </a:cubicBezTo>
                <a:cubicBezTo>
                  <a:pt x="28" y="301"/>
                  <a:pt x="14" y="258"/>
                  <a:pt x="9" y="228"/>
                </a:cubicBezTo>
                <a:cubicBezTo>
                  <a:pt x="4" y="198"/>
                  <a:pt x="0" y="173"/>
                  <a:pt x="1" y="144"/>
                </a:cubicBezTo>
                <a:cubicBezTo>
                  <a:pt x="2" y="115"/>
                  <a:pt x="10" y="76"/>
                  <a:pt x="17" y="52"/>
                </a:cubicBezTo>
                <a:cubicBezTo>
                  <a:pt x="24" y="28"/>
                  <a:pt x="36" y="11"/>
                  <a:pt x="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05520" y="4438800"/>
            <a:ext cx="857160" cy="9036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0"/>
                </a:moveTo>
                <a:cubicBezTo>
                  <a:pt x="9" y="4"/>
                  <a:pt x="31" y="14"/>
                  <a:pt x="56" y="24"/>
                </a:cubicBezTo>
                <a:cubicBezTo>
                  <a:pt x="81" y="34"/>
                  <a:pt x="121" y="51"/>
                  <a:pt x="152" y="60"/>
                </a:cubicBezTo>
                <a:cubicBezTo>
                  <a:pt x="183" y="69"/>
                  <a:pt x="211" y="77"/>
                  <a:pt x="240" y="80"/>
                </a:cubicBezTo>
                <a:cubicBezTo>
                  <a:pt x="269" y="83"/>
                  <a:pt x="295" y="84"/>
                  <a:pt x="324" y="80"/>
                </a:cubicBezTo>
                <a:cubicBezTo>
                  <a:pt x="353" y="76"/>
                  <a:pt x="383" y="66"/>
                  <a:pt x="412" y="56"/>
                </a:cubicBezTo>
                <a:cubicBezTo>
                  <a:pt x="441" y="46"/>
                  <a:pt x="475" y="29"/>
                  <a:pt x="496" y="20"/>
                </a:cubicBezTo>
                <a:cubicBezTo>
                  <a:pt x="517" y="11"/>
                  <a:pt x="531" y="4"/>
                  <a:pt x="5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540400" y="443700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533920" y="4533840"/>
            <a:ext cx="7164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492880" y="4511520"/>
            <a:ext cx="349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655040" y="5006880"/>
            <a:ext cx="215640" cy="71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55040" y="5006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924680" y="3959280"/>
            <a:ext cx="3859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770960" y="42512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532720" y="5006880"/>
            <a:ext cx="21600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532720" y="5006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986600" y="42512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202600" y="42512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418600" y="42512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634240" y="42512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759800" y="4437000"/>
            <a:ext cx="868320" cy="576360"/>
          </a:xfrm>
          <a:custGeom>
            <a:avLst/>
            <a:gdLst/>
            <a:ahLst/>
            <a:rect l="l" t="t" r="r" b="b"/>
            <a:pathLst>
              <a:path w="771" h="453">
                <a:moveTo>
                  <a:pt x="0" y="453"/>
                </a:moveTo>
                <a:lnTo>
                  <a:pt x="0" y="0"/>
                </a:lnTo>
                <a:lnTo>
                  <a:pt x="771" y="0"/>
                </a:lnTo>
                <a:lnTo>
                  <a:pt x="771" y="45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723080" y="4425840"/>
            <a:ext cx="42840" cy="577800"/>
          </a:xfrm>
          <a:custGeom>
            <a:avLst/>
            <a:gdLst/>
            <a:ahLst/>
            <a:rect l="l" t="t" r="r" b="b"/>
            <a:pathLst>
              <a:path w="41" h="364">
                <a:moveTo>
                  <a:pt x="37" y="364"/>
                </a:moveTo>
                <a:cubicBezTo>
                  <a:pt x="36" y="357"/>
                  <a:pt x="38" y="347"/>
                  <a:pt x="33" y="324"/>
                </a:cubicBezTo>
                <a:cubicBezTo>
                  <a:pt x="28" y="301"/>
                  <a:pt x="14" y="258"/>
                  <a:pt x="9" y="228"/>
                </a:cubicBezTo>
                <a:cubicBezTo>
                  <a:pt x="4" y="198"/>
                  <a:pt x="0" y="173"/>
                  <a:pt x="1" y="144"/>
                </a:cubicBezTo>
                <a:cubicBezTo>
                  <a:pt x="2" y="115"/>
                  <a:pt x="10" y="76"/>
                  <a:pt x="17" y="52"/>
                </a:cubicBezTo>
                <a:cubicBezTo>
                  <a:pt x="24" y="28"/>
                  <a:pt x="36" y="11"/>
                  <a:pt x="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624160" y="4424400"/>
            <a:ext cx="42840" cy="577800"/>
          </a:xfrm>
          <a:custGeom>
            <a:avLst/>
            <a:gdLst/>
            <a:ahLst/>
            <a:rect l="l" t="t" r="r" b="b"/>
            <a:pathLst>
              <a:path w="41" h="364">
                <a:moveTo>
                  <a:pt x="37" y="364"/>
                </a:moveTo>
                <a:cubicBezTo>
                  <a:pt x="36" y="357"/>
                  <a:pt x="38" y="347"/>
                  <a:pt x="33" y="324"/>
                </a:cubicBezTo>
                <a:cubicBezTo>
                  <a:pt x="28" y="301"/>
                  <a:pt x="14" y="258"/>
                  <a:pt x="9" y="228"/>
                </a:cubicBezTo>
                <a:cubicBezTo>
                  <a:pt x="4" y="198"/>
                  <a:pt x="0" y="173"/>
                  <a:pt x="1" y="144"/>
                </a:cubicBezTo>
                <a:cubicBezTo>
                  <a:pt x="2" y="115"/>
                  <a:pt x="10" y="76"/>
                  <a:pt x="17" y="52"/>
                </a:cubicBezTo>
                <a:cubicBezTo>
                  <a:pt x="24" y="28"/>
                  <a:pt x="36" y="11"/>
                  <a:pt x="4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764480" y="4437000"/>
            <a:ext cx="863640" cy="9072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0"/>
                </a:moveTo>
                <a:cubicBezTo>
                  <a:pt x="9" y="4"/>
                  <a:pt x="31" y="14"/>
                  <a:pt x="56" y="24"/>
                </a:cubicBezTo>
                <a:cubicBezTo>
                  <a:pt x="81" y="34"/>
                  <a:pt x="121" y="51"/>
                  <a:pt x="152" y="60"/>
                </a:cubicBezTo>
                <a:cubicBezTo>
                  <a:pt x="183" y="69"/>
                  <a:pt x="211" y="77"/>
                  <a:pt x="240" y="80"/>
                </a:cubicBezTo>
                <a:cubicBezTo>
                  <a:pt x="269" y="83"/>
                  <a:pt x="295" y="84"/>
                  <a:pt x="324" y="80"/>
                </a:cubicBezTo>
                <a:cubicBezTo>
                  <a:pt x="353" y="76"/>
                  <a:pt x="383" y="66"/>
                  <a:pt x="412" y="56"/>
                </a:cubicBezTo>
                <a:cubicBezTo>
                  <a:pt x="441" y="46"/>
                  <a:pt x="475" y="29"/>
                  <a:pt x="496" y="20"/>
                </a:cubicBezTo>
                <a:cubicBezTo>
                  <a:pt x="517" y="11"/>
                  <a:pt x="531" y="4"/>
                  <a:pt x="54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785000" y="4457880"/>
            <a:ext cx="838440" cy="196560"/>
          </a:xfrm>
          <a:custGeom>
            <a:avLst/>
            <a:gdLst/>
            <a:ahLst/>
            <a:rect l="l" t="t" r="r" b="b"/>
            <a:pathLst>
              <a:path w="528" h="124">
                <a:moveTo>
                  <a:pt x="0" y="4"/>
                </a:moveTo>
                <a:lnTo>
                  <a:pt x="153" y="123"/>
                </a:lnTo>
                <a:lnTo>
                  <a:pt x="364" y="124"/>
                </a:lnTo>
                <a:lnTo>
                  <a:pt x="52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34480" y="4508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356680" y="4508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765920" y="4443480"/>
            <a:ext cx="4284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015400" y="4508640"/>
            <a:ext cx="4284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35800" y="4514760"/>
            <a:ext cx="4320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585280" y="4446720"/>
            <a:ext cx="4284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15400" y="4633920"/>
            <a:ext cx="4284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39040" y="4633920"/>
            <a:ext cx="42840" cy="42840"/>
          </a:xfrm>
          <a:prstGeom prst="ellips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938920" y="3911760"/>
            <a:ext cx="2017800" cy="288720"/>
          </a:xfrm>
          <a:custGeom>
            <a:avLst/>
            <a:gdLst>
              <a:gd name="textAreaLeft" fmla="*/ 459360 w 2017800"/>
              <a:gd name="textAreaRight" fmla="*/ 1477440 w 20178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40" hR="21600" stAng="10800000" swAng="5400000"/>
                <a:lnTo>
                  <a:pt x="10893" y="0"/>
                </a:lnTo>
                <a:arcTo wR="9840" hR="21600" stAng="-5400000" swAng="2657742"/>
                <a:lnTo>
                  <a:pt x="20676" y="12462"/>
                </a:lnTo>
                <a:lnTo>
                  <a:pt x="20207" y="21600"/>
                </a:lnTo>
                <a:lnTo>
                  <a:pt x="17889" y="12462"/>
                </a:lnTo>
                <a:lnTo>
                  <a:pt x="18756" y="12462"/>
                </a:lnTo>
                <a:arcTo wR="9840" hR="21600" stAng="-2742258" swAng="-2573843"/>
                <a:lnTo>
                  <a:pt x="10367" y="31"/>
                </a:lnTo>
                <a:arcTo wR="9840" hR="21600" stAng="-5483899" swAng="-5316101"/>
                <a:close/>
              </a:path>
              <a:path fill="darkenLess" w="21600" h="21600">
                <a:moveTo>
                  <a:pt x="0" y="21600"/>
                </a:moveTo>
                <a:arcTo wR="9840" hR="21600" stAng="10800000" swAng="5400000"/>
                <a:lnTo>
                  <a:pt x="9840" y="0"/>
                </a:lnTo>
                <a:arcTo wR="9840" hR="21600" stAng="-5400000" swAng="83899"/>
                <a:lnTo>
                  <a:pt x="10367" y="31"/>
                </a:lnTo>
                <a:arcTo wR="9840" hR="21600" stAng="-5483899" swAng="-5316101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61000" y="4010040"/>
            <a:ext cx="122400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си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од нагруз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096400" y="3957480"/>
            <a:ext cx="64764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д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54840" y="4429080"/>
            <a:ext cx="504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д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64280" y="47419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7097760" y="4466880"/>
            <a:ext cx="14760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211880" y="44672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467400" y="4484520"/>
            <a:ext cx="54000" cy="289080"/>
          </a:xfrm>
          <a:custGeom>
            <a:avLst/>
            <a:gdLst>
              <a:gd name="textAreaLeft" fmla="*/ 34560 w 54000"/>
              <a:gd name="textAreaRight" fmla="*/ 54360 w 54000"/>
              <a:gd name="textAreaTop" fmla="*/ 7200 h 289080"/>
              <a:gd name="textAreaBottom" fmla="*/ 281880 h 2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59560" y="448956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56320" y="476892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414600" y="551988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7826600">
            <a:off x="7031160" y="45511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481720" y="5219640"/>
            <a:ext cx="934920" cy="934920"/>
          </a:xfrm>
          <a:prstGeom prst="ellipse">
            <a:avLst/>
          </a:prstGeom>
          <a:solidFill>
            <a:srgbClr val="ffff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56080" y="6066000"/>
            <a:ext cx="1187640" cy="209520"/>
          </a:xfrm>
          <a:custGeom>
            <a:avLst/>
            <a:gdLst/>
            <a:ahLst/>
            <a:rect l="l" t="t" r="r" b="b"/>
            <a:pathLst>
              <a:path w="757" h="181">
                <a:moveTo>
                  <a:pt x="708" y="0"/>
                </a:moveTo>
                <a:lnTo>
                  <a:pt x="668" y="36"/>
                </a:lnTo>
                <a:lnTo>
                  <a:pt x="584" y="68"/>
                </a:lnTo>
                <a:lnTo>
                  <a:pt x="492" y="88"/>
                </a:lnTo>
                <a:lnTo>
                  <a:pt x="400" y="96"/>
                </a:lnTo>
                <a:lnTo>
                  <a:pt x="320" y="96"/>
                </a:lnTo>
                <a:lnTo>
                  <a:pt x="240" y="84"/>
                </a:lnTo>
                <a:lnTo>
                  <a:pt x="172" y="64"/>
                </a:lnTo>
                <a:lnTo>
                  <a:pt x="100" y="32"/>
                </a:lnTo>
                <a:lnTo>
                  <a:pt x="56" y="0"/>
                </a:lnTo>
                <a:lnTo>
                  <a:pt x="0" y="0"/>
                </a:lnTo>
                <a:lnTo>
                  <a:pt x="0" y="180"/>
                </a:lnTo>
                <a:lnTo>
                  <a:pt x="757" y="181"/>
                </a:lnTo>
                <a:lnTo>
                  <a:pt x="757" y="0"/>
                </a:lnTo>
                <a:lnTo>
                  <a:pt x="711" y="0"/>
                </a:lnTo>
              </a:path>
            </a:pathLst>
          </a:custGeom>
          <a:solidFill>
            <a:srgbClr val="b2b2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383080" y="5773680"/>
            <a:ext cx="1150920" cy="403200"/>
          </a:xfrm>
          <a:prstGeom prst="blockArc">
            <a:avLst>
              <a:gd name="adj1" fmla="val 12448046"/>
              <a:gd name="adj2" fmla="val 19951954"/>
              <a:gd name="adj3" fmla="val 17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425920" y="5337000"/>
            <a:ext cx="1051200" cy="831960"/>
          </a:xfrm>
          <a:custGeom>
            <a:avLst/>
            <a:gdLst/>
            <a:ahLst/>
            <a:rect l="l" t="t" r="r" b="b"/>
            <a:pathLst>
              <a:path w="617" h="524">
                <a:moveTo>
                  <a:pt x="314" y="524"/>
                </a:moveTo>
                <a:cubicBezTo>
                  <a:pt x="286" y="524"/>
                  <a:pt x="257" y="521"/>
                  <a:pt x="230" y="515"/>
                </a:cubicBezTo>
                <a:cubicBezTo>
                  <a:pt x="203" y="510"/>
                  <a:pt x="173" y="502"/>
                  <a:pt x="149" y="489"/>
                </a:cubicBezTo>
                <a:cubicBezTo>
                  <a:pt x="124" y="477"/>
                  <a:pt x="101" y="461"/>
                  <a:pt x="80" y="441"/>
                </a:cubicBezTo>
                <a:cubicBezTo>
                  <a:pt x="59" y="420"/>
                  <a:pt x="36" y="399"/>
                  <a:pt x="24" y="369"/>
                </a:cubicBezTo>
                <a:cubicBezTo>
                  <a:pt x="11" y="338"/>
                  <a:pt x="0" y="294"/>
                  <a:pt x="2" y="256"/>
                </a:cubicBezTo>
                <a:cubicBezTo>
                  <a:pt x="4" y="219"/>
                  <a:pt x="20" y="176"/>
                  <a:pt x="36" y="144"/>
                </a:cubicBezTo>
                <a:cubicBezTo>
                  <a:pt x="53" y="112"/>
                  <a:pt x="79" y="86"/>
                  <a:pt x="105" y="66"/>
                </a:cubicBezTo>
                <a:cubicBezTo>
                  <a:pt x="131" y="46"/>
                  <a:pt x="159" y="31"/>
                  <a:pt x="192" y="20"/>
                </a:cubicBezTo>
                <a:cubicBezTo>
                  <a:pt x="225" y="10"/>
                  <a:pt x="266" y="0"/>
                  <a:pt x="304" y="0"/>
                </a:cubicBezTo>
                <a:cubicBezTo>
                  <a:pt x="343" y="0"/>
                  <a:pt x="391" y="7"/>
                  <a:pt x="426" y="17"/>
                </a:cubicBezTo>
                <a:cubicBezTo>
                  <a:pt x="461" y="28"/>
                  <a:pt x="489" y="46"/>
                  <a:pt x="516" y="66"/>
                </a:cubicBezTo>
                <a:cubicBezTo>
                  <a:pt x="543" y="86"/>
                  <a:pt x="568" y="105"/>
                  <a:pt x="585" y="138"/>
                </a:cubicBezTo>
                <a:cubicBezTo>
                  <a:pt x="601" y="172"/>
                  <a:pt x="613" y="228"/>
                  <a:pt x="615" y="266"/>
                </a:cubicBezTo>
                <a:cubicBezTo>
                  <a:pt x="617" y="303"/>
                  <a:pt x="609" y="333"/>
                  <a:pt x="597" y="363"/>
                </a:cubicBezTo>
                <a:cubicBezTo>
                  <a:pt x="585" y="393"/>
                  <a:pt x="562" y="424"/>
                  <a:pt x="541" y="445"/>
                </a:cubicBezTo>
                <a:cubicBezTo>
                  <a:pt x="520" y="466"/>
                  <a:pt x="495" y="478"/>
                  <a:pt x="472" y="490"/>
                </a:cubicBezTo>
                <a:cubicBezTo>
                  <a:pt x="449" y="502"/>
                  <a:pt x="430" y="509"/>
                  <a:pt x="404" y="515"/>
                </a:cubicBezTo>
                <a:cubicBezTo>
                  <a:pt x="378" y="521"/>
                  <a:pt x="332" y="522"/>
                  <a:pt x="314" y="524"/>
                </a:cubicBezTo>
                <a:close/>
              </a:path>
            </a:pathLst>
          </a:custGeom>
          <a:solidFill>
            <a:srgbClr val="ffffd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29240" y="5978520"/>
            <a:ext cx="857160" cy="179280"/>
          </a:xfrm>
          <a:custGeom>
            <a:avLst/>
            <a:gdLst/>
            <a:ahLst/>
            <a:rect l="l" t="t" r="r" b="b"/>
            <a:pathLst>
              <a:path w="480" h="119">
                <a:moveTo>
                  <a:pt x="0" y="3"/>
                </a:moveTo>
                <a:lnTo>
                  <a:pt x="480" y="0"/>
                </a:lnTo>
                <a:lnTo>
                  <a:pt x="441" y="51"/>
                </a:lnTo>
                <a:lnTo>
                  <a:pt x="384" y="86"/>
                </a:lnTo>
                <a:lnTo>
                  <a:pt x="321" y="107"/>
                </a:lnTo>
                <a:lnTo>
                  <a:pt x="255" y="119"/>
                </a:lnTo>
                <a:lnTo>
                  <a:pt x="176" y="113"/>
                </a:lnTo>
                <a:lnTo>
                  <a:pt x="101" y="89"/>
                </a:lnTo>
                <a:lnTo>
                  <a:pt x="38" y="50"/>
                </a:lnTo>
                <a:lnTo>
                  <a:pt x="0" y="3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378400" y="5421240"/>
            <a:ext cx="1155600" cy="755640"/>
          </a:xfrm>
          <a:custGeom>
            <a:avLst/>
            <a:gdLst/>
            <a:ahLst/>
            <a:rect l="l" t="t" r="r" b="b"/>
            <a:pathLst>
              <a:path w="638" h="476">
                <a:moveTo>
                  <a:pt x="327" y="476"/>
                </a:moveTo>
                <a:cubicBezTo>
                  <a:pt x="298" y="476"/>
                  <a:pt x="265" y="473"/>
                  <a:pt x="237" y="470"/>
                </a:cubicBezTo>
                <a:cubicBezTo>
                  <a:pt x="209" y="467"/>
                  <a:pt x="186" y="464"/>
                  <a:pt x="159" y="455"/>
                </a:cubicBezTo>
                <a:cubicBezTo>
                  <a:pt x="132" y="446"/>
                  <a:pt x="98" y="431"/>
                  <a:pt x="75" y="413"/>
                </a:cubicBezTo>
                <a:cubicBezTo>
                  <a:pt x="52" y="395"/>
                  <a:pt x="30" y="372"/>
                  <a:pt x="18" y="347"/>
                </a:cubicBezTo>
                <a:cubicBezTo>
                  <a:pt x="6" y="322"/>
                  <a:pt x="0" y="291"/>
                  <a:pt x="3" y="260"/>
                </a:cubicBezTo>
                <a:cubicBezTo>
                  <a:pt x="6" y="229"/>
                  <a:pt x="18" y="191"/>
                  <a:pt x="36" y="161"/>
                </a:cubicBezTo>
                <a:cubicBezTo>
                  <a:pt x="54" y="131"/>
                  <a:pt x="85" y="99"/>
                  <a:pt x="111" y="77"/>
                </a:cubicBezTo>
                <a:cubicBezTo>
                  <a:pt x="137" y="55"/>
                  <a:pt x="159" y="41"/>
                  <a:pt x="192" y="29"/>
                </a:cubicBezTo>
                <a:cubicBezTo>
                  <a:pt x="225" y="17"/>
                  <a:pt x="271" y="4"/>
                  <a:pt x="309" y="2"/>
                </a:cubicBezTo>
                <a:cubicBezTo>
                  <a:pt x="347" y="0"/>
                  <a:pt x="385" y="6"/>
                  <a:pt x="420" y="17"/>
                </a:cubicBezTo>
                <a:cubicBezTo>
                  <a:pt x="455" y="28"/>
                  <a:pt x="493" y="49"/>
                  <a:pt x="522" y="71"/>
                </a:cubicBezTo>
                <a:cubicBezTo>
                  <a:pt x="551" y="93"/>
                  <a:pt x="576" y="117"/>
                  <a:pt x="594" y="146"/>
                </a:cubicBezTo>
                <a:cubicBezTo>
                  <a:pt x="612" y="175"/>
                  <a:pt x="628" y="213"/>
                  <a:pt x="633" y="245"/>
                </a:cubicBezTo>
                <a:cubicBezTo>
                  <a:pt x="638" y="277"/>
                  <a:pt x="635" y="311"/>
                  <a:pt x="624" y="338"/>
                </a:cubicBezTo>
                <a:cubicBezTo>
                  <a:pt x="613" y="365"/>
                  <a:pt x="590" y="391"/>
                  <a:pt x="567" y="410"/>
                </a:cubicBezTo>
                <a:cubicBezTo>
                  <a:pt x="544" y="429"/>
                  <a:pt x="512" y="442"/>
                  <a:pt x="486" y="452"/>
                </a:cubicBezTo>
                <a:cubicBezTo>
                  <a:pt x="460" y="462"/>
                  <a:pt x="437" y="465"/>
                  <a:pt x="410" y="469"/>
                </a:cubicBezTo>
                <a:cubicBezTo>
                  <a:pt x="383" y="473"/>
                  <a:pt x="355" y="475"/>
                  <a:pt x="327" y="476"/>
                </a:cubicBezTo>
                <a:close/>
              </a:path>
            </a:pathLst>
          </a:custGeom>
          <a:solidFill>
            <a:srgbClr val="ffffd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402160" y="5672160"/>
            <a:ext cx="1104840" cy="490680"/>
          </a:xfrm>
          <a:custGeom>
            <a:avLst/>
            <a:gdLst/>
            <a:ahLst/>
            <a:rect l="l" t="t" r="r" b="b"/>
            <a:pathLst>
              <a:path w="606" h="309">
                <a:moveTo>
                  <a:pt x="33" y="0"/>
                </a:moveTo>
                <a:lnTo>
                  <a:pt x="573" y="0"/>
                </a:lnTo>
                <a:lnTo>
                  <a:pt x="600" y="66"/>
                </a:lnTo>
                <a:lnTo>
                  <a:pt x="606" y="135"/>
                </a:lnTo>
                <a:lnTo>
                  <a:pt x="579" y="210"/>
                </a:lnTo>
                <a:lnTo>
                  <a:pt x="531" y="252"/>
                </a:lnTo>
                <a:lnTo>
                  <a:pt x="468" y="282"/>
                </a:lnTo>
                <a:lnTo>
                  <a:pt x="396" y="297"/>
                </a:lnTo>
                <a:lnTo>
                  <a:pt x="310" y="309"/>
                </a:lnTo>
                <a:lnTo>
                  <a:pt x="231" y="303"/>
                </a:lnTo>
                <a:lnTo>
                  <a:pt x="156" y="291"/>
                </a:lnTo>
                <a:lnTo>
                  <a:pt x="90" y="264"/>
                </a:lnTo>
                <a:lnTo>
                  <a:pt x="36" y="222"/>
                </a:lnTo>
                <a:lnTo>
                  <a:pt x="0" y="144"/>
                </a:lnTo>
                <a:lnTo>
                  <a:pt x="3" y="75"/>
                </a:lnTo>
                <a:lnTo>
                  <a:pt x="33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42080" y="617868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081840" y="617868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24440" y="6351480"/>
            <a:ext cx="3603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62640" y="598788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962680" y="6165720"/>
            <a:ext cx="745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6683400" y="5982840"/>
            <a:ext cx="0" cy="1796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659640" y="5862600"/>
            <a:ext cx="288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353200" y="5214960"/>
            <a:ext cx="57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73720" y="533412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397480" y="5214600"/>
            <a:ext cx="0" cy="1220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100480" y="5157720"/>
            <a:ext cx="4208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483160" y="5226120"/>
            <a:ext cx="935280" cy="9349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64440" y="5603760"/>
            <a:ext cx="958680" cy="83196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020000" y="6299280"/>
            <a:ext cx="207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246800" y="6408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21520" y="537372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rot="18907800">
            <a:off x="7459560" y="59004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163000" y="6284880"/>
            <a:ext cx="349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356520" y="5675400"/>
            <a:ext cx="36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683400" y="5675040"/>
            <a:ext cx="0" cy="4856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59320" y="542592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397480" y="520992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5637240" y="6141960"/>
            <a:ext cx="0" cy="270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289560" y="6140160"/>
            <a:ext cx="0" cy="26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641920" y="6367320"/>
            <a:ext cx="64296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69120" y="6176880"/>
            <a:ext cx="463680" cy="250920"/>
          </a:xfrm>
          <a:custGeom>
            <a:avLst/>
            <a:gdLst/>
            <a:ahLst/>
            <a:rect l="l" t="t" r="r" b="b"/>
            <a:pathLst>
              <a:path w="292" h="158">
                <a:moveTo>
                  <a:pt x="0" y="158"/>
                </a:moveTo>
                <a:cubicBezTo>
                  <a:pt x="15" y="153"/>
                  <a:pt x="55" y="145"/>
                  <a:pt x="88" y="131"/>
                </a:cubicBezTo>
                <a:cubicBezTo>
                  <a:pt x="121" y="117"/>
                  <a:pt x="165" y="94"/>
                  <a:pt x="199" y="72"/>
                </a:cubicBezTo>
                <a:cubicBezTo>
                  <a:pt x="233" y="50"/>
                  <a:pt x="273" y="15"/>
                  <a:pt x="292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256440" y="4630680"/>
            <a:ext cx="38556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2" dur="indefinite" restart="never" nodeType="tmRoot">
          <p:childTnLst>
            <p:seq>
              <p:cTn id="2733" dur="indefinite" nodeType="mainSeq">
                <p:childTnLst>
                  <p:par>
                    <p:cTn id="2734" fill="hold">
                      <p:stCondLst>
                        <p:cond delay="0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4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6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3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7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7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7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7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4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7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4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9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0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9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0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3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7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1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0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6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6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8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4" fill="hold">
                      <p:stCondLst>
                        <p:cond delay="indefinite"/>
                      </p:stCondLst>
                      <p:childTnLst>
                        <p:par>
                          <p:cTn id="3195" fill="hold">
                            <p:stCondLst>
                              <p:cond delay="0"/>
                            </p:stCondLst>
                            <p:childTnLst>
                              <p:par>
                                <p:cTn id="31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4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19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2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5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8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3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6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3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6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2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5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8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1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0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5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9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5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8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0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3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2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8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0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7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7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6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2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1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8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2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6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9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2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6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6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0" fill="hold">
                      <p:stCondLst>
                        <p:cond delay="indefinite"/>
                      </p:stCondLst>
                      <p:childTnLst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3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6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7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6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2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9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2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8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3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6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9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2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7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293840" y="260280"/>
            <a:ext cx="6553080" cy="9514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Классифик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задач расчёта  нелинейно деформируемых сист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о видам нелиней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65320" y="1341360"/>
            <a:ext cx="72691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59400" y="1197000"/>
            <a:ext cx="0" cy="14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17936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55880" y="1339920"/>
            <a:ext cx="0" cy="144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21164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33880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31640" y="1484280"/>
            <a:ext cx="16192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ФН+ГН+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05080" y="1484280"/>
            <a:ext cx="111456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ФН+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673440" y="1484280"/>
            <a:ext cx="111456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ФН+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70520" y="1484280"/>
            <a:ext cx="111456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Н+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40360" y="1484280"/>
            <a:ext cx="6112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Ф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21504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30872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413920" y="1341360"/>
            <a:ext cx="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905440" y="1484280"/>
            <a:ext cx="6112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8137440" y="1484280"/>
            <a:ext cx="61128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48240" y="1463760"/>
            <a:ext cx="2881080" cy="40320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281320" y="1459080"/>
            <a:ext cx="1152360" cy="403200"/>
          </a:xfrm>
          <a:prstGeom prst="rect">
            <a:avLst/>
          </a:prstGeom>
          <a:noFill/>
          <a:ln w="5724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32720" y="1467000"/>
            <a:ext cx="1152360" cy="403200"/>
          </a:xfrm>
          <a:prstGeom prst="rect">
            <a:avLst/>
          </a:prstGeom>
          <a:noFill/>
          <a:ln w="5724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76120" y="2079720"/>
            <a:ext cx="8569440" cy="41364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99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Методы расчёта нелинейно деформируемых сист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160" y="2670120"/>
            <a:ext cx="4168440" cy="6296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Полное исследование истории деформирования 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8360" y="2492280"/>
            <a:ext cx="287640" cy="216000"/>
          </a:xfrm>
          <a:prstGeom prst="downArrow">
            <a:avLst>
              <a:gd name="adj1" fmla="val 41435"/>
              <a:gd name="adj2" fmla="val 5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749840" y="2662200"/>
            <a:ext cx="4095720" cy="644040"/>
          </a:xfrm>
          <a:prstGeom prst="rect">
            <a:avLst/>
          </a:prstGeom>
          <a:solidFill>
            <a:srgbClr val="a7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Методы те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предельного равновесия (ТПР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89800" y="2492280"/>
            <a:ext cx="287280" cy="216000"/>
          </a:xfrm>
          <a:prstGeom prst="downArrow">
            <a:avLst>
              <a:gd name="adj1" fmla="val 41435"/>
              <a:gd name="adj2" fmla="val 5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435640" y="3332160"/>
            <a:ext cx="295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тический метод Т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448240" y="36702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нематический метод Т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460840" y="4062240"/>
            <a:ext cx="2868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усторонняя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ельной на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216400" y="3297240"/>
            <a:ext cx="216000" cy="25236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219640" y="3513240"/>
            <a:ext cx="216000" cy="34740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219640" y="3860640"/>
            <a:ext cx="216000" cy="34776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39640" y="3294000"/>
            <a:ext cx="216000" cy="21600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2880" y="3446640"/>
            <a:ext cx="216000" cy="34740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39640" y="3776760"/>
            <a:ext cx="219240" cy="53964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22160" y="3306600"/>
            <a:ext cx="295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 упруги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09560" y="3670200"/>
            <a:ext cx="2998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 переменных параметров упруг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09560" y="4183200"/>
            <a:ext cx="3286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од последовательных прибл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39640" y="4280040"/>
            <a:ext cx="216000" cy="588960"/>
          </a:xfrm>
          <a:custGeom>
            <a:avLst/>
            <a:gdLst/>
            <a:ahLst/>
            <a:rect l="l" t="t" r="r" b="b"/>
            <a:pathLst>
              <a:path w="136" h="182">
                <a:moveTo>
                  <a:pt x="0" y="0"/>
                </a:moveTo>
                <a:lnTo>
                  <a:pt x="0" y="182"/>
                </a:lnTo>
                <a:lnTo>
                  <a:pt x="136" y="182"/>
                </a:ln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4880" y="4640400"/>
            <a:ext cx="2498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 пошаг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rot="16200000">
            <a:off x="130680" y="56365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Формы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55640" y="4614840"/>
            <a:ext cx="2376360" cy="194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79640" y="50529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од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063800" y="5398920"/>
            <a:ext cx="196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063800" y="5877000"/>
            <a:ext cx="18525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оне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033800" y="5295960"/>
            <a:ext cx="1128600" cy="714240"/>
          </a:xfrm>
          <a:custGeom>
            <a:avLst/>
            <a:gdLst/>
            <a:ahLst/>
            <a:rect l="l" t="t" r="r" b="b"/>
            <a:pathLst>
              <a:path w="711" h="450">
                <a:moveTo>
                  <a:pt x="0" y="450"/>
                </a:moveTo>
                <a:cubicBezTo>
                  <a:pt x="25" y="421"/>
                  <a:pt x="91" y="331"/>
                  <a:pt x="148" y="278"/>
                </a:cubicBezTo>
                <a:cubicBezTo>
                  <a:pt x="205" y="225"/>
                  <a:pt x="277" y="169"/>
                  <a:pt x="344" y="130"/>
                </a:cubicBezTo>
                <a:cubicBezTo>
                  <a:pt x="411" y="91"/>
                  <a:pt x="488" y="64"/>
                  <a:pt x="549" y="42"/>
                </a:cubicBezTo>
                <a:cubicBezTo>
                  <a:pt x="610" y="20"/>
                  <a:pt x="678" y="9"/>
                  <a:pt x="711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024440" y="5106960"/>
            <a:ext cx="1268280" cy="917640"/>
          </a:xfrm>
          <a:custGeom>
            <a:avLst/>
            <a:gdLst/>
            <a:ahLst/>
            <a:rect l="l" t="t" r="r" b="b"/>
            <a:pathLst>
              <a:path w="1180" h="862">
                <a:moveTo>
                  <a:pt x="0" y="0"/>
                </a:moveTo>
                <a:lnTo>
                  <a:pt x="0" y="862"/>
                </a:lnTo>
                <a:lnTo>
                  <a:pt x="1180" y="86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stealth" w="sm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780000" y="5888160"/>
            <a:ext cx="2077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006800" y="599760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87640" y="4857840"/>
            <a:ext cx="347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230800" y="5883120"/>
            <a:ext cx="349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639960" y="5610240"/>
            <a:ext cx="7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633840" y="5467320"/>
            <a:ext cx="1000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003560" y="54421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002120" y="55897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394160" y="5592600"/>
            <a:ext cx="42840" cy="43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16280" y="5448240"/>
            <a:ext cx="4320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4414680" y="561672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637160" y="546696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618080" y="600084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95960" y="6005520"/>
            <a:ext cx="42840" cy="42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579840" y="5191200"/>
            <a:ext cx="59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720960" y="5576760"/>
            <a:ext cx="397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203720" y="5114880"/>
            <a:ext cx="826920" cy="649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408560" y="5119200"/>
            <a:ext cx="752400" cy="505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92520" y="546732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65520" y="5442120"/>
            <a:ext cx="5868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65520" y="5576760"/>
            <a:ext cx="5868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06800" y="5407200"/>
            <a:ext cx="647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rot="19273800">
            <a:off x="4290120" y="49525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Кас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19596000">
            <a:off x="5024880" y="474588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еку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121280" y="6008760"/>
            <a:ext cx="396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575240" y="6002280"/>
            <a:ext cx="59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421160" y="628488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4389120" y="625968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611240" y="6259680"/>
            <a:ext cx="57240" cy="56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297320" y="6302520"/>
            <a:ext cx="647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119640" y="4813200"/>
            <a:ext cx="2232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32000" y="46101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842160" y="4756320"/>
            <a:ext cx="190440" cy="185400"/>
          </a:xfrm>
          <a:custGeom>
            <a:avLst/>
            <a:gdLst/>
            <a:ahLst/>
            <a:rect l="l" t="t" r="r" b="b"/>
            <a:pathLst>
              <a:path w="120" h="132">
                <a:moveTo>
                  <a:pt x="0" y="132"/>
                </a:moveTo>
                <a:cubicBezTo>
                  <a:pt x="3" y="122"/>
                  <a:pt x="11" y="89"/>
                  <a:pt x="22" y="71"/>
                </a:cubicBezTo>
                <a:cubicBezTo>
                  <a:pt x="33" y="53"/>
                  <a:pt x="52" y="38"/>
                  <a:pt x="68" y="26"/>
                </a:cubicBezTo>
                <a:cubicBezTo>
                  <a:pt x="84" y="14"/>
                  <a:pt x="109" y="5"/>
                  <a:pt x="120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967440" y="4549680"/>
            <a:ext cx="9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еку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48480" y="5126040"/>
            <a:ext cx="5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732720" y="5184720"/>
            <a:ext cx="136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асате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29560" y="5041800"/>
            <a:ext cx="69840" cy="171720"/>
          </a:xfrm>
          <a:custGeom>
            <a:avLst/>
            <a:gdLst/>
            <a:ahLst/>
            <a:rect l="l" t="t" r="r" b="b"/>
            <a:pathLst>
              <a:path w="36" h="108">
                <a:moveTo>
                  <a:pt x="0" y="0"/>
                </a:moveTo>
                <a:cubicBezTo>
                  <a:pt x="1" y="7"/>
                  <a:pt x="2" y="26"/>
                  <a:pt x="8" y="44"/>
                </a:cubicBezTo>
                <a:cubicBezTo>
                  <a:pt x="14" y="62"/>
                  <a:pt x="30" y="95"/>
                  <a:pt x="36" y="10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11800" y="5411880"/>
            <a:ext cx="354636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10040" y="5730840"/>
            <a:ext cx="255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010040" y="5856120"/>
            <a:ext cx="255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10040" y="5364000"/>
            <a:ext cx="255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008600" y="5289480"/>
            <a:ext cx="2520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300720" y="5819760"/>
            <a:ext cx="256392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300720" y="6240600"/>
            <a:ext cx="2571840" cy="40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602320" y="58086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Narrow"/>
              </a:rPr>
              <a:t>КУМ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602320" y="62247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Narrow"/>
              </a:rPr>
              <a:t>КУМ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311880" y="5403960"/>
            <a:ext cx="2556000" cy="36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Zapf ChanceC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Zapf Chance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445000" y="5392800"/>
            <a:ext cx="10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Narrow"/>
              </a:rPr>
              <a:t>ОУМКЭ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2" dur="indefinite" restart="never" nodeType="tmRoot">
          <p:childTnLst>
            <p:seq>
              <p:cTn id="3553" dur="indefinite" nodeType="mainSeq">
                <p:childTnLst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0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6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1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5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8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2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6" fill="hold">
                      <p:stCondLst>
                        <p:cond delay="indefinite"/>
                      </p:stCondLst>
                      <p:childTnLst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3" fill="hold">
                      <p:stCondLst>
                        <p:cond delay="indefinite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9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4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9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0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1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2" fill="hold">
                            <p:stCondLst>
                              <p:cond delay="1680"/>
                            </p:stCondLst>
                            <p:childTnLst>
                              <p:par>
                                <p:cTn id="3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5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3" fill="hold">
                            <p:stCondLst>
                              <p:cond delay="2680"/>
                            </p:stCondLst>
                            <p:childTnLst>
                              <p:par>
                                <p:cTn id="36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6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4" fill="hold">
                      <p:stCondLst>
                        <p:cond delay="indefinite"/>
                      </p:stCondLst>
                      <p:childTnLst>
                        <p:par>
                          <p:cTn id="3665" fill="hold">
                            <p:stCondLst>
                              <p:cond delay="0"/>
                            </p:stCondLst>
                            <p:childTnLst>
                              <p:par>
                                <p:cTn id="3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0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5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1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6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8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6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3" fill="hold">
                      <p:stCondLst>
                        <p:cond delay="indefinite"/>
                      </p:stCondLst>
                      <p:childTnLst>
                        <p:par>
                          <p:cTn id="3744" fill="hold">
                            <p:stCondLst>
                              <p:cond delay="0"/>
                            </p:stCondLst>
                            <p:childTnLst>
                              <p:par>
                                <p:cTn id="3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3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4" dur="1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5" dur="10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9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0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1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2400"/>
                            </p:stCondLst>
                            <p:childTnLst>
                              <p:par>
                                <p:cTn id="3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5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6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7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8" fill="hold">
                            <p:stCondLst>
                              <p:cond delay="3120"/>
                            </p:stCondLst>
                            <p:childTnLst>
                              <p:par>
                                <p:cTn id="3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1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2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3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5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8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5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0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4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8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6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2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5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6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7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0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1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2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6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3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6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0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3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2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3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7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8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9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0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4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3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7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9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6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1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3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1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4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8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1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4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6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0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1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2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8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3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2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3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7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4:33:01Z</dcterms:modified>
  <cp:revision>199</cp:revision>
  <dc:subject/>
  <dc:title>Слайд 1</dc:title>
</cp:coreProperties>
</file>